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61C0-B239-4277-9F87-5E507D463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75DB-FE1A-46B4-8C16-EF9C79D54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EA26-07C8-4201-8194-142B53D46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5066-46FF-4A5B-BF09-090B20166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6C917-7F57-4BED-B61D-8B7A4DB95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13CBA-C176-45FB-833F-BFD20B2B6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0C51D-F883-489D-BDBB-B3B7B0957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887C5-8993-4164-95BF-A57833A96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08370-C8FB-4A4B-846B-90E19CFCA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59F84-B6D6-4D5D-9727-4B618AF98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03BE9-3D72-4FC4-8AC6-9997A4C50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D134-E796-491C-9070-B8449BE3C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5CE0F-A18D-4CB7-A5BC-B90C8DBD9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1B92C-974E-4624-A9F0-4E158DFC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51711-D374-4EB0-BE2D-595DFEC94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57CF5-C565-4779-A742-F478CBAD7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0ABC7-BC97-4FDD-9568-70F247959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7DB4-D42A-4396-82E5-62B939010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BADB-0A28-4719-A063-4BD3AE2DD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3B01-BE9C-4275-A829-5C6C34F52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D40B-EFED-4757-B3D8-C56919295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D0EE-E90C-4AAC-9143-4B58EF750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F119-A21E-447D-81E6-FFBD97E88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28D5-2E02-40C4-90EA-641CAE779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81CB1-BFA4-48E3-87AA-DE78662B9E3F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C76BE-2F83-4345-89E3-86AFF03936D6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6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990720" y="28195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PT Bold Heading"/>
              </a:rPr>
              <a:t>مراحل التخطيط للطوار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cs typeface="PT Bold Heading"/>
              </a:rPr>
              <a:t>في مجال الدفاع المدني علي المستوي المحلي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2</a:t>
            </a: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 مرحلة المواجهة والاستجابة :-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عتمد مرحلة المواجهة والاستجابة على عدة عوامل مثل :-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المعلومات الفورية عن الحادث ونتائجه وقدرته تساعد على اتخاذ  القرار المناسب( مسئولية الشرطة )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حديد الموقع مع اتخاذ إجراءات العزل لموقع الحادث </a:t>
            </a:r>
            <a:r>
              <a:rPr b="0" lang="ar-AE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    </a:t>
            </a:r>
            <a:r>
              <a:rPr b="0" lang="ar-AE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( مسئولية الشرطة + المرور 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واجد غرفة عمليات مركزية وأخري عملية بموقع الحادث للسيطرة والتوجيه واستقبال التقارير وإرسالها بالسرعة الممكنة ( مسئولية الجهة القائدة )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نسيق الأنشطة الرسمية خلال مرحلة المواجهة لتجنب تداخل الاختصاصات والأنشطة              ( الجهة القائدة + الجهة الفنية القائمة علي التعامل مع الحادث )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الإعلام والمعلومات بشأن خطورة الموقف والإجراءات الاستثنائية خلال الحدث ( الجهة القائدة 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جمع المعلومات عن الحادث وتأثيراته ( أجهزة البحث الجنائي )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</a:t>
            </a: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2-1</a:t>
            </a: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  خدمات الإنقاذ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قوات الدفاع المدني تقدم خدماتها معتمدة علي الأدوات المتاحة وطبيعة الحدث ويختص بها السلطات الرسمية والجهات المعاونة ( شركات المقاولات – شركات الكهرباء – هيئات البيئة – المصانع الكبرى –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الخ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2-2</a:t>
            </a: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الخدمات الطبية </a:t>
            </a: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حديد إمكانيات وقدرات الخدمات الطبية ( مستشفيات – إسعاف ) مهم جدا  للوقوف علي قدراتها علي استيعاب المصابين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إلخ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2-3</a:t>
            </a:r>
            <a:r>
              <a:rPr b="0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المجموعات التطوعية </a:t>
            </a:r>
            <a:r>
              <a:rPr b="0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يتم تحديد أعداد المتطوعين بالمنظمات والجمعيات الأهلية ( الهلال الأحمر – تنمية المجتمع – </a:t>
            </a:r>
            <a:r>
              <a:rPr b="0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إلخ ) التي يمكن أن يشاركوا في العمليات المساعدة للسلطات الرسمية وقت الحدث علي أن يتم تدريبهم مسبقا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-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2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مرحلة إعادة التوازن ( ما بعد الموجهة ) 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3-1</a:t>
            </a: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-  المكونات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خطط قصيرة الأجل التي تمكن من إعادة النشاط للمكان بسرعة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خطط طويلة الأجل من أجل تجنب مثل هذا الحدث في نفس هذا المكان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3-2</a:t>
            </a: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الأهداف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إدارة النشاط والإنتاج للمكان بالسرعة الممكنة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الدراسة الكاملة للإيجابيات والسلبيات من أجل زيادة الفاعلية والكفاءة للإجراءات بالمكان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r" rtl="1">
              <a:spcBef>
                <a:spcPts val="10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4</a:t>
            </a:r>
            <a:r>
              <a:rPr b="1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 الإجراءات القياسية لمواجهة الحوادث الكبرى والكوارث :-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ونقصد هنا وضع سيناريوهات للمواقف المتوقعة لدراسة أثارها علي العناصر المحيطة( الحياة – الممتلكات – البيئة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ar-AE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5440" y="60912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5</a:t>
            </a: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 الاختبارات العملية علي كفاءة خطط الطوارئ :-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يجب عمل اختبارات عملية علي سيناريوهات الخطة لمعرفة رد الفعل والاستجابة للسلطات الرسمية تجاه الحدث ( الكفاءة – الوقت – التنظيم – التنسيق )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المتابعة بمعرفة القيادات المختصة ( الأمن – الدفاع المدني- الشرطة – المرور ) ويتم ذلك من خلال تجارب عملية ليلية أو نهارية خلال مدة زمنية محدده ( كل ثلاثة أشهر أو ستة أشهر خلال العام </a:t>
            </a:r>
            <a:r>
              <a:rPr b="0" lang="ar-AE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)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6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تقييم خطة الطوارئ :- يجب الإجابة علي عدة أسئلة خلال عملية التخطيط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هل الخطة كاملة 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هل أعلنت الخطة للهيئات والجهات المسئولة والمنسقة 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وبصفة عامة إلي أي مدي تكون الخطة مناسبة لطبيعة الأنظمة الإدارية ؟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هل تتم البرامج التدريبية العملية بكفاءة ؟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وبصفة عامة هل أجابت الخطة علي خمس علامات استفهام تبدأ بحرف (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W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) باللغة الإنجليزية وهي :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who- where- how - when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–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which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1294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5400" spc="-1" strike="noStrike">
                <a:solidFill>
                  <a:srgbClr val="ffff00"/>
                </a:solidFill>
                <a:latin typeface="Times New Roman"/>
                <a:cs typeface="Monotype Koufi"/>
              </a:rPr>
              <a:t>شكراً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28951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PT Bold Heading"/>
              </a:rPr>
              <a:t>عقيد /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Monotype Koufi"/>
              </a:rPr>
              <a:t>" أسامة إبراهيم شعبان "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مدير ادارة الدفاع المدنى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بالدقهليه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r" rtl="1">
              <a:spcBef>
                <a:spcPts val="10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أظهرت الحوادث الحالية أهمية وضرورة التخطيط الجيد والهادف لمواجهة الطوارئ وهذا يتطلب الجهود والدعم والتنسيق الكامل لكل الهيئات التي تتعامل مع المواقف الطارئة</a:t>
            </a:r>
            <a:r>
              <a:rPr b="0" lang="ar-SA" sz="40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cc00"/>
                </a:solidFill>
                <a:latin typeface="Times New Roman"/>
                <a:cs typeface="HeshamNormal"/>
              </a:rPr>
              <a:t>وفي هذه الدراسة سنستعرض التخطيط للطوارئ في مجال الدفاع المدني وحسب الترتيب التالي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24382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1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المقصود بالحوادث الطارئة في هذه </a:t>
            </a:r>
            <a:r>
              <a:rPr b="1" lang="ar-AE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الدراسة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2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أهمية التخطيط  لمواجهة الكوارث 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3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المراحل الأساسية للتخطيط للطوار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</a:rPr>
              <a:t>01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</a:rPr>
              <a:t> 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cs typeface="HeshamNormal"/>
              </a:rPr>
              <a:t>المقصود بالحوادث الطارئة في هذه الدراسة :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يقصد بالحوادث الطارئة في استعراضا هذا تلك الحوادث سواء أن كانت الطبيعية أو التي من صنع الإنسان والتي تتطلب مواجهتها قدرات عالية للأجهزة المعنية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2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أهمية وأهداف التخطيط للطوارئ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  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2/1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– اتخاذ الإجراءات وتحديد الأدوار والمسئوليات لكل جه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2/2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– التنسيق وتنظيم التعاون طبقا لنظام متخصص ومكتوب ومعتمد وذلك لإعطاء رد فعل سريع ومناسب تجاه أي حادث طوارئ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3</a:t>
            </a: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المراحل الأساسية لخطة الطوارئ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أن عملية إدارة الحوادث الكبرى أو الكوارث تتطلب جهودا منظمة وفعالة وكافية للمواجهة تتلخص في ستة مراحل كالأتي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1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- مرحلة الاستعداد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2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– مرحلة المواجهة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3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- مرحلة إعادة التوازن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/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4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- الإجراءات القياسية لمواجهة الحوادث الكبرى والكوارث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5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– الاختبارات العملية لقياس كفاءة خطط الطوارئ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6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– مرحلة التقييم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429000" y="2666880"/>
            <a:ext cx="251460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مراحل التخطيط الهاد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99"/>
                </a:solidFill>
                <a:latin typeface="Times New Roman"/>
                <a:ea typeface="HeshamNormal"/>
              </a:rPr>
              <a:t> </a:t>
            </a:r>
            <a:r>
              <a:rPr b="1" lang="ar-AE" sz="20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لمواجهة الطوار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10800000">
            <a:off x="6248520" y="3048120"/>
            <a:ext cx="2590560" cy="914400"/>
          </a:xfrm>
          <a:custGeom>
            <a:avLst/>
            <a:gdLst>
              <a:gd name="textAreaLeft" fmla="*/ 0 w 2590560"/>
              <a:gd name="textAreaRight" fmla="*/ 2590920 w 259056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مرحلة الإعداد</a:t>
            </a:r>
            <a:r>
              <a:rPr b="0" lang="ar-AE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8532600">
            <a:off x="5409720" y="914400"/>
            <a:ext cx="2590920" cy="9144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مرحلة  إعادة التوازن</a:t>
            </a:r>
            <a:r>
              <a:rPr b="0" lang="ar-AE" sz="1800" spc="-1" strike="noStrike">
                <a:solidFill>
                  <a:srgbClr val="000099"/>
                </a:solidFill>
                <a:latin typeface="Times New Roman"/>
                <a:ea typeface="HeshamNorm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2054400">
            <a:off x="914040" y="914400"/>
            <a:ext cx="2590920" cy="9144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الإجراءات القياسية</a:t>
            </a:r>
            <a:r>
              <a:rPr b="0" lang="ar-AE" sz="2400" spc="-1" strike="noStrike">
                <a:solidFill>
                  <a:srgbClr val="000099"/>
                </a:solidFill>
                <a:latin typeface="Times New Roman"/>
                <a:ea typeface="HeshamNorm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2971800"/>
            <a:ext cx="2590560" cy="914400"/>
          </a:xfrm>
          <a:custGeom>
            <a:avLst/>
            <a:gdLst>
              <a:gd name="textAreaLeft" fmla="*/ 0 w 2590560"/>
              <a:gd name="textAreaRight" fmla="*/ 2590920 w 259056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مرحلة المواجه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2864000">
            <a:off x="5714280" y="5257800"/>
            <a:ext cx="2590920" cy="9144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التجار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9707000">
            <a:off x="1066320" y="5028840"/>
            <a:ext cx="2590920" cy="9144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التقييم</a:t>
            </a:r>
            <a:r>
              <a:rPr b="0" lang="ar-AE" sz="2400" spc="-1" strike="noStrike">
                <a:solidFill>
                  <a:srgbClr val="000099"/>
                </a:solidFill>
                <a:latin typeface="Times New Roman"/>
                <a:ea typeface="HeshamNorm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0"/>
                            </p:stCondLst>
                            <p:childTnLst>
                              <p:par>
                                <p:cTn id="5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6000"/>
                            </p:stCondLst>
                            <p:childTnLst>
                              <p:par>
                                <p:cTn id="6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22824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r" rtl="1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 u="sng">
                <a:solidFill>
                  <a:srgbClr val="ffcc00"/>
                </a:solidFill>
                <a:uFillTx/>
                <a:latin typeface="Times New Roman"/>
              </a:rPr>
              <a:t>3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</a:rPr>
              <a:t>/1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</a:rPr>
              <a:t> 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– مرحلة الاستعداد 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r" rtl="1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/1/1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المكونات 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أنشطة للحد من مسببات الحوادث الكبرى ( خطط الوقاية من الحرائق – مساحات الأمان من الصناعات الخطيرة والمناطق السكانية – التحكم في توقيتات تداول المواد الخطرة – إنشاء مجاري للسيول –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إلخ )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أنشطة لتطوير القابلية والمهارات اللازمة لمواجهة الحوادث الكبرى ( قدرات السلطات الرسمية – قدرات السلطات المحلية – خطط التعاون – خطط الإخلاء –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إلخ 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التدريب الجيد المسبق والاهتمام بالعنصر البشري وبصفة عامة تنظيم الموارد </a:t>
            </a:r>
            <a:r>
              <a:rPr b="1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{ مرفق </a:t>
            </a:r>
            <a:r>
              <a:rPr b="1" lang="ar-AE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1</a:t>
            </a:r>
            <a:r>
              <a:rPr b="1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}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وضع التشريعات اللازمة لتحقيق قدر آمن للمجتمع المحيط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وضع خطة لاعلام المواطنين أثناء الأزمات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-27756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</a:rPr>
              <a:t>3-1-2</a:t>
            </a: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</a:rPr>
              <a:t> – الأهداف :-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بناء ما يمكن لمنع أو تقليل حدة الحوادث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تحديد درجة الخطورة للاماكن طبقا لجغرافيتها وطبيعة النشاط الممارس بها 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تحديد وسائل الاتصال والنقل والخدمات الطبية وإجراءات السيطرة 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1-3</a:t>
            </a: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أهمية الاتصالات :-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وسائل الاتصال لها أهمية كبري في المواجهة والاستجابة السريعة للحوادث ولرد الفعل الايجابي تجاهها ؛ وكذا تبادل المعلومات </a:t>
            </a:r>
            <a:r>
              <a:rPr b="1" lang="ar-SA" sz="36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{مرفق  </a:t>
            </a:r>
            <a:r>
              <a:rPr b="1" lang="ar-SA" sz="36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2</a:t>
            </a:r>
            <a:r>
              <a:rPr b="1" lang="ar-SA" sz="36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 }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6T18:48:28Z</dcterms:created>
  <dc:creator>A_AMIN</dc:creator>
  <dc:description/>
  <dc:language>en-US</dc:language>
  <cp:lastModifiedBy>علاء الجمال </cp:lastModifiedBy>
  <dcterms:modified xsi:type="dcterms:W3CDTF">2007-03-06T13:13:18Z</dcterms:modified>
  <cp:revision>25</cp:revision>
  <dc:subject/>
  <dc:title>Slide 1</dc:title>
</cp:coreProperties>
</file>