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CLAP.WAV" ContentType="audio/x-wav"/>
  <Override PartName="/ppt/media/DRIVEBY.WAV" ContentType="audio/x-wav"/>
  <Override PartName="/ppt/media/image3.png" ContentType="image/png"/>
  <Override PartName="/ppt/media/image7.jpeg" ContentType="image/jpeg"/>
  <Override PartName="/ppt/media/CASHREG.WAV" ContentType="audio/x-wav"/>
  <Override PartName="/ppt/media/DRUMROLL.WAV" ContentType="audio/x-wav"/>
  <Override PartName="/ppt/media/CAMERA.WAV" ContentType="audio/x-wav"/>
  <Override PartName="/ppt/media/CHIMES.WAV" ContentType="audio/x-wav"/>
  <Override PartName="/ppt/media/image13.jpeg" ContentType="image/jpeg"/>
  <Override PartName="/ppt/media/image4.png" ContentType="image/png"/>
  <Override PartName="/ppt/media/image12.jpeg" ContentType="image/jpeg"/>
  <Override PartName="/ppt/media/image8.wmf" ContentType="image/x-wmf"/>
  <Override PartName="/ppt/media/APPLAUSE.WAV" ContentType="audio/x-wav"/>
  <Override PartName="/ppt/media/image9.png" ContentType="image/png"/>
  <Override PartName="/ppt/media/WHOOSH.WAV" ContentType="audio/x-wav"/>
  <Override PartName="/ppt/media/image1.jpeg" ContentType="image/jpeg"/>
  <Override PartName="/ppt/media/LASER.WAV" ContentType="audio/x-wav"/>
  <Override PartName="/ppt/media/image5.png" ContentType="image/png"/>
  <Override PartName="/ppt/media/image10.jpeg" ContentType="image/jpeg"/>
  <Override PartName="/ppt/media/image2.jpeg" ContentType="image/jpeg"/>
  <Override PartName="/ppt/media/image11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419E0-8230-4179-A98D-9D5470EFB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0517B-4758-45AF-B4D4-782321F75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C43A9-470F-458F-B6AF-B8DB33EAE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53C86-748E-40A4-9BF1-22F2EC34D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31FD8-595F-4C85-943F-C4EB87A98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9DDC3-0936-4942-87C2-B561A7045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4F9C2-881F-4C5B-AFBB-1AD4C3A83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76C9E-A66A-484F-AEDC-BBA50CF92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85CDA-E61E-4FB9-9537-8A522231B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9148E-D445-4CCA-BB29-97865E05B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23F7B-1584-4261-8BE8-E88AE1521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43ECB-7263-488B-BE2A-9131D3AA8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BF496-1897-439B-BC7F-2EB1BBCA7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423A6-1699-4512-9FBE-4C2999F37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4C506-2E81-4E64-B399-D3F216029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02324-763A-46D7-BBF6-9F4AEB6B8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09340-B466-4800-84CC-5DD339278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08CE8-2F6D-4D24-B344-AC39543DD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0593C-1979-4F4A-B0B5-5BBE9EBFF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E2494-5DDC-482B-A694-96A28CEEA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AF3C7-8348-45A3-A796-6C07147C8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0C96A-C1A6-48F5-8429-99A204CB9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4BF11-5B33-4DCD-AA20-EC26B9093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97E07-2807-4164-9CFC-621B1C785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5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28E84-9432-470D-9A69-7620C2903DDB}" type="slidenum">
              <a: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E3483-CF92-4FC0-8E27-83469432B8D8}" type="slidenum"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image" Target="../media/image7.jpeg"/><Relationship Id="rId13" Type="http://schemas.openxmlformats.org/officeDocument/2006/relationships/image" Target="../media/image7.jpeg"/><Relationship Id="rId14" Type="http://schemas.openxmlformats.org/officeDocument/2006/relationships/image" Target="../media/image7.jpeg"/><Relationship Id="rId15" Type="http://schemas.openxmlformats.org/officeDocument/2006/relationships/image" Target="../media/image7.jpeg"/><Relationship Id="rId16" Type="http://schemas.openxmlformats.org/officeDocument/2006/relationships/image" Target="../media/image7.jpeg"/><Relationship Id="rId17" Type="http://schemas.openxmlformats.org/officeDocument/2006/relationships/image" Target="../media/image7.jpeg"/><Relationship Id="rId18" Type="http://schemas.openxmlformats.org/officeDocument/2006/relationships/image" Target="../media/image7.jpeg"/><Relationship Id="rId19" Type="http://schemas.openxmlformats.org/officeDocument/2006/relationships/image" Target="../media/image7.jpeg"/><Relationship Id="rId20" Type="http://schemas.openxmlformats.org/officeDocument/2006/relationships/image" Target="../media/image7.jpeg"/><Relationship Id="rId21" Type="http://schemas.openxmlformats.org/officeDocument/2006/relationships/image" Target="../media/image7.jpeg"/><Relationship Id="rId22" Type="http://schemas.openxmlformats.org/officeDocument/2006/relationships/image" Target="../media/image7.jpeg"/><Relationship Id="rId23" Type="http://schemas.openxmlformats.org/officeDocument/2006/relationships/image" Target="../media/image7.jpeg"/><Relationship Id="rId24" Type="http://schemas.openxmlformats.org/officeDocument/2006/relationships/image" Target="../media/image7.jpeg"/><Relationship Id="rId25" Type="http://schemas.openxmlformats.org/officeDocument/2006/relationships/image" Target="../media/image7.jpeg"/><Relationship Id="rId26" Type="http://schemas.openxmlformats.org/officeDocument/2006/relationships/audio" Target="../media/LASER.WAV"/><Relationship Id="rId27" Type="http://schemas.openxmlformats.org/officeDocument/2006/relationships/audio" Target="../media/CLAP.WAV"/><Relationship Id="rId28" Type="http://schemas.openxmlformats.org/officeDocument/2006/relationships/audio" Target="../media/CLAP.WAV"/><Relationship Id="rId29" Type="http://schemas.openxmlformats.org/officeDocument/2006/relationships/audio" Target="../media/CLAP.WAV"/><Relationship Id="rId30" Type="http://schemas.openxmlformats.org/officeDocument/2006/relationships/audio" Target="../media/CLAP.WAV"/><Relationship Id="rId31" Type="http://schemas.openxmlformats.org/officeDocument/2006/relationships/audio" Target="../media/CLAP.WAV"/><Relationship Id="rId3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audio" Target="../media/DRIVEBY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DRIVEBY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447920" y="1295280"/>
            <a:ext cx="6791040" cy="382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DecoType Thuluth"/>
              </a:rPr>
              <a:t>دورة التفكير الإبداعي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DecoType Thuluth"/>
              <a:ea typeface="DecoType Thuluth"/>
            </a:endParaRPr>
          </a:p>
        </p:txBody>
      </p:sp>
      <p:sp>
        <p:nvSpPr>
          <p:cNvPr id="92" name=""/>
          <p:cNvSpPr txBox="1"/>
          <p:nvPr/>
        </p:nvSpPr>
        <p:spPr>
          <a:xfrm rot="20150400">
            <a:off x="3819600" y="4312800"/>
            <a:ext cx="3228840" cy="10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المدرب/ صلاح معمار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85800" y="609480"/>
            <a:ext cx="7620120" cy="914400"/>
          </a:xfrm>
          <a:prstGeom prst="can">
            <a:avLst>
              <a:gd name="adj" fmla="val 25000"/>
            </a:avLst>
          </a:prstGeom>
          <a:solidFill>
            <a:srgbClr val="ff99cc">
              <a:alpha val="50000"/>
            </a:srgbClr>
          </a:solidFill>
          <a:ln w="284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39933"/>
                </a:solidFill>
                <a:latin typeface="Times New Roman"/>
              </a:rPr>
              <a:t>أشكال التفكير الخاطئ والتفكير الصائب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72200" y="1905120"/>
            <a:ext cx="1905120" cy="825480"/>
          </a:xfrm>
          <a:prstGeom prst="rect">
            <a:avLst/>
          </a:prstGeom>
          <a:solidFill>
            <a:srgbClr val="ffff99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خاطئ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1828800"/>
            <a:ext cx="1905120" cy="825480"/>
          </a:xfrm>
          <a:prstGeom prst="rect">
            <a:avLst/>
          </a:prstGeom>
          <a:solidFill>
            <a:srgbClr val="ccffcc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صائب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77120" y="2666880"/>
            <a:ext cx="1600200" cy="360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تبرير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ظن والهوى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قل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زئ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فر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خراف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2743200"/>
            <a:ext cx="1905120" cy="351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نقد الذات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علم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جد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شام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ماع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سنني</a:t>
            </a:r>
            <a:r>
              <a:rPr b="0" lang="ar-SA" sz="2000" spc="-1" strike="noStrike">
                <a:solidFill>
                  <a:srgbClr val="5b5249"/>
                </a:solidFill>
                <a:latin typeface="Times New Roman"/>
              </a:rPr>
              <a:t>”الواقعي”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76720" y="28954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76720" y="342900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76720" y="3962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76720" y="44956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76720" y="5105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00400" y="5638680"/>
            <a:ext cx="3276720" cy="152640"/>
          </a:xfrm>
          <a:prstGeom prst="leftRightArrow">
            <a:avLst>
              <a:gd name="adj1" fmla="val 50000"/>
              <a:gd name="adj2" fmla="val 427352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0ae6a"/>
              </a:gs>
              <a:gs pos="50000">
                <a:srgbClr val="ffffff"/>
              </a:gs>
              <a:gs pos="100000">
                <a:srgbClr val="b0ae6a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8" dur="3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438280" y="304920"/>
            <a:ext cx="3276720" cy="7617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b5249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Times New Roman"/>
              </a:rPr>
              <a:t>العصف الذهني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1219320"/>
            <a:ext cx="86868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1447920"/>
            <a:ext cx="9144000" cy="521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  <a:cs typeface="Times New Roman"/>
              </a:rPr>
              <a:t>عملية ذهنية  تقوم على استدرار الأفكار بطريقة منطوقة لتوليد أفكار إبداعية جديدة بطريقة جماعية أو فرد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9933"/>
                </a:solidFill>
                <a:latin typeface="Times New Roman"/>
                <a:cs typeface="Times New Roman"/>
              </a:rPr>
              <a:t>شروط العصف الذهني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ؤجل فكرة                 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نتقد فكرة أو تضحك منها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ابنٍ على أفكار الآخرين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يحضر اجتماع العصف من ليس له صلة بالموضو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كل ما كانت الفكرة غير مألوفة كلما كانت أفضل    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6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تعلق الأفكار أمام الجمي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638680"/>
            <a:ext cx="883908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6600"/>
                </a:solidFill>
                <a:latin typeface="Times New Roman"/>
                <a:cs typeface="Times New Roman"/>
              </a:rPr>
              <a:t>إذا كنت ذا رأي فكن ذا عزيمة               فإن فساد الرأي أن تترددا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6248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  <a:ea typeface="Simple Outline Pat"/>
              </a:rPr>
              <a:t>        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نداءات الإبــداع فيك           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1219320"/>
            <a:ext cx="7848720" cy="64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قوة فيك ( المادية والمعنوية )          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الأشياء التي تحبها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بماذا تقضي وقت فراغ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في ماذا تحدث نفس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لو قيل لك أختر تخصصاً آخر أو مهنة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وقفاً أثنى عليك الآخرون فيه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7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حينما كنت صغيراً ما ذا كنت تحب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ن الذين تحب أن تجلسهم ( في ماذا تتكلم معهم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9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اذا تحب أن تقرأ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ضعف في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رسالتك في الحياة ” وقد تتجدد مع الزمن ”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إذا أردت أن تغير في الآخرين أو ت}ثر فيهم ما هو المجال الذي من خلاله تستطيع أن تفعل ذل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5867280" y="3809880"/>
            <a:ext cx="2743200" cy="2667240"/>
          </a:xfrm>
          <a:prstGeom prst="leftArrowCallout">
            <a:avLst>
              <a:gd name="adj1" fmla="val 25002"/>
              <a:gd name="adj2" fmla="val 25000"/>
              <a:gd name="adj3" fmla="val 17141"/>
              <a:gd name="adj4" fmla="val 66673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971800" y="304920"/>
            <a:ext cx="3124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بررات التغي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137160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حل المشكلات : لن تستطيع لحل المشاكل المزمنة  بنفس الطريقة التي أوجدت المشكلة ” انيشتاين ”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لقضاء على الملل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14400" y="24382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الذات ” لإعادة الثقة بالنفس ”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طلبات الآخر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2120" y="32767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رفع الكفاءات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مواكبة التقدم ” الشىء الثابت هو التغيير ”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37339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20120" y="41148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90720" y="396252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”إن الله لايغيرما بقوم ...“ التغيير من الذات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14400" y="45720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التغيير المادي أسرع من التغيير الفكري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495288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ستعدادات الطموحين والمثقفين للتغير أكب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53341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ستعداد للتغيير يزداد بالحوا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4400" y="59436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حتكاك بالمتميزين يزيد فرص نجاح التغيير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 rot="16993800">
            <a:off x="6773400" y="4334040"/>
            <a:ext cx="2323800" cy="165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قواعد في منهج التغيير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19560" y="380880"/>
            <a:ext cx="2819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فاتيح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تفك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12193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كن غير راض   *  خطط للتغيير      *  تخلص من أعذارك        * أحصل على الدع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1828800"/>
            <a:ext cx="86104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قم ببيع أفكارك         * كن جسوراً            * كن دؤوباً              * كن ذاتاً لا مقل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                    * قاتل من أجل فكرت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95480" y="3962520"/>
            <a:ext cx="4114800" cy="1828800"/>
          </a:xfrm>
          <a:prstGeom prst="triangle">
            <a:avLst>
              <a:gd name="adj" fmla="val 50000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33920" y="312408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مثلث</a:t>
            </a:r>
            <a:r>
              <a:rPr b="0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الإبدا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 rot="3207000">
            <a:off x="5014440" y="4100040"/>
            <a:ext cx="27050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الصفات الإبداعية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81" name=""/>
          <p:cNvSpPr txBox="1"/>
          <p:nvPr/>
        </p:nvSpPr>
        <p:spPr>
          <a:xfrm rot="19855800">
            <a:off x="2152440" y="4196880"/>
            <a:ext cx="2419200" cy="113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Times New Roman"/>
              </a:rPr>
              <a:t>الناتج الإبداعي</a:t>
            </a:r>
            <a:endParaRPr b="1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809880" y="5943600"/>
            <a:ext cx="2305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خطوات الإبداع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553080" y="5867280"/>
            <a:ext cx="990720" cy="381240"/>
          </a:xfrm>
          <a:custGeom>
            <a:avLst/>
            <a:gdLst>
              <a:gd name="textAreaLeft" fmla="*/ 284400 w 990720"/>
              <a:gd name="textAreaRight" fmla="*/ 848520 w 99072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5615400">
            <a:off x="2858400" y="5608440"/>
            <a:ext cx="444600" cy="1155600"/>
          </a:xfrm>
          <a:custGeom>
            <a:avLst/>
            <a:gdLst>
              <a:gd name="textAreaLeft" fmla="*/ 127440 w 444600"/>
              <a:gd name="textAreaRight" fmla="*/ 380880 w 444600"/>
              <a:gd name="textAreaTop" fmla="*/ 665640 h 1155600"/>
              <a:gd name="textAreaBottom" fmla="*/ 990000 h 115560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819160" y="-360"/>
            <a:ext cx="388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    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-388440" algn="r" rtl="1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5b5249"/>
                </a:solidFill>
                <a:latin typeface="Times New Roman"/>
              </a:rPr>
              <a:t>الإبداع بالوضوح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:( الهدف ، التصور ، الطريق ، الوسائل 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إبداع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بالتخصص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مجال واحد، تعلم دقائق الأمور فيه، كن خبيراً فيه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مقلوب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المدرسة تذهب للطالب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عصف الكتا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 يعتمد على الكتابة ، يعلم المجموعة بالموضوع مسبقاً ، طاولة مستديرة ، يكتب كل واحد أفكاره عن الموضوع ، تدور الأوراق على المجموعة ، تعلق الأفكار أمام الجميع ، يتم اختيار أفضل الأفكار بالتصويت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بطاق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كوين مجموعة ، يعطى كل فرد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-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3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بطاقة ، يتم كتابة الأفكار في البطاقات ، يتم تعليقها وتصنيفها ، تضاف أفكار جديدة ، يتم الاختي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التفاف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حديد الموضوع وهدفه ، تحديد الأمور المسلم بها ، دراسة الظروف التي أدت إلى التسليم ، الالتفاف حول تلك الأمور المسلم بها )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الإبداع بالأحلام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فكر بالموضوع قبل النوم ، عند الاستيقاظ فكر بالموضوع ، لا تنس وضع ورقة وقلم بجوار السر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9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0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5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6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123720" y="-360"/>
            <a:ext cx="3505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8229600" cy="53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نظر من خلال عيون الآخرين :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نظر من زوايا مختلفة، النظر بمنظار من له علاقة بالموضوع ،حاول أن تبحث عن احتياجات كل شخ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دمج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لفزيون + فيديو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حلام فوق البنفسجي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خيل أنك .... ماذا ستفعل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حوار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محيص الأفكار،المناقشة الجادة ، تبادل الأفكار وتطويرها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الإبداع بإعادة الوصف : ( إعادة كتابة الموضوع بطريقة أخرى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مجالس الإبداع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لقاء ودي مفتوح ، خارج الشركة ، مكان هادئ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سئلة غير المألو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ما وزن غضبك ، ما لون طموحاتك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إبداع بالتنقل:( تحويل فكرة خاطئة إلى فكرة مقبولة عن طريق هذه الأسئلة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ذا تعني هذه الفكرة                            * ما الشىء المشوق في الفكر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 الشئ المتميز الذي تستند له الفكرة       * ما المبدأ الذي تستند له الفكر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67" dur="indefinite" restart="never" nodeType="tmRoot">
          <p:childTnLst>
            <p:seq>
              <p:cTn id="668" dur="indefinite" nodeType="mainSeq">
                <p:childTnLst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3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4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5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6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1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7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8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3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4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9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0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5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6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1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2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7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8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3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4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09680" y="-360"/>
            <a:ext cx="5486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مـهارات التفكير الإبداعي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حساس بالشعو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طلاقة في توليد الأفكا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مرونة ” النظر إلى الأمور من أكثر من زاوي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أصالة ” جدية الفكر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عادة صياغة المشكلة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ثراء والتفاصيل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ب والتعقيب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ز والانتباه والجهد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خيال –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9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جهد وتركيز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قيي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735" dur="indefinite" restart="never" nodeType="tmRoot">
          <p:childTnLst>
            <p:seq>
              <p:cTn id="736" dur="indefinite" nodeType="mainSeq">
                <p:childTnLst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1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2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7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8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3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4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9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0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5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6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1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2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9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0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5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6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81080" y="-36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قبعات السبع ” أنماط التفكير ”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772400" cy="54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3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صف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حم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بيض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5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زرق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2a3d7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خض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سود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3539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                        القبعة المزيفة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gradFill rotWithShape="0">
                      <a:gsLst>
                        <a:gs pos="0">
                          <a:srgbClr val="339933"/>
                        </a:gs>
                        <a:gs pos="50000">
                          <a:srgbClr val="66ffff"/>
                        </a:gs>
                        <a:gs pos="100000">
                          <a:srgbClr val="339933"/>
                        </a:gs>
                      </a:gsLst>
                      <a:lin ang="81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797" dur="indefinite" restart="never" nodeType="tmRoot">
          <p:childTnLst>
            <p:seq>
              <p:cTn id="798" dur="indefinite" nodeType="mainSeq">
                <p:childTnLst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3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4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952520" y="304920"/>
            <a:ext cx="3048120" cy="7617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القبعة البيضاء</a:t>
            </a:r>
            <a:r>
              <a:rPr b="0" lang="ar-SA" sz="5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680" y="1295280"/>
            <a:ext cx="777240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محايد ( منطق ، رياضيات ، الحقائق ، المعلومات ، البيانات ، الكمبيوتر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يستخدمها : الطلاب – السياسيون – الشئون المالية – المحامين – القضاة- المهندسين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القبعة الحمراء : التفكير العاطف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    ( العواطف – المشاعر – الأحاسيس – الحدس والتخمين</a:t>
            </a: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  *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</a:rPr>
              <a:t>القبعة الصفراء : التفكير الإيجاب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   التفاؤل – النظرة الإيجابية – حسن الظن بالله – التأمل – الأحلام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  <a:ea typeface="MCS Gulf S_U normal.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11" dur="indefinite" restart="never" nodeType="tmRoot">
          <p:childTnLst>
            <p:seq>
              <p:cTn id="812" dur="indefinite" nodeType="mainSeq">
                <p:childTnLst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3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4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9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0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5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6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1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2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7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8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3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4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680" y="226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6680" y="838080"/>
            <a:ext cx="77724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قبعة السوداء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سل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( التشاؤم – النظرة السلبية)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كيف يكون النقد بناءً ؟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                                                            (*محدداً لا عاماً  * صف السلوك ولا تقيم الذات * استخدم نحن بدل من أنت * صف السلوك ولاتفسر مارواء السلوك * احذر من النقد أمام الآخرين * افترض الخير في نفسك والآخرين * الثقة أساس لتبادل الحوار *اختر الوقت المناسب للنقد البن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القبعة الخضراء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تفكير الإبداع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( تطوير الأفكار – الجديد من الأفكار – البحث عن بدائل )                                     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القبعة الزرقاء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التفكير الموجه ” المسيطر ” ( القائد – التنظيم – السيطرة – التنسيق – التلخي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ff"/>
                </a:solidFill>
                <a:latin typeface="Times New Roman"/>
              </a:rPr>
              <a:t>الق</a:t>
            </a: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بع</a:t>
            </a: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ة ال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مزي</a:t>
            </a: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التفكير الخاطئ ( أحلام – أماني – وهم – الإدارة بالمزاج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55" dur="indefinite" restart="never" nodeType="tmRoot">
          <p:childTnLst>
            <p:seq>
              <p:cTn id="856" dur="indefinite" nodeType="mainSeq">
                <p:childTnLst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7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8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3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4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9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0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10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طرق تجعلك أكثر إبداعاً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قض وقتاً مع المبدعين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قصص ومواقف عن الإبداع والمبدعي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القرآن الكريم كل يوم وافهم ما تقرأ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فترض أن كل شئ في الحياة ممك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ضحك فرفش ...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قرأ الطرف واطلع على الرسوم الكاريكات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كتب كل شئ إيجابي وممكن أن تقوم به ،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مثل عندي قدرة على الإصغاء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كتب قوائ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تخيل أن عقلك مثل الباب المغلق بقفل مفتاح هذا القفل عندك أنت فقط ، الآن ضع المفتاح داخل القفل ، افتح الباب و.......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ذهب لصلاة الجماعة ماشياً على رجليك أو تحرك في مكان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81" dur="indefinite" restart="never" nodeType="tmRoot">
          <p:childTnLst>
            <p:seq>
              <p:cTn id="882" dur="indefinite" nodeType="mainSeq">
                <p:childTnLst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1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2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7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8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3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4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9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0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5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6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1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2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7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8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fill="hold">
                      <p:stCondLst>
                        <p:cond delay="indefinite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3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4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9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0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استراتيجيات الخمس لإدارة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48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تى تنجح أي مؤسسة في إدارة العملية الإبداعية لا بد لها أن تلتفت إلى خمس استراتيجيات هي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اعتبار الإبداع أحد الموارد الرئيسية التي ينبغي أن تدار من قبل الإدارة وعدم ترك العملية الإبداعية للصدف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ينبغي الاعتقاد بأن جميع الأفراد لخم قدرة على الإبداع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جعل عملية الإبداع عملية واضحة وسهلة للأفراد مع ضرورة إقناعهم بقدرتهم على الإبداع وتدريبهم على ذل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4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توجيه العملية الإبداعية لتكون إحدى الحاجات الرئيسية والإستراتيجية للعمل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حداث وصناعة بيئة ثقافية ترفع من قيمة الإبداع في المؤسسة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41" dur="indefinite" restart="never" nodeType="tmRoot">
          <p:childTnLst>
            <p:seq>
              <p:cTn id="942" dur="indefinite" nodeType="mainSeq">
                <p:childTnLst>
                  <p:par>
                    <p:cTn id="943" fill="hold">
                      <p:stCondLst>
                        <p:cond delay="indefinite"/>
                      </p:stCondLst>
                      <p:childTnLst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fill="hold">
                      <p:stCondLst>
                        <p:cond delay="indefinite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2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3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fill="hold">
                      <p:stCondLst>
                        <p:cond delay="indefinite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8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9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4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5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6" fill="hold">
                      <p:stCondLst>
                        <p:cond delay="indefinite"/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0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1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6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7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8" fill="hold">
                      <p:stCondLst>
                        <p:cond delay="indefinite"/>
                      </p:stCondLst>
                      <p:childTnLst>
                        <p:par>
                          <p:cTn id="979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2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3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0040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عوقات الإبداع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777240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شعور بالنقص وابتلاء بالإيحاءات السلبية (أنا ضعيف – مستحيل ....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لثقة بالنفس   * الجهل والابتعاد عن طلب اعلم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وف من الاستهزاء والنقد  * ضعف الهمة والرضى بالدون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نعدام أو ضعف نفسية التحدي والمجازفة  * الخوف على الرزق والأج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جل والاستحياء من الرؤساء    * الانغماس في الشهوات والمفاس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الخوف من الفشل   * سرقة جهود الآخرين وأفكاره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جهل الرؤساء وجمود تفكيرهم ومحاربتهم للأفكار الإبداعية والتغ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 انعدام التشجيع وضعف الحوافز المقدمة للمبدع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ربية السلبية وقتل روح الإبداع * الانشغال الكثير وعدم التفرغ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ستغلال الأوقات  * الرضى بالواقع والاطمئنان له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جمود على الخطط وعدم المرونة    * نقص المعلوم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شاؤم والنظر بمنظار أسود  * عدم استشعار المسئولي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84" dur="indefinite" restart="never" nodeType="tmRoot">
          <p:childTnLst>
            <p:seq>
              <p:cTn id="985" dur="indefinite" nodeType="mainSeq">
                <p:childTnLst>
                  <p:par>
                    <p:cTn id="986" fill="hold">
                      <p:stCondLst>
                        <p:cond delay="indefinite"/>
                      </p:stCondLst>
                      <p:childTnLst>
                        <p:par>
                          <p:cTn id="987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0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1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6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7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8" fill="hold">
                      <p:stCondLst>
                        <p:cond delay="indefinite"/>
                      </p:stCondLst>
                      <p:childTnLst>
                        <p:par>
                          <p:cTn id="999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2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3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8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9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0" fill="hold">
                      <p:stCondLst>
                        <p:cond delay="indefinite"/>
                      </p:stCondLst>
                      <p:childTnLst>
                        <p:par>
                          <p:cTn id="1011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4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5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0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1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2" fill="hold">
                      <p:stCondLst>
                        <p:cond delay="indefinite"/>
                      </p:stCondLst>
                      <p:childTnLst>
                        <p:par>
                          <p:cTn id="1023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6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7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8" fill="hold">
                      <p:stCondLst>
                        <p:cond delay="indefinite"/>
                      </p:stCondLst>
                      <p:childTnLst>
                        <p:par>
                          <p:cTn id="1029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2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3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8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9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0" fill="hold">
                      <p:stCondLst>
                        <p:cond delay="indefinite"/>
                      </p:stCondLst>
                      <p:childTnLst>
                        <p:par>
                          <p:cTn id="1041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4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5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0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1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2" fill="hold">
                      <p:stCondLst>
                        <p:cond delay="indefinite"/>
                      </p:stCondLst>
                      <p:childTnLst>
                        <p:par>
                          <p:cTn id="1053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6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7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2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063" dur="indefinite" restart="never" nodeType="tmRoot">
          <p:childTnLst>
            <p:seq>
              <p:cTn id="1064" dur="indefinite" nodeType="mainSeq">
                <p:childTnLst>
                  <p:par>
                    <p:cTn id="1065" fill="hold">
                      <p:stCondLst>
                        <p:cond delay="indefinite"/>
                      </p:stCondLst>
                      <p:childTnLst>
                        <p:par>
                          <p:cTn id="1066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9" fill="hold">
                      <p:stCondLst>
                        <p:cond delay="indefinite"/>
                      </p:stCondLst>
                      <p:childTnLst>
                        <p:par>
                          <p:cTn id="1070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3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4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9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0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1" fill="hold">
                      <p:stCondLst>
                        <p:cond delay="indefinite"/>
                      </p:stCondLst>
                      <p:childTnLst>
                        <p:par>
                          <p:cTn id="1082" fill="hold">
                            <p:stCondLst>
                              <p:cond delay="0"/>
                            </p:stCondLst>
                            <p:childTnLst>
                              <p:par>
                                <p:cTn id="10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5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6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1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2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7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8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3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4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914400" y="304920"/>
            <a:ext cx="74674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66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000098"/>
                  </a:outerShdw>
                </a:effectLst>
                <a:latin typeface="Times New Roman"/>
              </a:rPr>
              <a:t>لماذا  التفكير الإبداعي مـهم ؟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66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000098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1371600"/>
            <a:ext cx="7391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1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لأن الإبداع قناة جديدة للإكتشافات الجديدة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676520" y="2514600"/>
            <a:ext cx="70866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2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معبراً مضئياً للنجاح والتفوق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828800" y="3581280"/>
            <a:ext cx="69343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3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Arial"/>
              </a:rPr>
              <a:t>لنحقق الأهداف بسرعة وكفاءة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685960" y="3962520"/>
            <a:ext cx="60771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6"/>
                  <a:srcRect/>
                  <a:tile tx="0" ty="0" sx="100000" sy="100000" algn="ctr"/>
                </a:blipFill>
                <a:latin typeface="Arial"/>
              </a:rPr>
              <a:t>4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7"/>
                  <a:srcRect/>
                  <a:tile tx="0" ty="0" sx="100000" sy="100000" algn="ctr"/>
                </a:blipFill>
                <a:latin typeface="Arial"/>
              </a:rPr>
              <a:t>التجديد وكسر الروتين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762280" y="4800600"/>
            <a:ext cx="60768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0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1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2"/>
                  <a:srcRect/>
                  <a:tile tx="0" ty="0" sx="100000" sy="100000" algn="ctr"/>
                </a:blipFill>
                <a:latin typeface="Arial"/>
              </a:rPr>
              <a:t>5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3"/>
                  <a:srcRect/>
                  <a:tile tx="0" ty="0" sx="100000" sy="100000" algn="ctr"/>
                </a:blipFill>
                <a:latin typeface="Arial"/>
              </a:rPr>
              <a:t>لنحقق ذواتنا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4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143000" y="304920"/>
            <a:ext cx="71629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ff0b"/>
                    </a:gs>
                    <a:gs pos="50000">
                      <a:srgbClr val="ff4013"/>
                    </a:gs>
                    <a:gs pos="100000">
                      <a:srgbClr val="ffff0b"/>
                    </a:gs>
                  </a:gsLst>
                  <a:lin ang="5400000"/>
                </a:gradFill>
                <a:latin typeface="Al-Kharashi 26"/>
              </a:rPr>
              <a:t>ماهـو الإبـداع ؟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ff0b"/>
                  </a:gs>
                  <a:gs pos="50000">
                    <a:srgbClr val="ff4013"/>
                  </a:gs>
                  <a:gs pos="100000">
                    <a:srgbClr val="ffff0b"/>
                  </a:gs>
                </a:gsLst>
                <a:lin ang="5400000"/>
              </a:gradFill>
              <a:latin typeface="Al-Kharashi 26"/>
              <a:ea typeface="Al-Kharashi 26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14400" y="1676520"/>
            <a:ext cx="8229600" cy="92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66ffff"/>
                </a:solidFill>
                <a:latin typeface="Times New Roman"/>
              </a:rPr>
              <a:t>النظر إلى المألوف من زاوية جديدة ، شرعية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66ffff"/>
              </a:solidFill>
              <a:latin typeface="Times New Roman"/>
              <a:ea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600200" y="3124080"/>
            <a:ext cx="708660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00ff"/>
                </a:solidFill>
                <a:effectLst>
                  <a:outerShdw dist="107932" dir="13500000" blurRad="0" rotWithShape="0">
                    <a:srgbClr val="868686"/>
                  </a:outerShdw>
                </a:effectLst>
                <a:latin typeface="MCS FREEDOM"/>
              </a:rPr>
              <a:t>مـاهو الإبداع علمياً ؟</a:t>
            </a:r>
            <a:endParaRPr b="0" lang="en-US" sz="2400" spc="1" strike="noStrike">
              <a:ln w="9360">
                <a:solidFill>
                  <a:srgbClr val="00ff00"/>
                </a:solidFill>
                <a:miter/>
              </a:ln>
              <a:solidFill>
                <a:srgbClr val="ff00ff"/>
              </a:solidFill>
              <a:effectLst>
                <a:outerShdw dist="107932" dir="13500000" blurRad="0" rotWithShape="0">
                  <a:srgbClr val="868686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447920" y="4114800"/>
            <a:ext cx="68580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عملية ذهنية مصحوبة بتوتر وانفعال صادق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ينظم بها العقل خبرات الإنسان ومعلومات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بطريقة خلاقة تمكن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من الوصول إلى جديد ومفيد</a:t>
            </a: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0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362320" y="0"/>
            <a:ext cx="4422600" cy="168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effectLst>
                  <a:outerShdw dist="107932" dir="13500000" blurRad="0" rotWithShape="0">
                    <a:srgbClr val="808080"/>
                  </a:outerShdw>
                </a:effectLst>
                <a:latin typeface="ALAWI-3-58"/>
              </a:rPr>
              <a:t>الأمـية الثالثة!!!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effectLst>
                <a:outerShdw dist="107932" dir="13500000" blurRad="0" rotWithShape="0">
                  <a:srgbClr val="808080"/>
                </a:outerShdw>
              </a:effectLst>
              <a:latin typeface="ALAWI-3-58"/>
              <a:ea typeface="ALAWI-3-58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990720" y="1828800"/>
            <a:ext cx="69339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1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قراءة والكتابة</a:t>
            </a: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295280" y="2286000"/>
            <a:ext cx="678204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2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أمية الكمبيوت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762120" y="3505320"/>
            <a:ext cx="731520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3 -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تفكي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5000"/>
                            </p:stCondLst>
                            <p:childTnLst>
                              <p:par>
                                <p:cTn id="107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2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5000"/>
                            </p:stCondLst>
                            <p:childTnLst>
                              <p:par>
                                <p:cTn id="11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هل الإبداع ضرورة “ حاجة “ ؟              </a:t>
            </a:r>
            <a:br>
              <a:rPr sz="4400"/>
            </a:br>
            <a:br>
              <a:rPr sz="10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تنظيم الهرمي لحاجات الإنسا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76520" y="5867280"/>
            <a:ext cx="6400800" cy="459720"/>
          </a:xfrm>
          <a:prstGeom prst="rect">
            <a:avLst/>
          </a:prstGeom>
          <a:solidFill>
            <a:srgbClr val="c3e684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فسيولوجية ( الطعام والشراب والهو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133720" y="5334120"/>
            <a:ext cx="5486400" cy="8254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أمــن ( الطمأنينة والأمان وغياب الأخط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14600" y="4800600"/>
            <a:ext cx="4724280" cy="459720"/>
          </a:xfrm>
          <a:prstGeom prst="rect">
            <a:avLst/>
          </a:prstGeom>
          <a:solidFill>
            <a:srgbClr val="ffff00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حب ( الانتساب - الانتم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71800" y="3809880"/>
            <a:ext cx="3581280" cy="825480"/>
          </a:xfrm>
          <a:prstGeom prst="rect">
            <a:avLst/>
          </a:prstGeom>
          <a:solidFill>
            <a:srgbClr val="c9ddf1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احترام ( انجاز ، قبول، استحسان   ،   تقد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2362320"/>
            <a:ext cx="2895840" cy="13816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تحقيق الذ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تحقيق الفرد لامكانياته ) *الابداع *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143000" y="685800"/>
            <a:ext cx="6248520" cy="1066680"/>
          </a:xfrm>
          <a:prstGeom prst="ellipse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828800" y="914400"/>
            <a:ext cx="495288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53753" dir="2700000" blurRad="0" rotWithShape="0">
                    <a:srgbClr val="00ff00"/>
                  </a:outerShdw>
                </a:effectLst>
                <a:latin typeface="Arial"/>
              </a:rPr>
              <a:t>خطوات التفكير السل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53753" dir="2700000" blurRad="0" rotWithShape="0">
                  <a:srgbClr val="00ff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219320" y="2057400"/>
            <a:ext cx="716256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1- </a:t>
            </a: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استماع      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2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- الاستفسار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600200" y="2895480"/>
            <a:ext cx="6705720" cy="67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3-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الانصات     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4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- التذكر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371600" y="3809880"/>
            <a:ext cx="6781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5-</a:t>
            </a:r>
            <a:r>
              <a:rPr b="0" lang="hi-I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قويم           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6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- الاجابة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doo</cp:lastModifiedBy>
  <dcterms:modified xsi:type="dcterms:W3CDTF">2007-06-09T17:40:00Z</dcterms:modified>
  <cp:revision>3</cp:revision>
  <dc:subject/>
  <dc:title>دورة في التفكير الابداعي</dc:title>
</cp:coreProperties>
</file>