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58CBA-9F07-413F-9A86-10B324E6B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B8D17-216E-4EDE-B09D-30CBDCAB9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52979-0102-4760-A695-4D6152498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40AE9-C9B3-4075-9941-A3C0D8A92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1EB60-C7BF-4113-AC52-BDB00AF10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771ED-E1BC-4D33-B3F9-E0CF49742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54BD6-7E67-4F81-B763-E0C590BEE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77875-01E2-40B7-A4EB-606207924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B0FE3-EF45-4C4C-8CF3-E78699EB6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09F04-F2FA-4D38-AF4F-E5AE116B3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4E6CA-53DD-4054-80BA-31E1EFA66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F2C2B-DCA0-4499-9060-6DE5A897B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FE529-275B-4177-ADB2-E1834ED63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3AB58-52FC-4C11-B879-113CD3110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550C0-EF2A-4717-8910-269349B9A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C3A0B-FD30-4E04-89D5-C0B419086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BB769-63F3-4A98-98CE-12A3410E6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5BFAE-E2A7-40C2-8963-43472E850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EA036-7F54-47B1-B439-F43EF0FDD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DED0D-06F5-4D5B-84DF-F0F2E4AE4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D1A5E-B4C5-41DA-A0E8-94728E9E5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79BB2-7723-41E8-81DE-951BD5C06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373FD-AF8C-4886-A320-09287C9C9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FC55F-D260-4C4F-BA25-50AECFFBD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D31D1-B159-4F1E-9FDF-FBEB149FB1B9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538F1-5B20-4743-B01C-52112D7AC1E2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0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69" dur="indefinite" restart="never" nodeType="tmRoot">
          <p:childTnLst>
            <p:seq>
              <p:cTn id="670" dur="indefinite" nodeType="mainSeq">
                <p:childTnLst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37" dur="indefinite" restart="never" nodeType="tmRoot">
          <p:childTnLst>
            <p:seq>
              <p:cTn id="738" dur="indefinite" nodeType="mainSeq">
                <p:childTnLst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9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0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5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6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3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4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9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0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5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6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1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2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7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8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799" dur="indefinite" restart="never" nodeType="tmRoot">
          <p:childTnLst>
            <p:seq>
              <p:cTn id="800" dur="indefinite" nodeType="mainSeq">
                <p:childTnLst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5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6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13" dur="indefinite" restart="never" nodeType="tmRoot">
          <p:childTnLst>
            <p:seq>
              <p:cTn id="814" dur="indefinite" nodeType="mainSeq">
                <p:childTnLst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1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2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7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8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3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4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9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0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57" dur="indefinite" restart="never" nodeType="tmRoot">
          <p:childTnLst>
            <p:seq>
              <p:cTn id="858" dur="indefinite" nodeType="mainSeq">
                <p:childTnLst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3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4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5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6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1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2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83" dur="indefinite" restart="never" nodeType="tmRoot">
          <p:childTnLst>
            <p:seq>
              <p:cTn id="884" dur="indefinite" nodeType="mainSeq">
                <p:childTnLst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43" dur="indefinite" restart="never" nodeType="tmRoot">
          <p:childTnLst>
            <p:seq>
              <p:cTn id="944" dur="indefinite" nodeType="mainSeq">
                <p:childTnLst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4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5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0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1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6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7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2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3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8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9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4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5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86" dur="indefinite" restart="never" nodeType="tmRoot">
          <p:childTnLst>
            <p:seq>
              <p:cTn id="987" dur="indefinite" nodeType="mainSeq">
                <p:childTnLst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2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3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8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9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4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5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0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1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6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7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2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3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8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9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4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5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0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1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6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7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2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3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8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9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fill="hold">
                      <p:stCondLst>
                        <p:cond delay="indefinite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65" dur="indefinite" restart="never" nodeType="tmRoot">
          <p:childTnLst>
            <p:seq>
              <p:cTn id="1066" dur="indefinite" nodeType="mainSeq">
                <p:childTnLst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6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fill="hold">
                      <p:stCondLst>
                        <p:cond delay="indefinite"/>
                      </p:stCondLst>
                      <p:childTnLst>
                        <p:par>
                          <p:cTn id="1078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1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2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7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8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fill="hold">
                      <p:stCondLst>
                        <p:cond delay="indefinite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3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4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fill="hold">
                      <p:stCondLst>
                        <p:cond delay="indefinite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9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0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1" fill="hold">
                      <p:stCondLst>
                        <p:cond delay="indefinite"/>
                      </p:stCondLst>
                      <p:childTnLst>
                        <p:par>
                          <p:cTn id="1102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5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0"/>
                            </p:stCondLst>
                            <p:childTnLst>
                              <p:par>
                                <p:cTn id="109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4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