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8090-35B1-4EBB-A60E-87ABC7438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8637-B6E2-48C0-9D37-0079DA255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0652-5788-4FC5-8867-BB2CDC241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2E97-6AF6-4F58-B5F7-952E93EAB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16F5B-D435-4BCB-A060-D4AF31557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08777-3E6F-426D-B033-0B963ECF7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72CA2-0EEA-4FD4-BC55-C54D3F9D0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188DC-7CEB-42B0-9775-738BE5236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4A5D2-8BCB-4838-AD18-3EACDE321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5A595-1BA8-49C3-B49F-76DF40563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BBA88-61AB-45D3-9339-5FAD59D3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8BC5-A698-4E39-8F30-15BAD9AF7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BFFEC-A246-4710-B4D6-C3204F49F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08A39-E634-4623-9508-E38E63B8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5D766-E474-4764-AB10-B3615D924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0FE5C-F79C-40B2-A10B-9188BD16D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62BFF-2ED8-47D1-A115-DA4935E1B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1C8C-CD57-465B-ACD5-AE09AB7EE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AD7F-CF38-494B-B858-0C932A2AF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31F9-EA30-4695-A26A-AD72B47EE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33C6-D425-4002-BB96-9AA4DF05B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0496-3D04-48D2-B52C-925F76D2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EA38-BE18-4692-B75D-02A5C948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0FEF-ED97-4927-80FE-A182A76A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7A50B-12D7-4F3B-BEA1-9B2639D91608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3C004-1EEA-46A7-B5D9-2D8AED07DC5D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5" dur="indefinite" restart="never" nodeType="tmRoot">
          <p:childTnLst>
            <p:seq>
              <p:cTn id="856" dur="indefinite" nodeType="mainSeq">
                <p:childTnLst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4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6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2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4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6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4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0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6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7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