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AE75-F0D1-462E-9E89-26BEA22FF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C806-BEB6-42BB-A130-B34C1E8C0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7515-68AB-4133-BDCC-1B5D55455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9CB9-6175-4C75-8FC5-DA36C0560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35DE-43EA-42F5-9FC6-EE413CBC6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216B4-9091-466D-8F33-C0614BF1D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67AF-83D7-4E3F-BFF5-45707D284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7B700-8F7B-4D0F-91BA-A60DE6AA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DCE47-FB3C-4537-96E3-ED7C2BBE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06AEC-B4EE-4C61-9F75-78426BC96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99E81-0FCB-4CAE-9347-DF72E2D86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21AD-3C4A-40FB-BF2D-0155EFE6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E7AF6-9E00-41DD-A0BC-EBFB51D85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4E52F-FA19-4F0D-A49F-C2FE57912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C1EE3-34F6-475C-A7F5-6C4DDC02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EB8A2-FA0D-4650-B626-A3971164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6450E-2389-4E58-BD78-907AACB7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78DF-DE57-4DCD-90EA-17C273CAD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510D1-2AE9-40A4-BD30-A1DFD221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4854-EE96-47B3-A83B-776BAE445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B067-8CC3-44EA-95F8-53961ACBE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D3CB-0549-49D4-AF0E-A0AB5D355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480-F24D-4BEE-9DA6-BBC78B27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513A-F6AC-440F-B421-F0AFCA6A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FDCBC-C270-413D-BFFE-A61C7E0A8492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1C3D9-9996-4E6C-A0D3-2E6B0F8FEE7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1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8" dur="indefinite" restart="never" nodeType="tmRoot">
          <p:childTnLst>
            <p:seq>
              <p:cTn id="409" dur="indefinite" nodeType="mainSeq">
                <p:childTnLst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3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1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8" dur="indefinite" restart="never" nodeType="tmRoot">
          <p:childTnLst>
            <p:seq>
              <p:cTn id="559" dur="indefinite" nodeType="mainSeq">
                <p:childTnLst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9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1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fill="hold">
                      <p:stCondLst>
                        <p:cond delay="indefinite"/>
                      </p:stCondLst>
                      <p:childTnLst>
                        <p:par>
                          <p:cTn id="741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6" fill="hold">
                      <p:stCondLst>
                        <p:cond delay="indefinite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1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2" fill="hold">
                      <p:stCondLst>
                        <p:cond delay="indefinite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7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9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7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fill="hold">
                      <p:stCondLst>
                        <p:cond delay="indefinite"/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9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1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5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1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3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4" dur="indefinite" restart="never" nodeType="tmRoot">
          <p:childTnLst>
            <p:seq>
              <p:cTn id="885" dur="indefinite" nodeType="mainSeq">
                <p:childTnLst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7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3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1" fill="hold">
                      <p:stCondLst>
                        <p:cond delay="indefinite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6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2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8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4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0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7" dur="indefinite" restart="never" nodeType="tmRoot">
          <p:childTnLst>
            <p:seq>
              <p:cTn id="988" dur="indefinite" nodeType="mainSeq">
                <p:childTnLst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4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6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7" fill="hold">
                      <p:stCondLst>
                        <p:cond delay="indefinite"/>
                      </p:stCondLst>
                      <p:childTnLst>
                        <p:par>
                          <p:cTn id="1008" fill="hold">
                            <p:stCondLst>
                              <p:cond delay="0"/>
                            </p:stCondLst>
                            <p:childTnLst>
                              <p:par>
                                <p:cTn id="10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2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2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8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4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fill="hold">
                      <p:stCondLst>
                        <p:cond delay="indefinite"/>
                      </p:stCondLst>
                      <p:childTnLst>
                        <p:par>
                          <p:cTn id="1056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1" fill="hold">
                      <p:stCondLst>
                        <p:cond delay="indefinite"/>
                      </p:stCondLst>
                      <p:childTnLst>
                        <p:par>
                          <p:cTn id="1062" fill="hold">
                            <p:stCondLst>
                              <p:cond delay="0"/>
                            </p:stCondLst>
                            <p:childTnLst>
                              <p:par>
                                <p:cTn id="10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2" fill="hold">
                      <p:stCondLst>
                        <p:cond delay="indefinite"/>
                      </p:stCondLst>
                      <p:childTnLst>
                        <p:par>
                          <p:cTn id="1073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7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9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1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5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5000"/>
                            </p:stCondLst>
                            <p:childTnLst>
                              <p:par>
                                <p:cTn id="1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3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