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0289-D894-4DDE-982F-953AC69C4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0780-1D41-42CB-9A49-C2097787D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3F31-43E6-4DA0-A228-7620B2E63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2EAE-DD23-41D9-A901-426132403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59E17-9D31-464C-83AB-8304B2C9F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82BF7-DDEA-4CA6-86E7-AABD8D2D3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3DDAF-0DC7-49B0-AECF-35C2FEBD1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3F4D9-6EBA-4087-8EA3-EC3A3C362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5C5BC-8F5F-443C-85E1-1830974FE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6FCEC-6AE3-400D-AEA5-0FF9DFEB0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49AC6-643F-44BD-BA5F-E985E4560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0780-07E1-4634-94AC-BBEC47A15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37AF5-6835-469C-A767-5EAA4A9E8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8444D-5BEE-44D2-B5BD-1AED4360B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67B2D-A25F-4852-8375-27771B1F4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03D11-F39D-4AF0-BA16-6FDD17388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642C4-B315-4945-B156-DD325E0C5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28E4-140F-416B-AC30-66DC06A57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D1A5-0EF3-4ACC-8980-931E80BA5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AA5B-10ED-4E8B-85BD-577B044C5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A1CC-7B7E-499B-8561-E6832ED99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CAFC-7567-4FDC-A412-FF44C971C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42F8-83A5-44C2-912B-23341AF26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E984-1020-48C2-ACC6-E27AA9203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DE20B-6842-41F7-AC86-30ABEE527C06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66345-1A2A-4752-BC4F-A83E0C5A7748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9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6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7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8" dur="indefinite" restart="never" nodeType="tmRoot">
          <p:childTnLst>
            <p:seq>
              <p:cTn id="799" dur="indefinite" nodeType="mainSeq">
                <p:childTnLst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2" dur="indefinite" restart="never" nodeType="tmRoot">
          <p:childTnLst>
            <p:seq>
              <p:cTn id="813" dur="indefinite" nodeType="mainSeq">
                <p:childTnLst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4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6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7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2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3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8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9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5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6" dur="indefinite" restart="never" nodeType="tmRoot">
          <p:childTnLst>
            <p:seq>
              <p:cTn id="857" dur="indefinite" nodeType="mainSeq">
                <p:childTnLst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2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3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8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9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4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5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0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1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2" dur="indefinite" restart="never" nodeType="tmRoot">
          <p:childTnLst>
            <p:seq>
              <p:cTn id="883" dur="indefinite" nodeType="mainSeq">
                <p:childTnLst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2" dur="indefinite" restart="never" nodeType="tmRoot">
          <p:childTnLst>
            <p:seq>
              <p:cTn id="943" dur="indefinite" nodeType="mainSeq">
                <p:childTnLst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9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0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5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6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1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2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7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8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3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4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5" dur="indefinite" restart="never" nodeType="tmRoot">
          <p:childTnLst>
            <p:seq>
              <p:cTn id="986" dur="indefinite" nodeType="mainSeq">
                <p:childTnLst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1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2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7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8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3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4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9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0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5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6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1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2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7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8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3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4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9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0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5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6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1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2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7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8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4" dur="indefinite" restart="never" nodeType="tmRoot">
          <p:childTnLst>
            <p:seq>
              <p:cTn id="1065" dur="indefinite" nodeType="mainSeq">
                <p:childTnLst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fill="hold">
                      <p:stCondLst>
                        <p:cond delay="indefinite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0"/>
                            </p:stCondLst>
                            <p:childTnLst>
                              <p:par>
                                <p:cTn id="108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3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