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58AB5-137D-4DBB-9A88-5BBBE6E9D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7FA79-8ECE-4E91-8676-98694EE63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79EED-DA23-4BE7-98A7-5CC2FC5C1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D4D4C-94E9-4A26-BAC8-F5E04E776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D3870-51A4-4F15-B0CB-56AF09AE4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B7BBB-42F3-4242-B60A-85F5BD392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65871-0544-45BA-A3A6-83F18E236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00FCA-F164-4FF7-948F-D0422F1AC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BF1A8-2E40-4488-8530-32137C611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FD3C4-683B-4A43-9DD3-AFDBC5787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EA6C2-7066-4EF2-8217-2C5F3B18D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7FE36-49D7-4616-BBBC-DA1E2F8C3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ECA92-E35C-46BA-8E97-98B5B6B77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7A8B4-EB7F-4791-9A92-22AF8327A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35869-B659-4D73-946B-F8E1A796F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A1B13-1E7A-4440-816C-A737C4AB5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11FB4-DAB2-4249-B6E4-A25BC5F4B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3113D-7F66-4823-B1C4-269E64E92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AE5AF-207B-4367-A430-5463273B3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D1439-D582-4D02-8F94-1F7A02DCE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6B9F7-680A-44B4-BF43-C21A13B38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F4506-8C36-47BE-9823-49F28E621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853BC-1397-4575-B93D-F6A9A86CD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1A100-D0E1-4474-A390-AAE67F566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314F5-BABA-4A3A-92F7-0902832CCB5D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6B4CA-8DA7-409B-9F54-73118E0AD292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1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20" dur="indefinite" restart="never" nodeType="tmRoot">
          <p:childTnLst>
            <p:seq>
              <p:cTn id="621" dur="indefinite" nodeType="mainSeq">
                <p:childTnLst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2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3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8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9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70" dur="indefinite" restart="never" nodeType="tmRoot">
          <p:childTnLst>
            <p:seq>
              <p:cTn id="671" dur="indefinite" nodeType="mainSeq">
                <p:childTnLst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6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7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6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7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38" dur="indefinite" restart="never" nodeType="tmRoot">
          <p:childTnLst>
            <p:seq>
              <p:cTn id="739" dur="indefinite" nodeType="mainSeq">
                <p:childTnLst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4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5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0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1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2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3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8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9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4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5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0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1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6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7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2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3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8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9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800" dur="indefinite" restart="never" nodeType="tmRoot">
          <p:childTnLst>
            <p:seq>
              <p:cTn id="801" dur="indefinite" nodeType="mainSeq">
                <p:childTnLst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6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7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14" dur="indefinite" restart="never" nodeType="tmRoot">
          <p:childTnLst>
            <p:seq>
              <p:cTn id="815" dur="indefinite" nodeType="mainSeq">
                <p:childTnLst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7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2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3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8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9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4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5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0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1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58" dur="indefinite" restart="never" nodeType="tmRoot">
          <p:childTnLst>
            <p:seq>
              <p:cTn id="859" dur="indefinite" nodeType="mainSeq">
                <p:childTnLst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4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5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0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1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6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7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2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3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84" dur="indefinite" restart="never" nodeType="tmRoot">
          <p:childTnLst>
            <p:seq>
              <p:cTn id="885" dur="indefinite" nodeType="mainSeq">
                <p:childTnLst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1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3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fill="hold">
                      <p:stCondLst>
                        <p:cond delay="indefinite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7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fill="hold">
                      <p:stCondLst>
                        <p:cond delay="indefinite"/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3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44" dur="indefinite" restart="never" nodeType="tmRoot">
          <p:childTnLst>
            <p:seq>
              <p:cTn id="945" dur="indefinite" nodeType="mainSeq">
                <p:childTnLst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5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6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1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2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7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8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3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4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9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0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5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6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87" dur="indefinite" restart="never" nodeType="tmRoot">
          <p:childTnLst>
            <p:seq>
              <p:cTn id="988" dur="indefinite" nodeType="mainSeq">
                <p:childTnLst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3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4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9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0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fill="hold">
                      <p:stCondLst>
                        <p:cond delay="indefinite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5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6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1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2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fill="hold">
                      <p:stCondLst>
                        <p:cond delay="indefinite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7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8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3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4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9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0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5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6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fill="hold">
                      <p:stCondLst>
                        <p:cond delay="indefinite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1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2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7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8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fill="hold">
                      <p:stCondLst>
                        <p:cond delay="indefinite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3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4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9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0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5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66" dur="indefinite" restart="never" nodeType="tmRoot">
          <p:childTnLst>
            <p:seq>
              <p:cTn id="1067" dur="indefinite" nodeType="mainSeq">
                <p:childTnLst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2" fill="hold">
                      <p:stCondLst>
                        <p:cond delay="indefinite"/>
                      </p:stCondLst>
                      <p:childTnLst>
                        <p:par>
                          <p:cTn id="1073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6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7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2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4" fill="hold">
                      <p:stCondLst>
                        <p:cond delay="indefinite"/>
                      </p:stCondLst>
                      <p:childTnLst>
                        <p:par>
                          <p:cTn id="1085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8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9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4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6" fill="hold">
                      <p:stCondLst>
                        <p:cond delay="indefinite"/>
                      </p:stCondLst>
                      <p:childTnLst>
                        <p:par>
                          <p:cTn id="1097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0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1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5000"/>
                            </p:stCondLst>
                            <p:childTnLst>
                              <p:par>
                                <p:cTn id="110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5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5000"/>
                            </p:stCondLst>
                            <p:childTnLst>
                              <p:par>
                                <p:cTn id="12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