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D6A1-929B-49D2-8510-B53702C13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4540-FFDA-4A22-8C23-B9BDFF705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099A-B87E-447F-B84E-D91A4CD98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4DB8-EFF3-49A9-B26D-7C29276A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84185-DD37-4920-B038-784BD4AB2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D9598-48A3-4D2F-9CBD-0C7FAC76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08D5F-F392-444C-A859-24A22442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BB245-6BCE-40B0-B498-D9AD4AF6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E06F-CF6C-4CE3-9790-C8AAB41D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619E8-8766-4DCD-81CE-7363620BC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EB2FC-7071-4243-9641-E885E3F8E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1496-E1D4-46B1-8808-8050E198C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EDC5-265C-4294-8690-669A5FB1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C515-10D0-4530-88AB-836FD4B18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A52E-E201-4745-B15B-6CAF1733A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DCFAE-C4B1-4C2B-AA8E-C1E71587D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ADB4D-CD7D-4FF5-BD4C-6776CC41F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550B7-97F0-4C9A-8EC7-FDF88E4F4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B386-3713-4AC3-887D-AF92E3359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D694-8CEF-4AB4-8063-1033D17E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C576-5F29-4ADB-9B5A-2A6AE3D3B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936F-EF15-4BA3-B30D-C3CD595B2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01BC-4BF3-4712-A8AE-469454406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225C-1B07-446C-8C46-C0FF7D7B1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20CD-63E5-4D7D-ABDC-D474016F9EB6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9705E-CF3F-42A6-AFFB-39B6BF818501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2" dur="indefinite" restart="never" nodeType="tmRoot">
          <p:childTnLst>
            <p:seq>
              <p:cTn id="663" dur="indefinite" nodeType="mainSeq">
                <p:childTnLst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0" dur="indefinite" restart="never" nodeType="tmRoot">
          <p:childTnLst>
            <p:seq>
              <p:cTn id="731" dur="indefinite" nodeType="mainSeq">
                <p:childTnLst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6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36" dur="indefinite" restart="never" nodeType="tmRoot">
          <p:childTnLst>
            <p:seq>
              <p:cTn id="937" dur="indefinite" nodeType="mainSeq">
                <p:childTnLst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7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8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58" dur="indefinite" restart="never" nodeType="tmRoot">
          <p:childTnLst>
            <p:seq>
              <p:cTn id="1059" dur="indefinite" nodeType="mainSeq">
                <p:childTnLst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8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