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C73D6-AA34-4B04-80F6-2028622A7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76E01-4029-4B17-9BEF-98749738F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FA9D-85C0-47A1-B843-50F9B1709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8B34-C5E4-486F-B5C6-3321505CB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FB3B5-0B5F-4433-AB3D-AF1B0E3E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D167-AB63-427A-977B-7BD988CD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FFEE-4F32-474A-9306-61DEAF8C0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EBAE5-80C3-4EAD-B230-19780B62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FADB-3333-46AD-B8F4-4901C0DE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477D-8645-4B4A-8444-E97870828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534E-FBA5-45FE-B31C-9F57DA5E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8056-846F-4500-A15A-12C3A2835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C21AC-C45A-4D3B-BF76-D592307C3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08F0B-D21B-4C77-849E-9B817F535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2725-FB1A-4F6F-9543-E86470990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697D-60C1-406E-9282-46DDB655E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0B86A-F3F5-4F87-A8C9-39EEC5839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D65-17E7-402A-8B51-DF47F4536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23F1-5547-440E-936E-8AEC92726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3545-BD07-4CBE-906F-259273F8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203A-A685-412A-AEC0-08AE2AC6F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79BE-C2FA-4106-BE20-DAEC1259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F5BA-F561-443B-83B6-374C3E240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991A6-8E38-46BA-9F8E-72D4AFA03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97F0-6BFC-4C2F-8921-11915E60ADAF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8AC6F-6155-4F4A-A2BC-9C11552EA1B7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0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6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6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2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8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4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0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6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2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8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4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2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8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6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4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fill="hold">
                      <p:stCondLst>
                        <p:cond delay="indefinite"/>
                      </p:stCondLst>
                      <p:childTnLst>
                        <p:par>
                          <p:cTn id="807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2" dur="indefinite" restart="never" nodeType="tmRoot">
          <p:childTnLst>
            <p:seq>
              <p:cTn id="813" dur="indefinite" nodeType="mainSeq">
                <p:childTnLst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2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2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8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4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0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6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4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0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1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3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fill="hold">
                      <p:stCondLst>
                        <p:cond delay="indefinite"/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7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5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3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9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5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1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7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6" fill="hold">
                      <p:stCondLst>
                        <p:cond delay="indefinite"/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fill="hold">
                      <p:stCondLst>
                        <p:cond delay="indefinite"/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6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2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4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0"/>
                            </p:stCondLst>
                            <p:childTnLst>
                              <p:par>
                                <p:cTn id="1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