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4AAD-B075-4327-B80F-831B2542C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DC13-52B3-4B60-B3F1-AAE1153F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8DC2-715A-4DBB-9368-1976890B5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4AC7-CB6D-490D-BA2C-8974F2871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22C71-B8F8-4E3C-80A9-FCC9C0CC4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596B-344B-4728-BB72-9D0EC8CDF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4ECF8-9C6D-47E2-83C4-C474E427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74D16-24FB-4EEC-88E0-CBDC9D85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FC0A9-6779-40BC-A7CE-CBEC19333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479E5-1E68-49E4-8B50-FB84A9A1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1C0CF-D9EC-4C17-84F7-D2E5EAB6D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CCFD-9923-40AD-8916-8B4DAF79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DD6D9-1F6E-45FF-9E10-00DCB2F8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7E08-F4EC-4CDF-8FBD-168D73DE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DB039-9665-4190-9040-2A228A5A9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789E7-E9B7-4AB4-8586-E82DCA045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00415-40E0-48F9-90B2-E04F3526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3C31-D0C3-4178-915C-F06AEE8E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CFA4-BD31-4DCC-9CF4-5F8EF79C4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D7CA-615D-425E-AD5F-D083096C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128C-3FB4-4313-AB20-23718DD0E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1D59-13A8-47D2-9E0A-7E738ABF7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742-5DBD-4678-BBFF-B3FFD20C2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14C1-5F50-446C-8CE0-D1301B41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EFA26-17B9-4770-A62B-F6DB0332858E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FC0E-D55F-4196-B770-5E55681F9A53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5" dur="indefinite" restart="never" nodeType="tmRoot">
          <p:childTnLst>
            <p:seq>
              <p:cTn id="946" dur="indefinite" nodeType="mainSeq">
                <p:childTnLst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8" dur="indefinite" restart="never" nodeType="tmRoot">
          <p:childTnLst>
            <p:seq>
              <p:cTn id="989" dur="indefinite" nodeType="mainSeq">
                <p:childTnLst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7" dur="indefinite" restart="never" nodeType="tmRoot">
          <p:childTnLst>
            <p:seq>
              <p:cTn id="1068" dur="indefinite" nodeType="mainSeq">
                <p:childTnLst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fill="hold">
                      <p:stCondLst>
                        <p:cond delay="indefinite"/>
                      </p:stCondLst>
                      <p:childTnLst>
                        <p:par>
                          <p:cTn id="1098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