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png" ContentType="image/png"/>
  <Override PartName="/ppt/media/image4.gif" ContentType="image/gif"/>
  <Override PartName="/ppt/media/image7.wmf" ContentType="image/x-wmf"/>
  <Override PartName="/ppt/media/image5.png" ContentType="image/png"/>
  <Override PartName="/ppt/media/image6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8AE89-90B4-4489-91E9-A14036BEE8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E7807-F662-4841-822C-24A5546AB9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5220-DFA1-48CF-9382-0093981C79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E64F3-F1E1-4A99-9FB3-D66A6F35B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1D35A-F273-4367-A78F-AA23F4028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F89EA-6993-489C-82EB-0BC3E7433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17AD-3798-4638-AADF-A9153705C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F86D4-E9A5-499A-A0C8-DD54D236A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8664-2B44-4C69-8C78-9B0EC13F3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5E54F-F42C-4062-AB32-F8BBD54E5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7946-ED98-4E09-8243-0C9375C93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710C-F1C4-4E6D-80F3-23E789821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BA90F-6B63-4B83-BA70-49BDC0F2F0D7}" type="slidenum">
              <a:rPr b="0" lang="ar-SA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gi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رابع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طفل عنيد يرفض رفضا باتا حل واجباته المنزلية باتقان ، يمضي معظم وقته في الرسم ، و الفنون الجميلة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676520" y="4267080"/>
            <a:ext cx="4038480" cy="64260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لفنان بيكاسو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6172200" y="3886200"/>
            <a:ext cx="1886040" cy="204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600"/>
                            </p:stCondLst>
                            <p:childTnLst>
                              <p:par>
                                <p:cTn id="10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100"/>
                            </p:stCondLst>
                            <p:childTnLst>
                              <p:par>
                                <p:cTn id="15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75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225"/>
                            </p:stCondLst>
                            <p:childTnLst>
                              <p:par>
                                <p:cTn id="20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95280" y="2209680"/>
            <a:ext cx="6629400" cy="28371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 الله أخرجكم من بطون أمهاتكم لا تعلمون شيئا و جعل لكم السمع و الأبصار و الأفئدة لعلكم تشكرو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حل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7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9" dur="indefinite" restart="never" nodeType="tmRoot">
          <p:childTnLst>
            <p:seq>
              <p:cTn id="180" dur="indefinite" nodeType="mainSeq">
                <p:childTnLst>
                  <p:par>
                    <p:cTn id="181" fill="hold">
                      <p:stCondLst>
                        <p:cond delay="0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75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600200" y="1905120"/>
            <a:ext cx="6629400" cy="41907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فضل الله الناس بعضهم على بعض في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1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سال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2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ز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3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كان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4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كلام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5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حك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6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معرف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7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رحمة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8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الهدا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9</a:t>
            </a: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-  أخرى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75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295280" y="2209680"/>
            <a:ext cx="6629400" cy="137376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ff"/>
                </a:solidFill>
                <a:latin typeface="Tahoma"/>
              </a:rPr>
              <a:t>قال تعالى : فوجدا عبدا من عبادنا آتيناه رحمة من عندنا و علمناه من لدنا علما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57200" y="35053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كهف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6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905120" y="3962520"/>
            <a:ext cx="6553080" cy="204372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ff"/>
                </a:solidFill>
                <a:latin typeface="Tahoma"/>
              </a:rPr>
              <a:t>قال تعالى : وعد الله الذين آمنوا منكم وعملوا الصالحات ليستخلفنهم في الأرض كما استخلف الذين من قبلهم ..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066680" y="5715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نور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5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0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75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981080" y="2057400"/>
            <a:ext cx="6629400" cy="202572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قال صلى الله عليه وسلم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</a:rPr>
              <a:t>خير القرون قرني ثم الذين يلونهم ثم الذين يلونهم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143000" y="4648320"/>
            <a:ext cx="6858000" cy="173988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صلى الله عليه وسلم ينتقى من صحابته لمهام محددة حسب القدرات الفردية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75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336760" y="1835280"/>
            <a:ext cx="6629400" cy="338580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كان الصحابة رضوان الله عليهم يحرصون على تعلم عشر آيات ، يحفظونها ، يفهمونها، يطبقونها في حياتهم ، ثم ينتقلون الى أخرى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11040" y="4267080"/>
            <a:ext cx="7467840" cy="283716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يوم فتح مكة ، خشي غلمان مكة على حياتهم من محمد</a:t>
            </a:r>
            <a:r>
              <a:rPr b="1" lang="ar-SA" sz="3600" spc="-1" strike="noStrike">
                <a:solidFill>
                  <a:srgbClr val="ffff00"/>
                </a:solidFill>
                <a:latin typeface="AGA Arabesque"/>
                <a:ea typeface="AGA Arabesque"/>
              </a:rPr>
              <a:t></a:t>
            </a:r>
            <a:r>
              <a:rPr b="1" lang="ar-SA" sz="3600" spc="-1" strike="noStrike">
                <a:solidFill>
                  <a:srgbClr val="ffff00"/>
                </a:solidFill>
                <a:latin typeface="Tahoma"/>
                <a:ea typeface="Andalus"/>
              </a:rPr>
              <a:t> ، فلما شاهدهم رسول الله عليه أفضل الصلاة و أزكى التسليم ، دعى برئيسهم ليعلمه الأذان 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75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066680" y="2895480"/>
            <a:ext cx="7467840" cy="3408840"/>
          </a:xfrm>
          <a:prstGeom prst="rect">
            <a:avLst/>
          </a:prstGeom>
          <a:solidFill>
            <a:srgbClr val="0066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كان الحرص على التزود بالمعرفة ثم تطبيقها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وتطويع العمل (السلوك) لما يخدم المجتمع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00"/>
                </a:solidFill>
                <a:latin typeface="Tahoma"/>
                <a:cs typeface="Andalus"/>
              </a:rPr>
              <a:t>تحسبا للخلافة على هذه الأرض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9" dur="indefinite" restart="never" nodeType="tmRoot">
          <p:childTnLst>
            <p:seq>
              <p:cTn id="220" dur="indefinite" nodeType="mainSeq">
                <p:childTnLst>
                  <p:par>
                    <p:cTn id="221" fill="hold">
                      <p:stCondLst>
                        <p:cond delay="0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75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سلوك الموهوب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1</a:t>
            </a:r>
            <a:r>
              <a:rPr b="0" lang="en-US" sz="4000" spc="-1" strike="noStrike">
                <a:solidFill>
                  <a:srgbClr val="ccccff"/>
                </a:solidFill>
                <a:latin typeface="Times New Roman"/>
              </a:rPr>
              <a:t>- مستوى فوق المتوسط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2</a:t>
            </a:r>
            <a:r>
              <a:rPr b="0" lang="en-US" sz="4000" spc="-1" strike="noStrike">
                <a:solidFill>
                  <a:srgbClr val="808080"/>
                </a:solidFill>
                <a:latin typeface="Times New Roman"/>
              </a:rPr>
              <a:t>- مهارات ابداعي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4000" spc="-1" strike="noStrike">
                <a:solidFill>
                  <a:srgbClr val="008000"/>
                </a:solidFill>
                <a:latin typeface="Times New Roman"/>
              </a:rPr>
              <a:t>- الاجتهاد و الالتزام بالعمل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 algn="r" rtl="1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4</a:t>
            </a:r>
            <a:r>
              <a:rPr b="0" lang="en-US" sz="4000" spc="-1" strike="noStrike">
                <a:solidFill>
                  <a:srgbClr val="b2b2b2"/>
                </a:solidFill>
                <a:latin typeface="Times New Roman"/>
              </a:rPr>
              <a:t>- السلوك الموهوب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6629400" y="2286000"/>
            <a:ext cx="1600200" cy="1752480"/>
          </a:xfrm>
          <a:prstGeom prst="ellipse">
            <a:avLst/>
          </a:prstGeom>
          <a:noFill/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638680" y="2514600"/>
            <a:ext cx="167652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400800" y="3505320"/>
            <a:ext cx="1676520" cy="1676160"/>
          </a:xfrm>
          <a:prstGeom prst="ellipse">
            <a:avLst/>
          </a:prstGeom>
          <a:noFill/>
          <a:ln w="38160">
            <a:solidFill>
              <a:srgbClr val="00584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800600" y="2362320"/>
            <a:ext cx="2590920" cy="152280"/>
          </a:xfrm>
          <a:prstGeom prst="line">
            <a:avLst/>
          </a:prstGeom>
          <a:ln w="9360">
            <a:solidFill>
              <a:srgbClr val="cccc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4876920" y="2971800"/>
            <a:ext cx="1218960" cy="457200"/>
          </a:xfrm>
          <a:prstGeom prst="line">
            <a:avLst/>
          </a:prstGeom>
          <a:ln w="9360">
            <a:solidFill>
              <a:srgbClr val="808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24280" y="4267080"/>
            <a:ext cx="2438640" cy="76320"/>
          </a:xfrm>
          <a:prstGeom prst="line">
            <a:avLst/>
          </a:prstGeom>
          <a:ln w="936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3733560"/>
            <a:ext cx="2133360" cy="1523880"/>
          </a:xfrm>
          <a:prstGeom prst="line">
            <a:avLst/>
          </a:prstGeom>
          <a:ln w="9360">
            <a:solidFill>
              <a:srgbClr val="b2b2b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0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75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975"/>
                            </p:stCondLst>
                            <p:childTnLst>
                              <p:par>
                                <p:cTn id="23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8" dur="300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175"/>
                            </p:stCondLst>
                            <p:childTnLst>
                              <p:par>
                                <p:cTn id="24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2" dur="300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75"/>
                            </p:stCondLst>
                            <p:childTnLst>
                              <p:par>
                                <p:cTn id="24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6" dur="300"/>
                                        <p:tgtEl>
                                          <p:spTgt spid="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575"/>
                            </p:stCondLst>
                            <p:childTnLst>
                              <p:par>
                                <p:cTn id="2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0" dur="300"/>
                                        <p:tgtEl>
                                          <p:spTgt spid="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5475"/>
                            </p:stCondLst>
                            <p:childTnLst>
                              <p:par>
                                <p:cTn id="2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975"/>
                            </p:stCondLst>
                            <p:childTnLst>
                              <p:par>
                                <p:cTn id="2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6475"/>
                            </p:stCondLst>
                            <p:childTnLst>
                              <p:par>
                                <p:cTn id="2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6975"/>
                            </p:stCondLst>
                            <p:childTnLst>
                              <p:par>
                                <p:cTn id="26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7475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7975"/>
                            </p:stCondLst>
                            <p:childTnLst>
                              <p:par>
                                <p:cTn id="2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8475"/>
                            </p:stCondLst>
                            <p:childTnLst>
                              <p:par>
                                <p:cTn id="28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موضوع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ذكاء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ابداع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مقاييس القدرات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المقاييس التقديري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قوائم الصفات السلو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الملاحظ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 algn="r" rtl="1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أسلوب المحكمات المتعدد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قُمع / التصف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 algn="r" rtl="1">
              <a:lnSpc>
                <a:spcPct val="90000"/>
              </a:lnSpc>
              <a:spcBef>
                <a:spcPts val="624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0000"/>
                </a:solidFill>
                <a:latin typeface="Times New Roman"/>
              </a:rPr>
              <a:t>أسلوب الجدول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685800" y="1981080"/>
            <a:ext cx="3581280" cy="38124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85800" y="2362320"/>
            <a:ext cx="175248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flipH="1">
            <a:off x="2438280" y="2362320"/>
            <a:ext cx="1828800" cy="3352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43000" y="3200400"/>
            <a:ext cx="266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612800" y="4127400"/>
            <a:ext cx="1676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070000" y="5029200"/>
            <a:ext cx="762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286000" y="5410080"/>
            <a:ext cx="304920" cy="3049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780000" y="4221000"/>
            <a:ext cx="14396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أسلوب (القُمع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660033"/>
                </a:solidFill>
                <a:latin typeface="Tahoma"/>
              </a:rPr>
              <a:t>التصفي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6" dur="indefinite" restart="never" nodeType="tmRoot">
          <p:childTnLst>
            <p:seq>
              <p:cTn id="287" dur="indefinite" nodeType="mainSeq">
                <p:childTnLst>
                  <p:par>
                    <p:cTn id="288" fill="hold">
                      <p:stCondLst>
                        <p:cond delay="0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9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9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9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0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0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0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0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0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1" dur="8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720"/>
                            </p:stCondLst>
                            <p:childTnLst>
                              <p:par>
                                <p:cTn id="3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5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6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7" dur="8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240"/>
                            </p:stCondLst>
                            <p:childTnLst>
                              <p:par>
                                <p:cTn id="3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1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2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8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3800"/>
                            </p:stCondLst>
                            <p:childTnLst>
                              <p:par>
                                <p:cTn id="3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7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8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9" dur="8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4360"/>
                            </p:stCondLst>
                            <p:childTnLst>
                              <p:par>
                                <p:cTn id="3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3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4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5" dur="8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5080"/>
                            </p:stCondLst>
                            <p:childTnLst>
                              <p:par>
                                <p:cTn id="33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9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1" dur="80"/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2" fill="hold">
                            <p:stCondLst>
                              <p:cond delay="5880"/>
                            </p:stCondLst>
                            <p:childTnLst>
                              <p:par>
                                <p:cTn id="34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5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6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80"/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6240"/>
                            </p:stCondLst>
                            <p:childTnLst>
                              <p:par>
                                <p:cTn id="3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1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2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3" dur="80"/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7120"/>
                            </p:stCondLst>
                            <p:childTnLst>
                              <p:par>
                                <p:cTn id="35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57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58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59" dur="80"/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7920"/>
                            </p:stCondLst>
                            <p:childTnLst>
                              <p:par>
                                <p:cTn id="36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63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64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1,-49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0,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5" dur="80"/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500"/>
                            </p:stCondLst>
                            <p:childTnLst>
                              <p:par>
                                <p:cTn id="37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8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8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8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9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9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0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0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0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0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0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2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2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3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5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7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  <p:par>
                                <p:cTn id="472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كيف أتعرف عليه (أسلوب الجدول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685800" y="1981080"/>
          <a:ext cx="7772400" cy="41148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  <a:gridCol w="863640"/>
                <a:gridCol w="863640"/>
                <a:gridCol w="863640"/>
                <a:gridCol w="863280"/>
                <a:gridCol w="863640"/>
                <a:gridCol w="86364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أخرى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كشاف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بد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نية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رياضيات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لوم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عربي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دي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الطالب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عبد الله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400" spc="-1" strike="noStrike">
                          <a:solidFill>
                            <a:srgbClr val="0000ff"/>
                          </a:solidFill>
                          <a:latin typeface="Times New Roman"/>
                        </a:rPr>
                        <a:t>عبد الرحمن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660033"/>
                          </a:solidFill>
                          <a:latin typeface="Times New Roman"/>
                        </a:rPr>
                        <a:t>سليم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فاضل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E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5841"/>
                          </a:solidFill>
                          <a:latin typeface="Times New Roman"/>
                        </a:rPr>
                        <a:t>أمجد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00ff00"/>
                          </a:solidFill>
                          <a:latin typeface="Times New Roman"/>
                        </a:rPr>
                        <a:t>صالح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*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2000" spc="-1" strike="noStrike">
                          <a:solidFill>
                            <a:srgbClr val="ccccff"/>
                          </a:solidFill>
                          <a:latin typeface="Times New Roman"/>
                        </a:rPr>
                        <a:t>ريان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763640" y="549000"/>
            <a:ext cx="5562720" cy="236196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Times New Roman"/>
                <a:cs typeface="Italic Outline Art"/>
              </a:rPr>
              <a:t>شكرا لاصغائكم وحسن مشاركتكم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304920"/>
            <a:ext cx="1611360" cy="185256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7238880" y="1752480"/>
            <a:ext cx="1524240" cy="1676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61800" y="3162240"/>
            <a:ext cx="2667240" cy="20401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>
            <a:off x="3924360" y="4365720"/>
            <a:ext cx="31003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عبد الرحمن نور الدين كلنتن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a50021"/>
                </a:solidFill>
                <a:latin typeface="Tahoma"/>
              </a:rPr>
              <a:t>05052195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50021"/>
                </a:solidFill>
                <a:latin typeface="Tahoma"/>
              </a:rPr>
              <a:t>cluntun@hotmail.c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1000"/>
                            </p:stCondLst>
                            <p:childTnLst>
                              <p:par>
                                <p:cTn id="49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500"/>
                            </p:stCondLst>
                            <p:childTnLst>
                              <p:par>
                                <p:cTn id="50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9" dur="1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2500"/>
                            </p:stCondLst>
                            <p:childTnLst>
                              <p:par>
                                <p:cTn id="5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3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4000"/>
                            </p:stCondLst>
                            <p:childTnLst>
                              <p:par>
                                <p:cTn id="51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2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2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2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2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52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3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53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حالة الخامس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لم يستطع التحدث الا في سن الرابعة ، و القراءة في سن السابعة ، تم تصنيفه ضمن الطلبة الضعفاء وذلك حسب قول والديه و أساتذته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80880" y="4343400"/>
            <a:ext cx="1905120" cy="17398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ccccff"/>
                </a:solidFill>
                <a:latin typeface="Tahoma"/>
              </a:rPr>
              <a:t>انه انشتاي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2590920" y="3429000"/>
            <a:ext cx="2790720" cy="26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0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75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975"/>
                            </p:stCondLst>
                            <p:childTnLst>
                              <p:par>
                                <p:cTn id="33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475"/>
                            </p:stCondLst>
                            <p:childTnLst>
                              <p:par>
                                <p:cTn id="38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3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2075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990720" y="457200"/>
            <a:ext cx="7391160" cy="6150960"/>
          </a:xfrm>
          <a:prstGeom prst="rect">
            <a:avLst/>
          </a:prstGeom>
          <a:blipFill rotWithShape="0">
            <a:blip r:embed="rId1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0000"/>
                </a:solidFill>
                <a:latin typeface="Tahoma"/>
                <a:cs typeface="DecoType Naskh Special"/>
              </a:rPr>
              <a:t>لم تتمكن المقاييس من التعرف على المخترعين والموهوبين</a:t>
            </a:r>
            <a:r>
              <a:rPr b="0" lang="en-US" sz="3200" spc="-1" strike="noStrike">
                <a:solidFill>
                  <a:srgbClr val="ccff66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ff"/>
                </a:solidFill>
                <a:latin typeface="Tahoma"/>
                <a:cs typeface="Hesham Bold"/>
              </a:rPr>
              <a:t>لقد أكد المخترعون على أن معظم اختراعاتهم ومساهماتهم كانت صدفة ، و أن معظمها لم تكن من الأهداف الموضوعة للدراسة أصلا ،</a:t>
            </a:r>
            <a:r>
              <a:rPr b="0" lang="en-US" sz="3200" spc="-1" strike="noStrike">
                <a:solidFill>
                  <a:srgbClr val="ffffff"/>
                </a:solidFill>
                <a:latin typeface="Tahoma"/>
                <a:ea typeface="Hesham Bold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ffff00"/>
                </a:solidFill>
                <a:latin typeface="Tahoma"/>
                <a:cs typeface="Monotype Koufi"/>
              </a:rPr>
              <a:t>لا يستطيع أي مخترع تحديد زمن لاكتشاف موهبته أو انهاء عمله 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من هو الموهوب 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000000"/>
                </a:solidFill>
                <a:latin typeface="Times New Roman"/>
              </a:rPr>
              <a:t>التعاريف الرسمية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15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6000"/>
                            </p:stCondLst>
                            <p:childTnLst>
                              <p:par>
                                <p:cTn id="6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75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75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تعريف مكتب التربية و التعليم الأمريكي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هم الطلبة الذين يتم اختيارهم و التعرف عليهم من قبل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أفراد متخصصين و مؤهلين علميا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000000"/>
                </a:solidFill>
                <a:latin typeface="Times New Roman"/>
              </a:rPr>
              <a:t>وهم طلبة من ذوي </a:t>
            </a:r>
            <a:r>
              <a:rPr b="0" lang="hi-IN" sz="2800" spc="-1" strike="noStrike">
                <a:solidFill>
                  <a:srgbClr val="ccccff"/>
                </a:solidFill>
                <a:latin typeface="Times New Roman"/>
              </a:rPr>
              <a:t>القدرات و المهارات العالية الأداء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و </a:t>
            </a:r>
            <a:r>
              <a:rPr b="0" lang="hi-IN" sz="2800" spc="-1" strike="noStrike">
                <a:solidFill>
                  <a:srgbClr val="006666"/>
                </a:solidFill>
                <a:latin typeface="Times New Roman"/>
              </a:rPr>
              <a:t>بحاجة الى خدمات تعليمية مختلفة عن أقرانهم في الصفوف الدراسية العادية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، وذلك لاتاحة الفرصة لهم لخدمة أنفسهم و مجتمعهم ، و تشمل القدرات المجالات التالية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b2b2b2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قدرات العقلية العام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ميول العلمية المتخصص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cccc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ccccff"/>
                </a:solidFill>
                <a:latin typeface="Times New Roman"/>
              </a:rPr>
              <a:t>الابداع و الاعمال الابداعي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مهارات القياد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668520" indent="-257040" algn="r" rtl="1">
              <a:spcBef>
                <a:spcPts val="624"/>
              </a:spcBef>
              <a:buClr>
                <a:srgbClr val="0066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500" spc="-1" strike="noStrike">
                <a:solidFill>
                  <a:srgbClr val="006666"/>
                </a:solidFill>
                <a:latin typeface="Times New Roman"/>
              </a:rPr>
              <a:t>الاعمال و الفنون الجميلة</a:t>
            </a:r>
            <a:r>
              <a:rPr b="0" lang="en-US" sz="25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hi-IN" sz="2500" spc="-1" strike="noStrike">
                <a:solidFill>
                  <a:srgbClr val="b2b2b2"/>
                </a:solidFill>
                <a:latin typeface="Times New Roman"/>
              </a:rPr>
              <a:t>المهارات الحركية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900000" y="4941720"/>
            <a:ext cx="1656000" cy="91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8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23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914400" y="1981080"/>
            <a:ext cx="7370640" cy="39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0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 txBox="1"/>
          <p:nvPr/>
        </p:nvSpPr>
        <p:spPr>
          <a:xfrm>
            <a:off x="2057400" y="2514600"/>
            <a:ext cx="4876920" cy="228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Hesham Bold"/>
              </a:rPr>
              <a:t>الموهبة و التفوق والابداع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Hesham Bold"/>
              <a:ea typeface="Hesham Bold"/>
            </a:endParaRPr>
          </a:p>
        </p:txBody>
      </p:sp>
      <p:sp>
        <p:nvSpPr>
          <p:cNvPr id="57" name=""/>
          <p:cNvSpPr/>
          <p:nvPr/>
        </p:nvSpPr>
        <p:spPr>
          <a:xfrm>
            <a:off x="4724280" y="1066680"/>
            <a:ext cx="3810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800000"/>
                </a:solidFill>
                <a:latin typeface="Tahoma"/>
                <a:cs typeface="Hesham Cortoba"/>
              </a:rPr>
              <a:t>تنظر المجتمعات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143000" y="3797280"/>
            <a:ext cx="6781680" cy="22399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003300"/>
                </a:solidFill>
                <a:latin typeface="Tahoma"/>
                <a:cs typeface="Hesham Ghorn Italic"/>
              </a:rPr>
              <a:t>من الزاوية التي تناسبها ،</a:t>
            </a:r>
            <a:r>
              <a:rPr b="1" lang="en-US" sz="4000" spc="-1" strike="noStrike">
                <a:solidFill>
                  <a:srgbClr val="000000"/>
                </a:solidFill>
                <a:latin typeface="Tahoma"/>
                <a:ea typeface="Hesham Ghorn Italic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000" spc="-1" strike="noStrike">
                <a:solidFill>
                  <a:srgbClr val="800000"/>
                </a:solidFill>
                <a:latin typeface="Tahoma"/>
                <a:cs typeface="Hesham Bold"/>
              </a:rPr>
              <a:t>فهل لنا ان ننظر الى الزاوية التي تناسبنا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352680" y="990720"/>
            <a:ext cx="1752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800" spc="-1" strike="noStrike">
                <a:solidFill>
                  <a:srgbClr val="000000"/>
                </a:solidFill>
                <a:latin typeface="Tahoma"/>
                <a:cs typeface="Kufi Extended Outline"/>
              </a:rPr>
              <a:t>الى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0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after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75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975"/>
                            </p:stCondLst>
                            <p:childTnLst>
                              <p:par>
                                <p:cTn id="1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1475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3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000000"/>
                </a:solidFill>
                <a:latin typeface="Times New Roman"/>
              </a:rPr>
              <a:t>حتى لا تختلط الأمور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118296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أسرة و المدرس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156384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ctr" rtl="1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0000"/>
                </a:solidFill>
                <a:latin typeface="Times New Roman"/>
              </a:rPr>
              <a:t>دور المؤسسات / الشركات المتخصصة في رعاية الموهوبين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05320" y="3581280"/>
            <a:ext cx="4724280" cy="459720"/>
          </a:xfrm>
          <a:prstGeom prst="rect">
            <a:avLst/>
          </a:prstGeom>
          <a:solidFill>
            <a:srgbClr val="66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ا نوعية الموهبة المنشودة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124080" y="4495680"/>
            <a:ext cx="510552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ffff"/>
                </a:solidFill>
                <a:latin typeface="Tahoma"/>
              </a:rPr>
              <a:t>من هم الأفراد المنشودين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00200" y="3581280"/>
            <a:ext cx="1295280" cy="1922760"/>
          </a:xfrm>
          <a:prstGeom prst="rect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الى أية مستوى نرغب التوصل الي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352680" y="5410080"/>
            <a:ext cx="4876920" cy="459720"/>
          </a:xfrm>
          <a:prstGeom prst="rect">
            <a:avLst/>
          </a:prstGeom>
          <a:solidFill>
            <a:srgbClr val="66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ما مقدار الميزانية المرصودة 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80880" y="5486400"/>
            <a:ext cx="1219320" cy="10083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800" spc="-1" strike="noStrike">
                <a:solidFill>
                  <a:srgbClr val="3333cc"/>
                </a:solidFill>
                <a:latin typeface="Tahoma"/>
              </a:rPr>
              <a:t>هل الامكانات متوافرة</a:t>
            </a:r>
            <a:r>
              <a:rPr b="0" lang="ar-SA" sz="2400" spc="-1" strike="noStrike">
                <a:solidFill>
                  <a:srgbClr val="3333cc"/>
                </a:solidFill>
                <a:latin typeface="Tahoma"/>
              </a:rPr>
              <a:t>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3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200"/>
                            </p:stCondLst>
                            <p:childTnLst>
                              <p:par>
                                <p:cTn id="13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3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600"/>
                            </p:stCondLst>
                            <p:childTnLst>
                              <p:par>
                                <p:cTn id="142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300" fill="hold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700"/>
                            </p:stCondLst>
                            <p:childTnLst>
                              <p:par>
                                <p:cTn id="14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200"/>
                            </p:stCondLst>
                            <p:childTnLst>
                              <p:par>
                                <p:cTn id="152" nodeType="after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8700"/>
                            </p:stCondLst>
                            <p:childTnLst>
                              <p:par>
                                <p:cTn id="15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3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500"/>
                            </p:stCondLst>
                            <p:childTnLst>
                              <p:par>
                                <p:cTn id="162" nodeType="after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3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fill="hold">
                            <p:stCondLst>
                              <p:cond delay="12000"/>
                            </p:stCondLst>
                            <p:childTnLst>
                              <p:par>
                                <p:cTn id="167" nodeType="after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0000"/>
                </a:solidFill>
                <a:latin typeface="Times New Roman"/>
              </a:rPr>
              <a:t>الموهوب في الاسلام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295280" y="2209680"/>
            <a:ext cx="6629400" cy="4483080"/>
          </a:xfrm>
          <a:prstGeom prst="rect">
            <a:avLst/>
          </a:prstGeom>
          <a:solidFill>
            <a:srgbClr val="5417c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ffffff"/>
                </a:solidFill>
                <a:latin typeface="Tahoma"/>
                <a:cs typeface="Andalus"/>
              </a:rPr>
              <a:t>قال تعالى : واذ قال ربك للملائكة اني جاعل في الارض خليفة ، قالوا  أتجعل فيها من يفسد فيها و يسفك الدماء و نحن نسبح بحمدك و نقدس لك ، قال اني أعلم مالا تعلمون . وعلم آدم الأسماء كلها ..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066680" y="5486400"/>
            <a:ext cx="2895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البقرة 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ar-SA" sz="2400" spc="-1" strike="noStrike">
                <a:solidFill>
                  <a:srgbClr val="000000"/>
                </a:solidFill>
                <a:latin typeface="Tahoma"/>
              </a:rPr>
              <a:t>3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75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8-05-01T20:49:02Z</dcterms:modified>
  <cp:revision>2</cp:revision>
  <dc:subject/>
  <dc:title>عرض تقديمي من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25</vt:r8>
  </property>
  <property fmtid="{D5CDD505-2E9C-101B-9397-08002B2CF9AE}" pid="3" name="Version">
    <vt:r8>1</vt:r8>
  </property>
</Properties>
</file>