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CLAP.WAV" ContentType="audio/x-wav"/>
  <Override PartName="/ppt/media/DRIVEBY.WAV" ContentType="audio/x-wav"/>
  <Override PartName="/ppt/media/image3.png" ContentType="image/png"/>
  <Override PartName="/ppt/media/image7.jpeg" ContentType="image/jpeg"/>
  <Override PartName="/ppt/media/CASHREG.WAV" ContentType="audio/x-wav"/>
  <Override PartName="/ppt/media/DRUMROLL.WAV" ContentType="audio/x-wav"/>
  <Override PartName="/ppt/media/CAMERA.WAV" ContentType="audio/x-wav"/>
  <Override PartName="/ppt/media/CHIMES.WAV" ContentType="audio/x-wav"/>
  <Override PartName="/ppt/media/image13.jpeg" ContentType="image/jpeg"/>
  <Override PartName="/ppt/media/image4.png" ContentType="image/png"/>
  <Override PartName="/ppt/media/image12.jpeg" ContentType="image/jpeg"/>
  <Override PartName="/ppt/media/image8.wmf" ContentType="image/x-wmf"/>
  <Override PartName="/ppt/media/APPLAUSE.WAV" ContentType="audio/x-wav"/>
  <Override PartName="/ppt/media/image9.png" ContentType="image/png"/>
  <Override PartName="/ppt/media/WHOOSH.WAV" ContentType="audio/x-wav"/>
  <Override PartName="/ppt/media/image1.jpeg" ContentType="image/jpeg"/>
  <Override PartName="/ppt/media/LASER.WAV" ContentType="audio/x-wav"/>
  <Override PartName="/ppt/media/image5.png" ContentType="image/png"/>
  <Override PartName="/ppt/media/image10.jpeg" ContentType="image/jpeg"/>
  <Override PartName="/ppt/media/image2.jpeg" ContentType="image/jpeg"/>
  <Override PartName="/ppt/media/image11.png" ContentType="image/png"/>
  <Override PartName="/ppt/media/image6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D1C7E-6012-4F18-AD23-97E7D33D8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B4C5D-4083-45C1-BC57-F49954180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BBC9D-C219-4364-8677-9AB4805E1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4A75D-602F-49A7-9B71-D70AE9D69D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CB4A19-A81D-4A2E-93DC-FBDCB4F2DC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3505F-0F17-4BCC-A204-8F9D5BA34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6C4BE-B4A0-4538-A621-F60ADDF634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CDCE21-B7E3-4CE6-B2C4-1B8EF514F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12FC6-2B1B-4304-BFB1-6237B5D81F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D6BF0B-A498-4324-B45A-287BCF5A60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52094-F4CF-4CD8-B611-06CEC6EB8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70033-5532-4526-A186-CB68FABF49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94A71-4142-4430-984E-46BAADAF7C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0CC15-FA31-4A96-AC2A-5B7B6709F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D6A97F-7F01-44EC-8777-59E01C63A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51C0D-195F-488E-B5B0-AB29C69B7A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9468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22320" y="2101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9468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22320" y="42512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4473CB-14EF-49EA-9A27-C535020479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A3CFA-281C-42BD-AF0D-7AE9395ED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DD607-9123-4FCD-B7B6-3A0385B16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836C-BE54-4AF9-BDFE-11B62D92E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066680" y="837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56AC7-3431-4973-BA54-2185E5DCA7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4A066-85CF-42F5-B671-6349F885A7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049360" y="42512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5A86-1238-486F-AE43-6034EA854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68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49360" y="2101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680" y="42512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7CE5-3ACD-4D22-9498-DA33FE12E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52280" y="0"/>
            <a:ext cx="144792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676520" y="0"/>
            <a:ext cx="7467480" cy="12193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457200" y="0"/>
            <a:ext cx="1219320" cy="76212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457200" cy="68580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dt" idx="1"/>
          </p:nvPr>
        </p:nvSpPr>
        <p:spPr>
          <a:xfrm>
            <a:off x="1066680" y="64134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ftr" idx="2"/>
          </p:nvPr>
        </p:nvSpPr>
        <p:spPr>
          <a:xfrm>
            <a:off x="3428640" y="64134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5"/>
          <a:stretch/>
        </p:blipFill>
        <p:spPr>
          <a:xfrm>
            <a:off x="1228680" y="0"/>
            <a:ext cx="7915320" cy="754200"/>
          </a:xfrm>
          <a:prstGeom prst="rect">
            <a:avLst/>
          </a:prstGeom>
          <a:ln w="0">
            <a:noFill/>
          </a:ln>
        </p:spPr>
      </p:pic>
      <p:sp>
        <p:nvSpPr>
          <p:cNvPr id="8" name=""/>
          <p:cNvSpPr/>
          <p:nvPr/>
        </p:nvSpPr>
        <p:spPr>
          <a:xfrm>
            <a:off x="304920" y="457200"/>
            <a:ext cx="2514600" cy="3049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sldNum" idx="3"/>
          </p:nvPr>
        </p:nvSpPr>
        <p:spPr>
          <a:xfrm>
            <a:off x="8229600" y="6413400"/>
            <a:ext cx="914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D9925-9B66-4CF1-98CD-E88186A48D69}" type="slidenum">
              <a:rPr b="0" lang="ar-SA" sz="2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body"/>
          </p:nvPr>
        </p:nvSpPr>
        <p:spPr>
          <a:xfrm>
            <a:off x="1066680" y="2101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52520" indent="-452520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1" marL="1016640" indent="-450720">
              <a:spcBef>
                <a:spcPts val="799"/>
              </a:spcBef>
              <a:buClr>
                <a:srgbClr val="fac164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2" marL="1356120" indent="-226080">
              <a:spcBef>
                <a:spcPts val="799"/>
              </a:spcBef>
              <a:buClr>
                <a:srgbClr val="666699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3" marL="1695600" indent="-226080">
              <a:spcBef>
                <a:spcPts val="799"/>
              </a:spcBef>
              <a:buClr>
                <a:srgbClr val="5b5249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b0ae6a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5b5249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b5249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228600" y="3200400"/>
            <a:ext cx="8763120" cy="1341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cec8b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3"/>
          <a:srcRect l="-894" t="-1259" r="0" b="-36902"/>
          <a:stretch/>
        </p:blipFill>
        <p:spPr>
          <a:xfrm>
            <a:off x="533520" y="3200400"/>
            <a:ext cx="8458200" cy="115884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795240" y="2895480"/>
            <a:ext cx="304920" cy="990720"/>
          </a:xfrm>
          <a:prstGeom prst="rect">
            <a:avLst/>
          </a:prstGeom>
          <a:solidFill>
            <a:srgbClr val="fac164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980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a3d7a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58F5-E0D5-4EA1-ABC0-282415D63A9E}" type="slidenum">
              <a:rPr b="0" lang="ar-SA" sz="1400" spc="-1" strike="noStrike">
                <a:solidFill>
                  <a:srgbClr val="2a3d7a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wmf"/><Relationship Id="rId3" Type="http://schemas.openxmlformats.org/officeDocument/2006/relationships/audio" Target="../media/APPLAUSE.WAV"/><Relationship Id="rId4" Type="http://schemas.openxmlformats.org/officeDocument/2006/relationships/audio" Target="../media/CHIMES.WAV"/><Relationship Id="rId5" Type="http://schemas.openxmlformats.org/officeDocument/2006/relationships/audio" Target="../media/CASHREG.WAV"/><Relationship Id="rId6" Type="http://schemas.openxmlformats.org/officeDocument/2006/relationships/audio" Target="../media/DRIVEBY.WAV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7.jpeg"/><Relationship Id="rId4" Type="http://schemas.openxmlformats.org/officeDocument/2006/relationships/image" Target="../media/image7.jpeg"/><Relationship Id="rId5" Type="http://schemas.openxmlformats.org/officeDocument/2006/relationships/image" Target="../media/image7.jpeg"/><Relationship Id="rId6" Type="http://schemas.openxmlformats.org/officeDocument/2006/relationships/image" Target="../media/image7.jpeg"/><Relationship Id="rId7" Type="http://schemas.openxmlformats.org/officeDocument/2006/relationships/image" Target="../media/image7.jpeg"/><Relationship Id="rId8" Type="http://schemas.openxmlformats.org/officeDocument/2006/relationships/image" Target="../media/image7.jpeg"/><Relationship Id="rId9" Type="http://schemas.openxmlformats.org/officeDocument/2006/relationships/image" Target="../media/image7.jpe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image" Target="../media/image7.jpeg"/><Relationship Id="rId13" Type="http://schemas.openxmlformats.org/officeDocument/2006/relationships/image" Target="../media/image7.jpeg"/><Relationship Id="rId14" Type="http://schemas.openxmlformats.org/officeDocument/2006/relationships/image" Target="../media/image7.jpeg"/><Relationship Id="rId15" Type="http://schemas.openxmlformats.org/officeDocument/2006/relationships/image" Target="../media/image7.jpeg"/><Relationship Id="rId16" Type="http://schemas.openxmlformats.org/officeDocument/2006/relationships/image" Target="../media/image7.jpeg"/><Relationship Id="rId17" Type="http://schemas.openxmlformats.org/officeDocument/2006/relationships/image" Target="../media/image7.jpeg"/><Relationship Id="rId18" Type="http://schemas.openxmlformats.org/officeDocument/2006/relationships/image" Target="../media/image7.jpeg"/><Relationship Id="rId19" Type="http://schemas.openxmlformats.org/officeDocument/2006/relationships/image" Target="../media/image7.jpeg"/><Relationship Id="rId20" Type="http://schemas.openxmlformats.org/officeDocument/2006/relationships/image" Target="../media/image7.jpeg"/><Relationship Id="rId21" Type="http://schemas.openxmlformats.org/officeDocument/2006/relationships/image" Target="../media/image7.jpeg"/><Relationship Id="rId22" Type="http://schemas.openxmlformats.org/officeDocument/2006/relationships/image" Target="../media/image7.jpeg"/><Relationship Id="rId23" Type="http://schemas.openxmlformats.org/officeDocument/2006/relationships/image" Target="../media/image7.jpeg"/><Relationship Id="rId24" Type="http://schemas.openxmlformats.org/officeDocument/2006/relationships/image" Target="../media/image7.jpeg"/><Relationship Id="rId25" Type="http://schemas.openxmlformats.org/officeDocument/2006/relationships/image" Target="../media/image7.jpeg"/><Relationship Id="rId26" Type="http://schemas.openxmlformats.org/officeDocument/2006/relationships/audio" Target="../media/LASER.WAV"/><Relationship Id="rId27" Type="http://schemas.openxmlformats.org/officeDocument/2006/relationships/audio" Target="../media/CLAP.WAV"/><Relationship Id="rId28" Type="http://schemas.openxmlformats.org/officeDocument/2006/relationships/audio" Target="../media/CLAP.WAV"/><Relationship Id="rId29" Type="http://schemas.openxmlformats.org/officeDocument/2006/relationships/audio" Target="../media/CLAP.WAV"/><Relationship Id="rId30" Type="http://schemas.openxmlformats.org/officeDocument/2006/relationships/audio" Target="../media/CLAP.WAV"/><Relationship Id="rId31" Type="http://schemas.openxmlformats.org/officeDocument/2006/relationships/audio" Target="../media/CLAP.WAV"/><Relationship Id="rId3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DRUMROLL.WAV"/><Relationship Id="rId3" Type="http://schemas.openxmlformats.org/officeDocument/2006/relationships/audio" Target="../media/DRIVEBY.WAV"/><Relationship Id="rId4" Type="http://schemas.openxmlformats.org/officeDocument/2006/relationships/audio" Target="../media/WHOOSH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10.jpeg"/><Relationship Id="rId7" Type="http://schemas.openxmlformats.org/officeDocument/2006/relationships/image" Target="../media/image10.jpe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7.jpeg"/><Relationship Id="rId11" Type="http://schemas.openxmlformats.org/officeDocument/2006/relationships/image" Target="../media/image7.jpeg"/><Relationship Id="rId1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AMERA.WAV"/><Relationship Id="rId3" Type="http://schemas.openxmlformats.org/officeDocument/2006/relationships/audio" Target="../media/DRIVEBY.WAV"/><Relationship Id="rId4" Type="http://schemas.openxmlformats.org/officeDocument/2006/relationships/audio" Target="../media/LASER.WAV"/><Relationship Id="rId5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audio" Target="../media/WHOOSH.WAV"/><Relationship Id="rId4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1447920" y="1295280"/>
            <a:ext cx="6791040" cy="382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96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DecoType Thuluth"/>
              </a:rPr>
              <a:t>دورة التفكير الإبداعي</a:t>
            </a:r>
            <a:endParaRPr b="0" lang="en-US" sz="96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DecoType Thuluth"/>
              <a:ea typeface="DecoType Thuluth"/>
            </a:endParaRPr>
          </a:p>
        </p:txBody>
      </p:sp>
      <p:sp>
        <p:nvSpPr>
          <p:cNvPr id="92" name=""/>
          <p:cNvSpPr txBox="1"/>
          <p:nvPr/>
        </p:nvSpPr>
        <p:spPr>
          <a:xfrm rot="20150400">
            <a:off x="3819600" y="4312800"/>
            <a:ext cx="3228840" cy="1076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المدرب/ صلاح معمار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685800" y="609480"/>
            <a:ext cx="7620120" cy="914400"/>
          </a:xfrm>
          <a:prstGeom prst="can">
            <a:avLst>
              <a:gd name="adj" fmla="val 25000"/>
            </a:avLst>
          </a:prstGeom>
          <a:solidFill>
            <a:srgbClr val="ff99cc">
              <a:alpha val="50000"/>
            </a:srgbClr>
          </a:solidFill>
          <a:ln w="284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762120" y="60948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339933"/>
                </a:solidFill>
                <a:latin typeface="Times New Roman"/>
              </a:rPr>
              <a:t>أشكال التفكير الخاطئ والتفكير الصائب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905120"/>
            <a:ext cx="1905120" cy="825480"/>
          </a:xfrm>
          <a:prstGeom prst="rect">
            <a:avLst/>
          </a:prstGeom>
          <a:solidFill>
            <a:srgbClr val="ffff99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خاطئ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43000" y="1828800"/>
            <a:ext cx="1905120" cy="825480"/>
          </a:xfrm>
          <a:prstGeom prst="rect">
            <a:avLst/>
          </a:prstGeom>
          <a:solidFill>
            <a:srgbClr val="ccffcc">
              <a:alpha val="50000"/>
            </a:srgbClr>
          </a:solidFill>
          <a:ln w="2556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ff00ff"/>
                </a:solidFill>
                <a:latin typeface="Times New Roman"/>
              </a:rPr>
              <a:t>التفكير الصائب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477120" y="2666880"/>
            <a:ext cx="1600200" cy="3606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تبرير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ظن والهوى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قل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زئ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فر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خراف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295280" y="2743200"/>
            <a:ext cx="1905120" cy="3513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نقد الذات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علم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تجديد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شام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جماعي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*السنني</a:t>
            </a:r>
            <a:r>
              <a:rPr b="0" lang="ar-SA" sz="2000" spc="-1" strike="noStrike">
                <a:solidFill>
                  <a:srgbClr val="5b5249"/>
                </a:solidFill>
                <a:latin typeface="Times New Roman"/>
              </a:rPr>
              <a:t>”الواقعي”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76720" y="28954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76720" y="342900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276720" y="3962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276720" y="4495680"/>
            <a:ext cx="3276360" cy="152640"/>
          </a:xfrm>
          <a:prstGeom prst="leftRightArrow">
            <a:avLst>
              <a:gd name="adj1" fmla="val 50000"/>
              <a:gd name="adj2" fmla="val 42730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276720" y="5105520"/>
            <a:ext cx="3276360" cy="152280"/>
          </a:xfrm>
          <a:prstGeom prst="leftRightArrow">
            <a:avLst>
              <a:gd name="adj1" fmla="val 50000"/>
              <a:gd name="adj2" fmla="val 428315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200400" y="5638680"/>
            <a:ext cx="3276720" cy="152640"/>
          </a:xfrm>
          <a:prstGeom prst="leftRightArrow">
            <a:avLst>
              <a:gd name="adj1" fmla="val 50000"/>
              <a:gd name="adj2" fmla="val 427352"/>
            </a:avLst>
          </a:prstGeom>
          <a:noFill/>
          <a:ln w="1260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3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3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7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1828800" y="762120"/>
            <a:ext cx="5562720" cy="1371600"/>
          </a:xfrm>
          <a:prstGeom prst="downArrowCallout">
            <a:avLst>
              <a:gd name="adj1" fmla="val 101400"/>
              <a:gd name="adj2" fmla="val 101391"/>
              <a:gd name="adj3" fmla="val 16667"/>
              <a:gd name="adj4" fmla="val 66667"/>
            </a:avLst>
          </a:prstGeom>
          <a:solidFill>
            <a:srgbClr val="ccffff">
              <a:alpha val="50000"/>
            </a:srgbClr>
          </a:solid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447920" y="4648320"/>
            <a:ext cx="6400800" cy="13716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b0ae6a"/>
              </a:gs>
              <a:gs pos="50000">
                <a:srgbClr val="ffffff"/>
              </a:gs>
              <a:gs pos="100000">
                <a:srgbClr val="b0ae6a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981080" y="380520"/>
            <a:ext cx="6553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ahoma"/>
              </a:rPr>
              <a:t>مـطارق الإبداع ( محركات )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47920" y="2438280"/>
            <a:ext cx="6324480" cy="2244600"/>
          </a:xfrm>
          <a:prstGeom prst="rect">
            <a:avLst/>
          </a:prstGeom>
          <a:gradFill rotWithShape="0">
            <a:gsLst>
              <a:gs pos="0">
                <a:srgbClr val="ccffff"/>
              </a:gs>
              <a:gs pos="50000">
                <a:srgbClr val="ffffff"/>
              </a:gs>
              <a:gs pos="100000">
                <a:srgbClr val="ccffff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لحاجة   * المشاكل  * اتخاذ القرارات 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اسعاد الآخرين  * تحقيق الذات  * ترك الأثر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Jokerman"/>
              </a:rPr>
              <a:t>* هدفنا من الحياة  * التميز والتنافس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00200" y="4724280"/>
            <a:ext cx="6019920" cy="1557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يكفي أن يصاب الإنسان بمرض واحد حتى يقال عنه أنه مريض ، لكنه يحتاج أن يكون معافى من جميع الأمراض حتى يقال عنه أنه سلي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0" dur="300"/>
                                        <p:tgtEl>
                                          <p:spTgt spid="1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1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2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3276720" cy="761760"/>
          </a:xfrm>
          <a:prstGeom prst="rect">
            <a:avLst/>
          </a:prstGeom>
          <a:blipFill rotWithShape="0">
            <a:blip r:embed="rId2"/>
            <a:tile tx="0" ty="0" sx="100000" sy="100000" algn="ctr"/>
          </a:blipFill>
          <a:ln w="57240">
            <a:solidFill>
              <a:srgbClr val="5b5249"/>
            </a:solidFill>
            <a:miter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0000ff"/>
                </a:solidFill>
                <a:latin typeface="Times New Roman"/>
              </a:rPr>
              <a:t>العصف الذهني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57200" y="1219320"/>
            <a:ext cx="8686800" cy="457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1447920"/>
            <a:ext cx="9144000" cy="52171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  <a:cs typeface="Times New Roman"/>
              </a:rPr>
              <a:t>عملية ذهنية  تقوم على استدرار الأفكار بطريقة منطوقة لتوليد أفكار إبداعية جديدة بطريقة جماعية أو فرد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339933"/>
                </a:solidFill>
                <a:latin typeface="Times New Roman"/>
                <a:cs typeface="Times New Roman"/>
              </a:rPr>
              <a:t>شروط العصف الذهني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ؤجل فكرة                 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لا تنتقد فكرة أو تضحك منها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ابنٍ على أفكار الآخرين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يحضر اجتماع العصف من ليس له صلة بالموضو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كل ما كانت الفكرة غير مألوفة كلما كانت أفضل      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6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- تعلق الأفكار أمام الجميع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Simplified Arabic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0" y="5638680"/>
            <a:ext cx="883908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ff6600"/>
                </a:solidFill>
                <a:latin typeface="Times New Roman"/>
                <a:cs typeface="Times New Roman"/>
              </a:rPr>
              <a:t>إذا كنت ذا رأي فكن ذا عزيمة               فإن فساد الرأي أن تترددا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07" dur="indefinite" restart="never" nodeType="tmRoot">
          <p:childTnLst>
            <p:seq>
              <p:cTn id="408" dur="indefinite" nodeType="mainSeq">
                <p:childTnLst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1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2" dur="3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066320" y="380880"/>
            <a:ext cx="62485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  <a:ea typeface="Simple Outline Pat"/>
              </a:rPr>
              <a:t>        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نداءات الإبــداع فيك           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1219320"/>
            <a:ext cx="7848720" cy="642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قوة فيك ( المادية والمعنوية )          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الأشياء التي تحبها 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بماذا تقضي وقت فراغ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في ماذا تحدث نفس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لو قيل لك أختر تخصصاً آخر أو مهنة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وقفاً أثنى عليك الآخرون فيه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7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حينما كنت صغيراً ما ذا كنت تحب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ن الذين تحب أن تجلسهم ( في ماذا تتكلم معهم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9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ماذا تحب أن تقرأ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تعرف على نقاط الضعف في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رسالتك في الحياة ” وقد تتجدد مع الزمن ”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إذا أردت أن تغير في الآخرين أو ت}ثر فيهم ما هو المجال الذي من خلاله تستطيع أن تفعل ذل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9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5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6" dur="300" fill="hold"/>
                                        <p:tgtEl>
                                          <p:spTgt spid="1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1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2" dur="300" fill="hold"/>
                                        <p:tgtEl>
                                          <p:spTgt spid="1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300" fill="hold"/>
                                        <p:tgtEl>
                                          <p:spTgt spid="1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300" fill="hold"/>
                                        <p:tgtEl>
                                          <p:spTgt spid="1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300" fill="hold"/>
                                        <p:tgtEl>
                                          <p:spTgt spid="1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300" fill="hold"/>
                                        <p:tgtEl>
                                          <p:spTgt spid="1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300" fill="hold"/>
                                        <p:tgtEl>
                                          <p:spTgt spid="1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5867280" y="3809880"/>
            <a:ext cx="2743200" cy="2667240"/>
          </a:xfrm>
          <a:prstGeom prst="leftArrowCallout">
            <a:avLst>
              <a:gd name="adj1" fmla="val 25002"/>
              <a:gd name="adj2" fmla="val 25000"/>
              <a:gd name="adj3" fmla="val 17141"/>
              <a:gd name="adj4" fmla="val 66673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971800" y="304920"/>
            <a:ext cx="312408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بررات التغي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066680" y="1371600"/>
            <a:ext cx="7467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حل المشكلات : لن تستطيع لحل المشاكل المزمنة  بنفس الطريقة التي أوجدت المشكلة ” انيشتاين ”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لقضاء على الملل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914400" y="243828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الذات ” لإعادة الثقة بالنفس ”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تحقيق طلبات الآخر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762120" y="3276720"/>
            <a:ext cx="8001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رفع الكفاءات                 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6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لمواكبة التقدم ” الشىء الثابت هو التغيير ”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838080" y="3733920"/>
            <a:ext cx="830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7620120" y="4114800"/>
            <a:ext cx="914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990720" y="396252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1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”إن الله لايغيرما بقوم ...“ التغيير من الذات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14400" y="45720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2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التغيير المادي أسرع من التغيير الفكري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5800" y="495288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3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ستعدادات الطموحين والمثقفين للتغير أكب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5800" y="53341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4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ستعداد للتغيير يزداد بالحوار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914400" y="5943600"/>
            <a:ext cx="4952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5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- الاحتكاك بالمتميزين يزيد فرص نجاح التغيير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4" name=""/>
          <p:cNvSpPr txBox="1"/>
          <p:nvPr/>
        </p:nvSpPr>
        <p:spPr>
          <a:xfrm rot="16993800">
            <a:off x="6773400" y="4334040"/>
            <a:ext cx="2323800" cy="16560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قواعد في منهج التغيير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75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3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3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3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3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3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7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8" dur="3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9" fill="hold">
                      <p:stCondLst>
                        <p:cond delay="indefinite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3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9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0" dur="3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1" fill="hold">
                      <p:stCondLst>
                        <p:cond delay="indefinite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5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6" dur="3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019560" y="380880"/>
            <a:ext cx="28191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فاتيح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تفكير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533520" y="1219320"/>
            <a:ext cx="8610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كن غير راض   *  خطط للتغيير      *  تخلص من أعذارك        * أحصل على الدع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533520" y="1828800"/>
            <a:ext cx="861048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* قم ببيع أفكارك         * كن جسوراً            * كن دؤوباً              * كن ذاتاً لا مقل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                                          * قاتل من أجل فكرتك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  <a:ea typeface="Times New Roman"/>
              </a:rPr>
              <a:t>0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2895480" y="3962520"/>
            <a:ext cx="4114800" cy="1828800"/>
          </a:xfrm>
          <a:prstGeom prst="triangle">
            <a:avLst>
              <a:gd name="adj" fmla="val 50000"/>
            </a:avLst>
          </a:pr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33920" y="3124080"/>
            <a:ext cx="2514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 rtl="1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مثلث</a:t>
            </a:r>
            <a:r>
              <a:rPr b="0" lang="ar-SA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ar-SA" sz="3200" spc="-1" strike="noStrike">
                <a:solidFill>
                  <a:srgbClr val="0000ff"/>
                </a:solidFill>
                <a:latin typeface="Times New Roman"/>
                <a:cs typeface="Times New Roman"/>
              </a:rPr>
              <a:t>الإبداع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 rot="3207000">
            <a:off x="5014440" y="4100040"/>
            <a:ext cx="27050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الصفات الإبداعية</a:t>
            </a:r>
            <a:endParaRPr b="0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81" name=""/>
          <p:cNvSpPr txBox="1"/>
          <p:nvPr/>
        </p:nvSpPr>
        <p:spPr>
          <a:xfrm rot="19855800">
            <a:off x="2152440" y="4196880"/>
            <a:ext cx="2419200" cy="113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Times New Roman"/>
              </a:rPr>
              <a:t>الناتج الإبداعي</a:t>
            </a:r>
            <a:endParaRPr b="1" lang="en-US" sz="32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3809880" y="5943600"/>
            <a:ext cx="230508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32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Times New Roman"/>
              </a:rPr>
              <a:t>خطوات الإبداع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Times New Roman"/>
              <a:ea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5867280"/>
            <a:ext cx="990720" cy="381240"/>
          </a:xfrm>
          <a:custGeom>
            <a:avLst/>
            <a:gdLst>
              <a:gd name="textAreaLeft" fmla="*/ 284400 w 990720"/>
              <a:gd name="textAreaRight" fmla="*/ 848520 w 990720"/>
              <a:gd name="textAreaTop" fmla="*/ 219600 h 381240"/>
              <a:gd name="textAreaBottom" fmla="*/ 3265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 rot="5615400">
            <a:off x="2858400" y="5608440"/>
            <a:ext cx="444600" cy="1155600"/>
          </a:xfrm>
          <a:custGeom>
            <a:avLst/>
            <a:gdLst>
              <a:gd name="textAreaLeft" fmla="*/ 127440 w 444600"/>
              <a:gd name="textAreaRight" fmla="*/ 380880 w 444600"/>
              <a:gd name="textAreaTop" fmla="*/ 665640 h 1155600"/>
              <a:gd name="textAreaBottom" fmla="*/ 990000 h 1155600"/>
            </a:gdLst>
            <a:ahLst/>
            <a:rect l="textAreaLeft" t="textAreaTop" r="textAreaRight" b="textAreaBottom"/>
            <a:pathLst>
              <a:path w="21600" h="21600">
                <a:moveTo>
                  <a:pt x="0" y="15470"/>
                </a:moveTo>
                <a:lnTo>
                  <a:pt x="6200" y="9340"/>
                </a:lnTo>
                <a:lnTo>
                  <a:pt x="6200" y="12440"/>
                </a:lnTo>
                <a:lnTo>
                  <a:pt x="12440" y="12440"/>
                </a:lnTo>
                <a:lnTo>
                  <a:pt x="12440" y="6200"/>
                </a:lnTo>
                <a:lnTo>
                  <a:pt x="9340" y="6200"/>
                </a:lnTo>
                <a:lnTo>
                  <a:pt x="15470" y="0"/>
                </a:lnTo>
                <a:lnTo>
                  <a:pt x="21600" y="6200"/>
                </a:lnTo>
                <a:lnTo>
                  <a:pt x="18500" y="6200"/>
                </a:lnTo>
                <a:lnTo>
                  <a:pt x="18500" y="18500"/>
                </a:lnTo>
                <a:lnTo>
                  <a:pt x="6200" y="18500"/>
                </a:lnTo>
                <a:lnTo>
                  <a:pt x="6200" y="21600"/>
                </a:lnTo>
                <a:close/>
              </a:path>
            </a:pathLst>
          </a:custGeom>
          <a:solidFill>
            <a:srgbClr val="c9ddf1"/>
          </a:solidFill>
          <a:ln w="9360">
            <a:solidFill>
              <a:srgbClr val="5b524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557" dur="indefinite" restart="never" nodeType="tmRoot">
          <p:childTnLst>
            <p:seq>
              <p:cTn id="558" dur="indefinite" nodeType="mainSeq">
                <p:childTnLst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3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3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1" fill="hold">
                      <p:stCondLst>
                        <p:cond delay="indefinite"/>
                      </p:stCondLst>
                      <p:childTnLst>
                        <p:par>
                          <p:cTn id="572" fill="hold">
                            <p:stCondLst>
                              <p:cond delay="0"/>
                            </p:stCondLst>
                            <p:childTnLst>
                              <p:par>
                                <p:cTn id="5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5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6" dur="3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fill="hold">
                      <p:stCondLst>
                        <p:cond delay="indefinite"/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1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2" dur="3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3" fill="hold">
                      <p:stCondLst>
                        <p:cond delay="indefinite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3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fill="hold">
                      <p:stCondLst>
                        <p:cond delay="indefinite"/>
                      </p:stCondLst>
                      <p:childTnLst>
                        <p:par>
                          <p:cTn id="602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2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8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819160" y="-360"/>
            <a:ext cx="38862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    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33520" y="838080"/>
            <a:ext cx="861048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388440" algn="r" rtl="1">
              <a:lnSpc>
                <a:spcPct val="90000"/>
              </a:lnSpc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5b5249"/>
                </a:solidFill>
                <a:latin typeface="Times New Roman"/>
              </a:rPr>
              <a:t>الإبداع بالوضوح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:( الهدف ، التصور ، الطريق ، الوسائل )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إبداع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بالتخصص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مجال واحد، تعلم دقائق الأمور فيه، كن خبيراً فيه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مقلوب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المدرسة تذهب للطالب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عصف الكتا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 يعتمد على الكتابة ، يعلم المجموعة بالموضوع مسبقاً ، طاولة مستديرة ، يكتب كل واحد أفكاره عن الموضوع ، تدور الأوراق على المجموعة ، تعلق الأفكار أمام الجميع ، يتم اختيار أفضل الأفكار بالتصويت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الإبداع بالبطاق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كوين مجموعة ، يعطى كل فرد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-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30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بطاقة ، يتم كتابة الأفكار في البطاقات ، يتم تعليقها وتصنيفها ، تضاف أفكار جديدة ، يتم الاختي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التفاف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حديد الموضوع وهدفه ، تحديد الأمور المسلم بها ، دراسة الظروف التي أدت إلى التسليم ، الالتفاف حول تلك الأمور المسلم بها )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88440" indent="-38844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الإبداع بالأحلام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فكر بالموضوع قبل النوم ، عند الاستيقاظ فكر بالموضوع ، لا تنس وضع ورقة وقلم بجوار السر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19" dur="indefinite" restart="never" nodeType="tmRoot">
          <p:childTnLst>
            <p:seq>
              <p:cTn id="620" dur="indefinite" nodeType="mainSeq">
                <p:childTnLst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5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6" dur="3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300" fill="hold"/>
                                        <p:tgtEl>
                                          <p:spTgt spid="1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300" fill="hold"/>
                                        <p:tgtEl>
                                          <p:spTgt spid="1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300" fill="hold"/>
                                        <p:tgtEl>
                                          <p:spTgt spid="1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9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0" dur="300" fill="hold"/>
                                        <p:tgtEl>
                                          <p:spTgt spid="1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5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6" dur="300" fill="hold"/>
                                        <p:tgtEl>
                                          <p:spTgt spid="1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1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2" dur="300" fill="hold"/>
                                        <p:tgtEl>
                                          <p:spTgt spid="1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7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8" dur="300" fill="hold"/>
                                        <p:tgtEl>
                                          <p:spTgt spid="18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123720" y="-360"/>
            <a:ext cx="350532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أساليب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09480" y="914400"/>
            <a:ext cx="8229600" cy="530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بداع بالنظر من خلال عيون الآخرين :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نظر من زوايا مختلفة، النظر بمنظار من له علاقة بالموضوع ،حاول أن تبحث عن احتياجات كل شخ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دمج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( تلفزيون + فيديو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حلام فوق البنفسجي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خيل أنك .... ماذا ستفعل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حوار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تمحيص الأفكار،المناقشة الجادة ، تبادل الأفكار وتطويرها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الإبداع بإعادة الوصف : ( إعادة كتابة الموضوع بطريقة أخرى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مجالس الإبداع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لقاء ودي مفتوح ، خارج الشركة ، مكان هادئ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الإبداع بالأسئلة غير المألو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( ما وزن غضبك ، ما لون طموحاتك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لإبداع بالتنقل:( تحويل فكرة خاطئة إلى فكرة مقبولة عن طريق هذه الأسئلة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ذا تعني هذه الفكرة                            * ما الشىء المشوق في الفكر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0" algn="r" rtl="1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* ما الشئ المتميز الذي تستند له الفكرة       * ما المبدأ الذي تستند له الفكر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669" dur="indefinite" restart="never" nodeType="tmRoot">
          <p:childTnLst>
            <p:seq>
              <p:cTn id="670" dur="indefinite" nodeType="mainSeq">
                <p:childTnLst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5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6" dur="3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1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2" dur="3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7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8" dur="3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9" fill="hold">
                      <p:stCondLst>
                        <p:cond delay="indefinite"/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3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4" dur="300" fill="hold"/>
                                        <p:tgtEl>
                                          <p:spTgt spid="1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9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0" dur="300" fill="hold"/>
                                        <p:tgtEl>
                                          <p:spTgt spid="1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1" fill="hold">
                      <p:stCondLst>
                        <p:cond delay="indefinite"/>
                      </p:stCondLst>
                      <p:childTnLst>
                        <p:par>
                          <p:cTn id="702" fill="hold">
                            <p:stCondLst>
                              <p:cond delay="0"/>
                            </p:stCondLst>
                            <p:childTnLst>
                              <p:par>
                                <p:cTn id="7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5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6" dur="300" fill="hold"/>
                                        <p:tgtEl>
                                          <p:spTgt spid="1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1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2" dur="300" fill="hold"/>
                                        <p:tgtEl>
                                          <p:spTgt spid="1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3" fill="hold">
                      <p:stCondLst>
                        <p:cond delay="indefinite"/>
                      </p:stCondLst>
                      <p:childTnLst>
                        <p:par>
                          <p:cTn id="714" fill="hold">
                            <p:stCondLst>
                              <p:cond delay="0"/>
                            </p:stCondLst>
                            <p:childTnLst>
                              <p:par>
                                <p:cTn id="7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7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8" dur="300" fill="hold"/>
                                        <p:tgtEl>
                                          <p:spTgt spid="18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3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4" dur="300" fill="hold"/>
                                        <p:tgtEl>
                                          <p:spTgt spid="18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300" fill="hold"/>
                                        <p:tgtEl>
                                          <p:spTgt spid="18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5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6" dur="300" fill="hold"/>
                                        <p:tgtEl>
                                          <p:spTgt spid="18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2209680" y="-360"/>
            <a:ext cx="5486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مـهارات التفكير الإبداعي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حساس بالشعو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طلاقة في توليد الأفكار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مرونة ” النظر إلى الأمور من أكثر من زاوي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أصالة ” جدية الفكرة ”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عادة صياغة المشكلة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إثراء والتفاصيل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ب والتعقيب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ركيز والانتباه والجهد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(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خيال –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98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% جهد وتركيز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57200" indent="-4572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تقيي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737" dur="indefinite" restart="never" nodeType="tmRoot">
          <p:childTnLst>
            <p:seq>
              <p:cTn id="738" dur="indefinite" nodeType="mainSeq">
                <p:childTnLst>
                  <p:par>
                    <p:cTn id="739" fill="hold">
                      <p:stCondLst>
                        <p:cond delay="indefinite"/>
                      </p:stCondLst>
                      <p:childTnLst>
                        <p:par>
                          <p:cTn id="740" fill="hold">
                            <p:stCondLst>
                              <p:cond delay="0"/>
                            </p:stCondLst>
                            <p:childTnLst>
                              <p:par>
                                <p:cTn id="7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3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4" dur="75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9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0" dur="300" fill="hold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5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6" dur="300" fill="hold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300" fill="hold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7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8" dur="300" fill="hold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3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4" dur="300" fill="hold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9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0" dur="300" fill="hold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5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6" dur="300" fill="hold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1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2" dur="300" fill="hold"/>
                                        <p:tgtEl>
                                          <p:spTgt spid="19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7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8" dur="300" fill="hold"/>
                                        <p:tgtEl>
                                          <p:spTgt spid="19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981080" y="-360"/>
            <a:ext cx="609624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قبعات السبع ” أنماط التفكير ”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371600" y="914400"/>
            <a:ext cx="7772400" cy="545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  <p:graphicFrame>
        <p:nvGraphicFramePr>
          <p:cNvPr id="193" name=""/>
          <p:cNvGraphicFramePr/>
          <p:nvPr/>
        </p:nvGraphicFramePr>
        <p:xfrm>
          <a:off x="1523880" y="1397160"/>
          <a:ext cx="6096240" cy="4063680"/>
        </p:xfrm>
        <a:graphic>
          <a:graphicData uri="http://schemas.openxmlformats.org/drawingml/2006/table">
            <a:tbl>
              <a:tblPr/>
              <a:tblGrid>
                <a:gridCol w="2032200"/>
                <a:gridCol w="2031840"/>
                <a:gridCol w="2032200"/>
              </a:tblGrid>
              <a:tr h="13539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صف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حم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00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بيض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5760">
                      <a:solidFill>
                        <a:srgbClr val="5b5249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3557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زرق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2a3d7a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خضر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576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ff00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cs typeface="Times New Roman"/>
                        </a:rPr>
                        <a:t>القبعة السوداء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576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solidFill>
                      <a:srgbClr val="000000"/>
                    </a:solidFill>
                  </a:tcPr>
                </a:tc>
              </a:tr>
              <a:tr h="1353960">
                <a:tc gridSpan="3">
                  <a:txBody>
                    <a:bodyPr lIns="90000" rIns="90000" tIns="46800" bIns="46800" anchor="ctr">
                      <a:noAutofit/>
                    </a:bodyPr>
                    <a:p>
                      <a:pPr algn="r" rtl="1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ar-SA" sz="2800" spc="-1" strike="noStrike">
                          <a:solidFill>
                            <a:srgbClr val="5b5249"/>
                          </a:solidFill>
                          <a:latin typeface="Times New Roman"/>
                          <a:ea typeface="Times New Roman"/>
                        </a:rPr>
                        <a:t>                        القبعة المزيفة</a:t>
                      </a:r>
                      <a:endParaRPr b="0" lang="en-US" sz="28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13680">
                      <a:solidFill>
                        <a:srgbClr val="5b5249"/>
                      </a:solidFill>
                    </a:lnL>
                    <a:lnR w="13680">
                      <a:solidFill>
                        <a:srgbClr val="5b5249"/>
                      </a:solidFill>
                    </a:lnR>
                    <a:lnT w="13680">
                      <a:solidFill>
                        <a:srgbClr val="5b5249"/>
                      </a:solidFill>
                    </a:lnT>
                    <a:lnB w="13680">
                      <a:solidFill>
                        <a:srgbClr val="5b5249"/>
                      </a:solidFill>
                    </a:lnB>
                    <a:gradFill rotWithShape="0">
                      <a:gsLst>
                        <a:gs pos="0">
                          <a:srgbClr val="339933"/>
                        </a:gs>
                        <a:gs pos="50000">
                          <a:srgbClr val="66ffff"/>
                        </a:gs>
                        <a:gs pos="100000">
                          <a:srgbClr val="339933"/>
                        </a:gs>
                      </a:gsLst>
                      <a:lin ang="8100000"/>
                    </a:gra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pPr algn="r" rtl="1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b5249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p:timing>
    <p:tnLst>
      <p:par>
        <p:cTn id="799" dur="indefinite" restart="never" nodeType="tmRoot">
          <p:childTnLst>
            <p:seq>
              <p:cTn id="800" dur="indefinite" nodeType="mainSeq">
                <p:childTnLst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5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6" dur="3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1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2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990720" y="0"/>
            <a:ext cx="7391160" cy="1828800"/>
          </a:xfrm>
          <a:prstGeom prst="irregularSeal2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2590920" y="660240"/>
            <a:ext cx="3654360" cy="711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f200"/>
                    </a:gs>
                    <a:gs pos="100000">
                      <a:srgbClr val="4d0808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Tholoth Rounded"/>
              </a:rPr>
              <a:t>التفكير الإبداعي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f200"/>
                  </a:gs>
                  <a:gs pos="100000">
                    <a:srgbClr val="4d0808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Tholoth Rounded"/>
              <a:ea typeface="Tholoth Rounded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1596960" y="2171880"/>
            <a:ext cx="731844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خروج من الصندوق ( التفكير الروتيني)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أنظر إلى سرعة إجابتك</a:t>
            </a: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0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4d0808"/>
                    </a:gs>
                    <a:gs pos="100000">
                      <a:srgbClr val="fff200"/>
                    </a:gs>
                  </a:gsLst>
                  <a:lin ang="13500000"/>
                </a:gradFill>
                <a:effectLst>
                  <a:outerShdw dist="153753" dir="2700000" blurRad="0" rotWithShape="0">
                    <a:srgbClr val="ff6600"/>
                  </a:outerShdw>
                </a:effectLst>
                <a:latin typeface="ALAWI-3-39"/>
              </a:rPr>
              <a:t>الصورة تختلف حسب النظر لها من زاوية الشخص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4d0808"/>
                  </a:gs>
                  <a:gs pos="100000">
                    <a:srgbClr val="fff200"/>
                  </a:gs>
                </a:gsLst>
                <a:lin ang="13500000"/>
              </a:gradFill>
              <a:effectLst>
                <a:outerShdw dist="153753" dir="2700000" blurRad="0" rotWithShape="0">
                  <a:srgbClr val="ff6600"/>
                </a:outerShdw>
              </a:effectLst>
              <a:latin typeface="ALAWI-3-39"/>
              <a:ea typeface="ALAWI-3-39"/>
            </a:endParaRPr>
          </a:p>
        </p:txBody>
      </p:sp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1828800" y="3200400"/>
            <a:ext cx="6324480" cy="300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5000"/>
                            </p:stCondLst>
                            <p:childTnLst>
                              <p:par>
                                <p:cTn id="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ASHRE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952520" y="304920"/>
            <a:ext cx="3048120" cy="76176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600" spc="-1" strike="noStrike">
                <a:solidFill>
                  <a:srgbClr val="ffffff"/>
                </a:solidFill>
                <a:latin typeface="Times New Roman"/>
              </a:rPr>
              <a:t>القبعة البيضاء</a:t>
            </a:r>
            <a:r>
              <a:rPr b="0" lang="ar-SA" sz="5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5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066680" y="1295280"/>
            <a:ext cx="777240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محايد ( منطق ، رياضيات ، الحقائق ، المعلومات ، البيانات ، الكمبيوتر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يستخدمها : الطلاب – السياسيون – الشئون المالية – المحامين – القضاة- المهندسين 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-40212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القبعة الحمراء : التفكير العاطف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    ( العواطف – المشاعر – الأحاسيس – الحدس والتخمين</a:t>
            </a: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3200" spc="-1" strike="noStrike">
                <a:solidFill>
                  <a:srgbClr val="912813"/>
                </a:solidFill>
                <a:latin typeface="Times New Roman"/>
              </a:rPr>
              <a:t>  *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</a:rPr>
              <a:t>القبعة الصفراء : التفكير الإيجابي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000000"/>
                </a:solidFill>
                <a:latin typeface="Times New Roman"/>
              </a:rPr>
              <a:t>    التفاؤل – النظرة الإيجابية – حسن الظن بالله – التأمل – الأحلام</a:t>
            </a:r>
            <a:r>
              <a:rPr b="0" lang="ar-SA" sz="3200" spc="-1" strike="noStrike">
                <a:solidFill>
                  <a:srgbClr val="fac164"/>
                </a:solidFill>
                <a:latin typeface="Times New Roman"/>
                <a:ea typeface="MCS Gulf S_U normal."/>
              </a:rPr>
              <a:t>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402120"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13" dur="indefinite" restart="never" nodeType="tmRoot">
          <p:childTnLst>
            <p:seq>
              <p:cTn id="814" dur="indefinite" nodeType="mainSeq">
                <p:childTnLst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9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0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5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6" dur="300" fill="hold"/>
                                        <p:tgtEl>
                                          <p:spTgt spid="1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1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2" dur="300" fill="hold"/>
                                        <p:tgtEl>
                                          <p:spTgt spid="1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7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8" dur="300" fill="hold"/>
                                        <p:tgtEl>
                                          <p:spTgt spid="1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3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4" dur="300" fill="hold"/>
                                        <p:tgtEl>
                                          <p:spTgt spid="1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5" fill="hold">
                      <p:stCondLst>
                        <p:cond delay="indefinite"/>
                      </p:stCondLst>
                      <p:childTnLst>
                        <p:par>
                          <p:cTn id="846" fill="hold">
                            <p:stCondLst>
                              <p:cond delay="0"/>
                            </p:stCondLst>
                            <p:childTnLst>
                              <p:par>
                                <p:cTn id="8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9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0" dur="300" fill="hold"/>
                                        <p:tgtEl>
                                          <p:spTgt spid="1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300" fill="hold"/>
                                        <p:tgtEl>
                                          <p:spTgt spid="1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066680" y="2264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ar-SA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1066680" y="838080"/>
            <a:ext cx="7772400" cy="5378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القبعة السوداء</a:t>
            </a:r>
            <a:r>
              <a:rPr b="0" lang="ar-SA" sz="32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: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تفكير السلب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( التشاؤم – النظرة السلبية)      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كيف يكون النقد بناءً ؟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                                                              (*محدداً لا عاماً  * صف السلوك ولا تقيم الذات * استخدم نحن بدل من أنت * صف السلوك ولاتفسر مارواء السلوك * احذر من النقد أمام الآخرين * افترض الخير في نفسك والآخرين * الثقة أساس لتبادل الحوار *اختر الوقت المناسب للنقد البن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القبعة الخضراء: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</a:t>
            </a: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لتفكير الإبداعي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  ( تطوير الأفكار – الجديد من الأفكار – البحث عن بدائل )                                       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القبعة الزرقاء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 التفكير الموجه ” المسيطر ” ( القائد – التنظيم – السيطرة – التنسيق – التلخيص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ff00ff"/>
                </a:solidFill>
                <a:latin typeface="Times New Roman"/>
              </a:rPr>
              <a:t>الق</a:t>
            </a:r>
            <a:r>
              <a:rPr b="1" lang="ar-SA" sz="2400" spc="-1" strike="noStrike">
                <a:solidFill>
                  <a:srgbClr val="339933"/>
                </a:solidFill>
                <a:latin typeface="Times New Roman"/>
              </a:rPr>
              <a:t>بع</a:t>
            </a:r>
            <a:r>
              <a:rPr b="1" lang="ar-SA" sz="2400" spc="-1" strike="noStrike">
                <a:solidFill>
                  <a:srgbClr val="2a3d7a"/>
                </a:solidFill>
                <a:latin typeface="Times New Roman"/>
              </a:rPr>
              <a:t>ة ال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مزي</a:t>
            </a:r>
            <a:r>
              <a:rPr b="1" lang="ar-SA" sz="2400" spc="-1" strike="noStrike">
                <a:solidFill>
                  <a:srgbClr val="912813"/>
                </a:solidFill>
                <a:latin typeface="Times New Roman"/>
              </a:rPr>
              <a:t>فة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 :التفكير الخاطئ ( أحلام – أماني – وهم – الإدارة بالمزاج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57" dur="indefinite" restart="never" nodeType="tmRoot">
          <p:childTnLst>
            <p:seq>
              <p:cTn id="858" dur="indefinite" nodeType="mainSeq">
                <p:childTnLst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3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4" dur="30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9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0" dur="30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1" fill="hold">
                      <p:stCondLst>
                        <p:cond delay="indefinite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5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6" dur="30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1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2" dur="300" fill="hold"/>
                                        <p:tgtEl>
                                          <p:spTgt spid="1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066680" y="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10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طرق تجعلك أكثر إبداعاً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066680" y="1142640"/>
            <a:ext cx="7772400" cy="507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7000"/>
          </a:bodyPr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قض وقتاً مع المبدعين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قصص ومواقف عن الإبداع والمبدعي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قرأ القرآن الكريم كل يوم وافهم ما تقرأ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فترض أن كل شئ في الحياة ممكن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ضحك فرفش ... </a:t>
            </a: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اقرأ الطرف واطلع على الرسوم الكاريكات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4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اكتب كل شئ إيجابي وممكن أن تقوم به ، </a:t>
            </a:r>
            <a:r>
              <a:rPr b="1" lang="ar-SA" sz="2000" spc="-1" strike="noStrike">
                <a:solidFill>
                  <a:srgbClr val="5b5249"/>
                </a:solidFill>
                <a:latin typeface="Times New Roman"/>
              </a:rPr>
              <a:t>مثل عندي قدرة على الإصغاء</a:t>
            </a:r>
            <a:endParaRPr b="0" lang="en-US" sz="20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كتب قوائم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تخيل أن عقلك مثل الباب المغلق بقفل مفتاح هذا القفل عندك أنت فقط ، الآن ضع المفتاح داخل القفل ، افتح الباب و........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351720" indent="-35172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800" spc="-1" strike="noStrike">
                <a:solidFill>
                  <a:srgbClr val="5b5249"/>
                </a:solidFill>
                <a:latin typeface="Times New Roman"/>
              </a:rPr>
              <a:t>أذهب لصلاة الجماعة ماشياً على رجليك أو تحرك في مكان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883" dur="indefinite" restart="never" nodeType="tmRoot">
          <p:childTnLst>
            <p:seq>
              <p:cTn id="884" dur="indefinite" nodeType="mainSeq">
                <p:childTnLst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3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4" dur="5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9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0" dur="500" fill="hold"/>
                                        <p:tgtEl>
                                          <p:spTgt spid="1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5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1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1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2" dur="500" fill="hold"/>
                                        <p:tgtEl>
                                          <p:spTgt spid="1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7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8" dur="500" fill="hold"/>
                                        <p:tgtEl>
                                          <p:spTgt spid="1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3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4" dur="500" fill="hold"/>
                                        <p:tgtEl>
                                          <p:spTgt spid="1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5" fill="hold">
                      <p:stCondLst>
                        <p:cond delay="indefinite"/>
                      </p:stCondLst>
                      <p:childTnLst>
                        <p:par>
                          <p:cTn id="926" fill="hold">
                            <p:stCondLst>
                              <p:cond delay="0"/>
                            </p:stCondLst>
                            <p:childTnLst>
                              <p:par>
                                <p:cTn id="9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9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0" dur="500" fill="hold"/>
                                        <p:tgtEl>
                                          <p:spTgt spid="1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1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1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3716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استراتيجيات الخمس لإدارة الإبداع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1066680" y="1371600"/>
            <a:ext cx="7772400" cy="484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415800" indent="-415800" algn="r" rtl="1"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تى تنجح أي مؤسسة في إدارة العملية الإبداعية لا بد لها أن تلتفت إلى خمس استراتيجيات هي :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1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اعتبار الإبداع أحد الموارد الرئيسية التي ينبغي أن تدار من قبل الإدارة وعدم ترك العملية الإبداعية للصدف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2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ينبغي الاعتقاد بأن جميع الأفراد لخم قدرة على الإبداع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3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جعل عملية الإبداع عملية واضحة وسهلة للأفراد مع ضرورة إقناعهم بقدرتهم على الإبداع وتدريبهم على ذلك 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4</a:t>
            </a: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- توجيه العملية الإبداعية لتكون إحدى الحاجات الرئيسية والإستراتيجية للعمل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-415800" algn="r" rtl="1">
              <a:spcBef>
                <a:spcPts val="700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5b5249"/>
                </a:solidFill>
                <a:latin typeface="Times New Roman"/>
              </a:rPr>
              <a:t>إحداث وصناعة بيئة ثقافية ترفع من قيمة الإبداع في المؤسسة</a:t>
            </a: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  <a:p>
            <a:pPr marL="415800" indent="0" algn="r" rtl="1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0" fill="hold">
                      <p:stCondLst>
                        <p:cond delay="indefinite"/>
                      </p:stCondLst>
                      <p:childTnLst>
                        <p:par>
                          <p:cTn id="951" fill="hold">
                            <p:stCondLst>
                              <p:cond delay="0"/>
                            </p:stCondLst>
                            <p:childTnLst>
                              <p:par>
                                <p:cTn id="9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4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5" dur="300" fill="hold"/>
                                        <p:tgtEl>
                                          <p:spTgt spid="2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300" fill="hold"/>
                                        <p:tgtEl>
                                          <p:spTgt spid="2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300" fill="hold"/>
                                        <p:tgtEl>
                                          <p:spTgt spid="2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2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3" dur="300" fill="hold"/>
                                        <p:tgtEl>
                                          <p:spTgt spid="2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4" fill="hold">
                      <p:stCondLst>
                        <p:cond delay="indefinite"/>
                      </p:stCondLst>
                      <p:childTnLst>
                        <p:par>
                          <p:cTn id="975" fill="hold">
                            <p:stCondLst>
                              <p:cond delay="0"/>
                            </p:stCondLst>
                            <p:childTnLst>
                              <p:par>
                                <p:cTn id="9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8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9" dur="300" fill="hold"/>
                                        <p:tgtEl>
                                          <p:spTgt spid="2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0" fill="hold">
                      <p:stCondLst>
                        <p:cond delay="indefinite"/>
                      </p:stCondLst>
                      <p:childTnLst>
                        <p:par>
                          <p:cTn id="981" fill="hold">
                            <p:stCondLst>
                              <p:cond delay="0"/>
                            </p:stCondLst>
                            <p:childTnLst>
                              <p:par>
                                <p:cTn id="9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4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5" dur="300" fill="hold"/>
                                        <p:tgtEl>
                                          <p:spTgt spid="2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20040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معوقات الإبداع</a:t>
            </a: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1066680" y="990720"/>
            <a:ext cx="7772400" cy="522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شعور بالنقص وابتلاء بالإيحاءات السلبية (أنا ضعيف – مستحيل ....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لثقة بالنفس   * الجهل والابتعاد عن طلب اعلم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وف من الاستهزاء والنقد  * ضعف الهمة والرضى بالدون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نعدام أو ضعف نفسية التحدي والمجازفة  * الخوف على الرزق والأجل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خجل والاستحياء من الرؤساء    * الانغماس في الشهوات والمفاسد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الخوف من الفشل   * سرقة جهود الآخرين وأفكارهم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جهل الرؤساء وجمود تفكيرهم ومحاربتهم للأفكار الإبداعية والتغير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 انعدام التشجيع وضعف الحوافز المقدمة للمبدعين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ربية السلبية وقتل روح الإبداع * الانشغال الكثير وعدم التفرغ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عدم استغلال الأوقات  * الرضى بالواقع والاطمئنان له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جمود على الخطط وعدم المرونة    * نقص المعلوم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marL="361080" indent="-361080" algn="r" rtl="1">
              <a:lnSpc>
                <a:spcPct val="90000"/>
              </a:lnSpc>
              <a:spcBef>
                <a:spcPts val="601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2400" spc="-1" strike="noStrike">
                <a:solidFill>
                  <a:srgbClr val="5b5249"/>
                </a:solidFill>
                <a:latin typeface="Times New Roman"/>
              </a:rPr>
              <a:t>* التشاؤم والنظر بمنظار أسود  * عدم استشعار المسئولية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986" dur="indefinite" restart="never" nodeType="tmRoot">
          <p:childTnLst>
            <p:seq>
              <p:cTn id="987" dur="indefinite" nodeType="mainSeq">
                <p:childTnLst>
                  <p:par>
                    <p:cTn id="988" fill="hold">
                      <p:stCondLst>
                        <p:cond delay="indefinite"/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2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3" dur="300" fill="hold"/>
                                        <p:tgtEl>
                                          <p:spTgt spid="2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4" fill="hold">
                      <p:stCondLst>
                        <p:cond delay="indefinite"/>
                      </p:stCondLst>
                      <p:childTnLst>
                        <p:par>
                          <p:cTn id="995" fill="hold">
                            <p:stCondLst>
                              <p:cond delay="0"/>
                            </p:stCondLst>
                            <p:childTnLst>
                              <p:par>
                                <p:cTn id="9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8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9" dur="300" fill="hold"/>
                                        <p:tgtEl>
                                          <p:spTgt spid="2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0" fill="hold">
                      <p:stCondLst>
                        <p:cond delay="indefinite"/>
                      </p:stCondLst>
                      <p:childTnLst>
                        <p:par>
                          <p:cTn id="1001" fill="hold">
                            <p:stCondLst>
                              <p:cond delay="0"/>
                            </p:stCondLst>
                            <p:childTnLst>
                              <p:par>
                                <p:cTn id="10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4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5" dur="300" fill="hold"/>
                                        <p:tgtEl>
                                          <p:spTgt spid="2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300" fill="hold"/>
                                        <p:tgtEl>
                                          <p:spTgt spid="2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6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7" dur="300" fill="hold"/>
                                        <p:tgtEl>
                                          <p:spTgt spid="2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8" fill="hold">
                      <p:stCondLst>
                        <p:cond delay="indefinite"/>
                      </p:stCondLst>
                      <p:childTnLst>
                        <p:par>
                          <p:cTn id="1019" fill="hold">
                            <p:stCondLst>
                              <p:cond delay="0"/>
                            </p:stCondLst>
                            <p:childTnLst>
                              <p:par>
                                <p:cTn id="10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2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3" dur="300" fill="hold"/>
                                        <p:tgtEl>
                                          <p:spTgt spid="2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4" fill="hold">
                      <p:stCondLst>
                        <p:cond delay="indefinite"/>
                      </p:stCondLst>
                      <p:childTnLst>
                        <p:par>
                          <p:cTn id="1025" fill="hold">
                            <p:stCondLst>
                              <p:cond delay="0"/>
                            </p:stCondLst>
                            <p:childTnLst>
                              <p:par>
                                <p:cTn id="10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8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9" dur="300" fill="hold"/>
                                        <p:tgtEl>
                                          <p:spTgt spid="2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0" fill="hold">
                      <p:stCondLst>
                        <p:cond delay="indefinite"/>
                      </p:stCondLst>
                      <p:childTnLst>
                        <p:par>
                          <p:cTn id="1031" fill="hold">
                            <p:stCondLst>
                              <p:cond delay="0"/>
                            </p:stCondLst>
                            <p:childTnLst>
                              <p:par>
                                <p:cTn id="10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4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5" dur="300" fill="hold"/>
                                        <p:tgtEl>
                                          <p:spTgt spid="2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6" fill="hold">
                      <p:stCondLst>
                        <p:cond delay="indefinite"/>
                      </p:stCondLst>
                      <p:childTnLst>
                        <p:par>
                          <p:cTn id="1037" fill="hold">
                            <p:stCondLst>
                              <p:cond delay="0"/>
                            </p:stCondLst>
                            <p:childTnLst>
                              <p:par>
                                <p:cTn id="10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0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1" dur="300" fill="hold"/>
                                        <p:tgtEl>
                                          <p:spTgt spid="2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6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7" dur="300" fill="hold"/>
                                        <p:tgtEl>
                                          <p:spTgt spid="20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2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3" dur="300" fill="hold"/>
                                        <p:tgtEl>
                                          <p:spTgt spid="20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4" fill="hold">
                      <p:stCondLst>
                        <p:cond delay="indefinite"/>
                      </p:stCondLst>
                      <p:childTnLst>
                        <p:par>
                          <p:cTn id="1055" fill="hold">
                            <p:stCondLst>
                              <p:cond delay="0"/>
                            </p:stCondLst>
                            <p:childTnLst>
                              <p:par>
                                <p:cTn id="10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8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9" dur="300" fill="hold"/>
                                        <p:tgtEl>
                                          <p:spTgt spid="20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0" fill="hold">
                      <p:stCondLst>
                        <p:cond delay="indefinite"/>
                      </p:stCondLst>
                      <p:childTnLst>
                        <p:par>
                          <p:cTn id="1061" fill="hold">
                            <p:stCondLst>
                              <p:cond delay="0"/>
                            </p:stCondLst>
                            <p:childTnLst>
                              <p:par>
                                <p:cTn id="10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2514600" y="-360"/>
            <a:ext cx="45720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4400" spc="-1" strike="noStrike">
                <a:solidFill>
                  <a:srgbClr val="2a3d7a"/>
                </a:solidFill>
                <a:latin typeface="Times New Roman"/>
              </a:rPr>
              <a:t>الإبداع والسدود الستة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914400" y="10666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4000"/>
          </a:bodyPr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عباقرة الناجحون هم فقط الذين يمكن أن يبدعوا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تحتاج أن تعاني وتتعب وتجتهد كثيراً حتى تكون مبدعاً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شباب هم فقط أصحاب الأفكارالإبداعية</a:t>
            </a: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0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يحتاج إلى كثير من الجهود والأموال والأوقات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نوع من الرفاهية لا يستطيعها كثير من الناس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  <a:p>
            <a:pPr marL="338040" indent="-338040" algn="r" rtl="1">
              <a:spcBef>
                <a:spcPts val="799"/>
              </a:spcBef>
              <a:buClr>
                <a:srgbClr val="a50021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3200" spc="-1" strike="noStrike">
                <a:solidFill>
                  <a:srgbClr val="5b5249"/>
                </a:solidFill>
                <a:latin typeface="Times New Roman"/>
              </a:rPr>
              <a:t>الإبداع خاص بالرجال أو خاص بالنساء </a:t>
            </a:r>
            <a:endParaRPr b="0" lang="en-US" sz="32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065" dur="indefinite" restart="never" nodeType="tmRoot">
          <p:childTnLst>
            <p:seq>
              <p:cTn id="1066" dur="indefinite" nodeType="mainSeq">
                <p:childTnLst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1" fill="hold">
                      <p:stCondLst>
                        <p:cond delay="indefinite"/>
                      </p:stCondLst>
                      <p:childTnLst>
                        <p:par>
                          <p:cTn id="1072" fill="hold">
                            <p:stCondLst>
                              <p:cond delay="0"/>
                            </p:stCondLst>
                            <p:childTnLst>
                              <p:par>
                                <p:cTn id="10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5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6" dur="500" fill="hold"/>
                                        <p:tgtEl>
                                          <p:spTgt spid="2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fill="hold">
                      <p:stCondLst>
                        <p:cond delay="indefinite"/>
                      </p:stCondLst>
                      <p:childTnLst>
                        <p:par>
                          <p:cTn id="1078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1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2" dur="500" fill="hold"/>
                                        <p:tgtEl>
                                          <p:spTgt spid="2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7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8" dur="500" fill="hold"/>
                                        <p:tgtEl>
                                          <p:spTgt spid="2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9" fill="hold">
                      <p:stCondLst>
                        <p:cond delay="indefinite"/>
                      </p:stCondLst>
                      <p:childTnLst>
                        <p:par>
                          <p:cTn id="1090" fill="hold">
                            <p:stCondLst>
                              <p:cond delay="0"/>
                            </p:stCondLst>
                            <p:childTnLst>
                              <p:par>
                                <p:cTn id="10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3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4" dur="500" fill="hold"/>
                                        <p:tgtEl>
                                          <p:spTgt spid="2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5" fill="hold">
                      <p:stCondLst>
                        <p:cond delay="indefinite"/>
                      </p:stCondLst>
                      <p:childTnLst>
                        <p:par>
                          <p:cTn id="1096" fill="hold">
                            <p:stCondLst>
                              <p:cond delay="0"/>
                            </p:stCondLst>
                            <p:childTnLst>
                              <p:par>
                                <p:cTn id="10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9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0" dur="500" fill="hold"/>
                                        <p:tgtEl>
                                          <p:spTgt spid="2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1" fill="hold">
                      <p:stCondLst>
                        <p:cond delay="indefinite"/>
                      </p:stCondLst>
                      <p:childTnLst>
                        <p:par>
                          <p:cTn id="1102" fill="hold">
                            <p:stCondLst>
                              <p:cond delay="0"/>
                            </p:stCondLst>
                            <p:childTnLst>
                              <p:par>
                                <p:cTn id="1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5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6" dur="500" fill="hold"/>
                                        <p:tgtEl>
                                          <p:spTgt spid="2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914400" y="304920"/>
            <a:ext cx="7467480" cy="761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00ff"/>
                    </a:gs>
                    <a:gs pos="100000">
                      <a:srgbClr val="66ffff"/>
                    </a:gs>
                  </a:gsLst>
                  <a:path path="rect">
                    <a:fillToRect l="50000" t="50000" r="50000" b="50000"/>
                  </a:path>
                </a:gradFill>
                <a:effectLst>
                  <a:outerShdw dist="17819" dir="2700000" blurRad="0" rotWithShape="0">
                    <a:srgbClr val="000098"/>
                  </a:outerShdw>
                </a:effectLst>
                <a:latin typeface="Times New Roman"/>
              </a:rPr>
              <a:t>لماذا  التفكير الإبداعي مـهم ؟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ff"/>
                  </a:gs>
                  <a:gs pos="100000">
                    <a:srgbClr val="66ffff"/>
                  </a:gs>
                </a:gsLst>
                <a:path path="rect">
                  <a:fillToRect l="50000" t="50000" r="50000" b="50000"/>
                </a:path>
              </a:gradFill>
              <a:effectLst>
                <a:outerShdw dist="17819" dir="2700000" blurRad="0" rotWithShape="0">
                  <a:srgbClr val="000098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98" name=""/>
          <p:cNvSpPr txBox="1"/>
          <p:nvPr/>
        </p:nvSpPr>
        <p:spPr>
          <a:xfrm>
            <a:off x="1371600" y="1371600"/>
            <a:ext cx="73915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1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لأن الإبداع قناة جديدة للإكتشافات الجديدة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1676520" y="2514600"/>
            <a:ext cx="708660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2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7"/>
                  <a:srcRect/>
                  <a:tile tx="0" ty="0" sx="100000" sy="100000" algn="ctr"/>
                </a:blipFill>
                <a:latin typeface="Arial"/>
              </a:rPr>
              <a:t>معبراً مضئياً للنجاح والتفوق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1828800" y="3581280"/>
            <a:ext cx="6934320" cy="990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3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1"/>
                  <a:srcRect/>
                  <a:tile tx="0" ty="0" sx="100000" sy="100000" algn="ctr"/>
                </a:blipFill>
                <a:latin typeface="Arial"/>
              </a:rPr>
              <a:t>لنحقق الأهداف بسرعة وكفاءة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2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2685960" y="3962520"/>
            <a:ext cx="6077160" cy="1600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4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5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6"/>
                  <a:srcRect/>
                  <a:tile tx="0" ty="0" sx="100000" sy="100000" algn="ctr"/>
                </a:blipFill>
                <a:latin typeface="Arial"/>
              </a:rPr>
              <a:t>4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7"/>
                  <a:srcRect/>
                  <a:tile tx="0" ty="0" sx="100000" sy="100000" algn="ctr"/>
                </a:blipFill>
                <a:latin typeface="Arial"/>
              </a:rPr>
              <a:t>التجديد وكسر الروتين 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18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19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2762280" y="4800600"/>
            <a:ext cx="607680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0"/>
                  <a:srcRect/>
                  <a:tile tx="0" ty="0" sx="100000" sy="100000" algn="ctr"/>
                </a:blipFill>
                <a:latin typeface="Arial"/>
              </a:rPr>
              <a:t> 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1"/>
                <a:srcRect/>
                <a:tile tx="0" ty="0" sx="100000" sy="100000" algn="ctr"/>
              </a:blipFill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2"/>
                  <a:srcRect/>
                  <a:tile tx="0" ty="0" sx="100000" sy="100000" algn="ctr"/>
                </a:blipFill>
                <a:latin typeface="Arial"/>
              </a:rPr>
              <a:t>5- </a:t>
            </a:r>
            <a:r>
              <a:rPr b="0" lang="hi-IN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3"/>
                  <a:srcRect/>
                  <a:tile tx="0" ty="0" sx="100000" sy="100000" algn="ctr"/>
                </a:blipFill>
                <a:latin typeface="Arial"/>
              </a:rPr>
              <a:t>لنحقق ذواتنا</a:t>
            </a:r>
            <a:r>
              <a:rPr b="1" lang="en-US" sz="2400" spc="1" strike="noStrike">
                <a:ln w="9360">
                  <a:solidFill>
                    <a:srgbClr val="ff6600"/>
                  </a:solidFill>
                  <a:miter/>
                </a:ln>
                <a:blipFill rotWithShape="0">
                  <a:blip r:embed="rId24"/>
                  <a:srcRect/>
                  <a:tile tx="0" ty="0" sx="100000" sy="100000" algn="ctr"/>
                </a:blipFill>
                <a:latin typeface="Arial"/>
              </a:rPr>
              <a:t>0</a:t>
            </a:r>
            <a:endParaRPr b="1" lang="en-US" sz="2400" spc="1" strike="noStrike">
              <a:ln w="9360">
                <a:solidFill>
                  <a:srgbClr val="ff6600"/>
                </a:solidFill>
                <a:miter/>
              </a:ln>
              <a:blipFill rotWithShape="0">
                <a:blip r:embed="rId25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CLAP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143000" y="304920"/>
            <a:ext cx="716292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ffff0b"/>
                    </a:gs>
                    <a:gs pos="50000">
                      <a:srgbClr val="ff4013"/>
                    </a:gs>
                    <a:gs pos="100000">
                      <a:srgbClr val="ffff0b"/>
                    </a:gs>
                  </a:gsLst>
                  <a:lin ang="5400000"/>
                </a:gradFill>
                <a:latin typeface="Al-Kharashi 26"/>
              </a:rPr>
              <a:t>ماهـو الإبـداع ؟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ffff0b"/>
                  </a:gs>
                  <a:gs pos="50000">
                    <a:srgbClr val="ff4013"/>
                  </a:gs>
                  <a:gs pos="100000">
                    <a:srgbClr val="ffff0b"/>
                  </a:gs>
                </a:gsLst>
                <a:lin ang="5400000"/>
              </a:gradFill>
              <a:latin typeface="Al-Kharashi 26"/>
              <a:ea typeface="Al-Kharashi 26"/>
            </a:endParaRPr>
          </a:p>
        </p:txBody>
      </p:sp>
      <p:sp>
        <p:nvSpPr>
          <p:cNvPr id="104" name=""/>
          <p:cNvSpPr txBox="1"/>
          <p:nvPr/>
        </p:nvSpPr>
        <p:spPr>
          <a:xfrm>
            <a:off x="914400" y="1676520"/>
            <a:ext cx="8229600" cy="920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66ffff"/>
                </a:solidFill>
                <a:latin typeface="Times New Roman"/>
              </a:rPr>
              <a:t>النظر إلى المألوف من زاوية جديدة ، شرعية</a:t>
            </a:r>
            <a:endParaRPr b="1" lang="en-US" sz="2400" spc="1" strike="noStrike">
              <a:ln w="12600">
                <a:solidFill>
                  <a:srgbClr val="b2b2b2"/>
                </a:solidFill>
                <a:miter/>
              </a:ln>
              <a:solidFill>
                <a:srgbClr val="66ffff"/>
              </a:solidFill>
              <a:latin typeface="Times New Roman"/>
              <a:ea typeface="Times New Roman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1600200" y="3124080"/>
            <a:ext cx="7086600" cy="933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ff00"/>
                  </a:solidFill>
                  <a:miter/>
                </a:ln>
                <a:solidFill>
                  <a:srgbClr val="ff00ff"/>
                </a:solidFill>
                <a:effectLst>
                  <a:outerShdw dist="107932" dir="13500000" blurRad="0" rotWithShape="0">
                    <a:srgbClr val="868686"/>
                  </a:outerShdw>
                </a:effectLst>
                <a:latin typeface="MCS FREEDOM"/>
              </a:rPr>
              <a:t>مـاهو الإبداع علمياً ؟</a:t>
            </a:r>
            <a:endParaRPr b="0" lang="en-US" sz="2400" spc="1" strike="noStrike">
              <a:ln w="9360">
                <a:solidFill>
                  <a:srgbClr val="00ff00"/>
                </a:solidFill>
                <a:miter/>
              </a:ln>
              <a:solidFill>
                <a:srgbClr val="ff00ff"/>
              </a:solidFill>
              <a:effectLst>
                <a:outerShdw dist="107932" dir="13500000" blurRad="0" rotWithShape="0">
                  <a:srgbClr val="868686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06" name=""/>
          <p:cNvSpPr txBox="1"/>
          <p:nvPr/>
        </p:nvSpPr>
        <p:spPr>
          <a:xfrm>
            <a:off x="1447920" y="4114800"/>
            <a:ext cx="685800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عملية ذهنية مصحوبة بتوتر وانفعال صادق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ينظم بها العقل خبرات الإنسان ومعلومات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بطريقة خلاقة تمكنه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 </a:t>
            </a:r>
            <a:r>
              <a:rPr b="0" lang="hi-IN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من الوصول إلى جديد ومفيد</a:t>
            </a:r>
            <a:r>
              <a:rPr b="0" lang="en-US" sz="40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153753" dir="2700000" blurRad="0" rotWithShape="0">
                    <a:srgbClr val="980098"/>
                  </a:outerShdw>
                </a:effectLst>
                <a:latin typeface="Arial"/>
              </a:rPr>
              <a:t>0</a:t>
            </a:r>
            <a:endParaRPr b="0" lang="en-US" sz="4000" spc="1" strike="noStrike">
              <a:ln w="0">
                <a:noFill/>
              </a:ln>
              <a:solidFill>
                <a:srgbClr val="ff00ff"/>
              </a:solidFill>
              <a:effectLst>
                <a:outerShdw dist="153753" dir="2700000" blurRad="0" rotWithShape="0">
                  <a:srgbClr val="980098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500"/>
                            </p:stCondLst>
                            <p:childTnLst>
                              <p:par>
                                <p:cTn id="8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2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2362320" y="0"/>
            <a:ext cx="4422600" cy="1682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effectLst>
                  <a:outerShdw dist="107932" dir="13500000" blurRad="0" rotWithShape="0">
                    <a:srgbClr val="808080"/>
                  </a:outerShdw>
                </a:effectLst>
                <a:latin typeface="ALAWI-3-58"/>
              </a:rPr>
              <a:t>الأمـية الثالثة!!!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effectLst>
                <a:outerShdw dist="107932" dir="13500000" blurRad="0" rotWithShape="0">
                  <a:srgbClr val="808080"/>
                </a:outerShdw>
              </a:effectLst>
              <a:latin typeface="ALAWI-3-58"/>
              <a:ea typeface="ALAWI-3-58"/>
            </a:endParaRPr>
          </a:p>
        </p:txBody>
      </p:sp>
      <p:sp>
        <p:nvSpPr>
          <p:cNvPr id="108" name=""/>
          <p:cNvSpPr txBox="1"/>
          <p:nvPr/>
        </p:nvSpPr>
        <p:spPr>
          <a:xfrm>
            <a:off x="990720" y="1828800"/>
            <a:ext cx="6933960" cy="144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1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قراءة والكتابة</a:t>
            </a: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1295280" y="2286000"/>
            <a:ext cx="6782040" cy="228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2 - 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imes New Roman"/>
              </a:rPr>
              <a:t>أمية الكمبيوت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imes New Roman"/>
              <a:ea typeface="Times New Roman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62120" y="3505320"/>
            <a:ext cx="7315200" cy="2666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 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3 - </a:t>
            </a: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ff3300"/>
                    </a:gs>
                    <a:gs pos="100000">
                      <a:srgbClr val="ffff00"/>
                    </a:gs>
                  </a:gsLst>
                  <a:path path="rect">
                    <a:fillToRect l="50000" t="50000" r="50000" b="50000"/>
                  </a:path>
                </a:gradFill>
                <a:latin typeface="Traditional Arabic"/>
              </a:rPr>
              <a:t>أمية التفكير</a:t>
            </a:r>
            <a:endParaRPr b="1" lang="en-US" sz="2400" spc="1" strike="noStrike">
              <a:ln w="0">
                <a:noFill/>
              </a:ln>
              <a:gradFill rotWithShape="0">
                <a:gsLst>
                  <a:gs pos="0">
                    <a:srgbClr val="ff3300"/>
                  </a:gs>
                  <a:gs pos="100000">
                    <a:srgbClr val="ffff00"/>
                  </a:gs>
                </a:gsLst>
                <a:path path="rect">
                  <a:fillToRect l="50000" t="50000" r="50000" b="50000"/>
                </a:path>
              </a:gradFill>
              <a:latin typeface="Traditional Arabic"/>
              <a:ea typeface="Traditional Arabic"/>
            </a:endParaRPr>
          </a:p>
        </p:txBody>
      </p:sp>
    </p:spTree>
  </p:cSld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0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5000"/>
                            </p:stCondLst>
                            <p:childTnLst>
                              <p:par>
                                <p:cTn id="10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" fill="hold">
                            <p:stCondLst>
                              <p:cond delay="10000"/>
                            </p:stCondLst>
                            <p:childTnLst>
                              <p:par>
                                <p:cTn id="1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fill="hold">
                            <p:stCondLst>
                              <p:cond delay="1500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 txBox="1"/>
          <p:nvPr/>
        </p:nvSpPr>
        <p:spPr>
          <a:xfrm>
            <a:off x="1981080" y="304920"/>
            <a:ext cx="4721400" cy="151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gradFill rotWithShape="0">
                  <a:gsLst>
                    <a:gs pos="0">
                      <a:srgbClr val="006699"/>
                    </a:gs>
                    <a:gs pos="50000">
                      <a:srgbClr val="3399ff"/>
                    </a:gs>
                    <a:gs pos="100000">
                      <a:srgbClr val="006699"/>
                    </a:gs>
                  </a:gsLst>
                  <a:lin ang="5400000"/>
                </a:gradFill>
                <a:latin typeface="ALAWI-3-58"/>
              </a:rPr>
              <a:t>مجالات الإبـداع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6699"/>
                  </a:gs>
                  <a:gs pos="50000">
                    <a:srgbClr val="3399ff"/>
                  </a:gs>
                  <a:gs pos="100000">
                    <a:srgbClr val="006699"/>
                  </a:gs>
                </a:gsLst>
                <a:lin ang="5400000"/>
              </a:gradFill>
              <a:latin typeface="ALAWI-3-58"/>
              <a:ea typeface="ALAWI-3-58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724280" y="1752480"/>
            <a:ext cx="4038840" cy="510552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380880" y="1752480"/>
            <a:ext cx="4419720" cy="510552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 txBox="1"/>
          <p:nvPr/>
        </p:nvSpPr>
        <p:spPr>
          <a:xfrm>
            <a:off x="6934320" y="1828800"/>
            <a:ext cx="167616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urveUp">
              <a:avLst>
                <a:gd name="adj" fmla="val 403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2600">
                  <a:solidFill>
                    <a:srgbClr val="000000"/>
                  </a:solidFill>
                  <a:miter/>
                </a:ln>
                <a:blipFill rotWithShape="0">
                  <a:blip r:embed="rId4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/>
                  </a:outerShdw>
                </a:effectLst>
                <a:latin typeface="MCS FREEDOM"/>
              </a:rPr>
              <a:t>السلوكيات</a:t>
            </a:r>
            <a:endParaRPr b="0" lang="en-US" sz="2400" spc="1" strike="noStrike">
              <a:ln w="12600">
                <a:solidFill>
                  <a:srgbClr val="000000"/>
                </a:solidFill>
                <a:miter/>
              </a:ln>
              <a:blipFill rotWithShape="0">
                <a:blip r:embed="rId5"/>
                <a:srcRect/>
                <a:tile tx="0" ty="0" sx="100000" sy="100000" algn="ctr"/>
              </a:blipFill>
              <a:effectLst>
                <a:outerShdw dist="40186" dir="1096358" blurRad="0" rotWithShape="0">
                  <a:srgbClr val="808080"/>
                </a:outerShdw>
              </a:effectLst>
              <a:latin typeface="MCS FREEDOM"/>
              <a:ea typeface="MCS FREEDOM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6172200" y="3886200"/>
            <a:ext cx="1066680" cy="838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طب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5029200" y="1981080"/>
            <a:ext cx="1447920" cy="1676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55556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raditional Arabic"/>
              </a:rPr>
              <a:t>الوسائ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raditional Arabic"/>
              <a:ea typeface="Traditional Arabic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3200400" y="4952880"/>
            <a:ext cx="137160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Arial"/>
              </a:rPr>
              <a:t>الفن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Arial"/>
              <a:ea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6934320" y="5410080"/>
            <a:ext cx="1600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ffff00"/>
                  </a:solidFill>
                  <a:miter/>
                </a:ln>
                <a:blipFill rotWithShape="0">
                  <a:blip r:embed="rId6"/>
                  <a:srcRect/>
                  <a:tile tx="0" ty="0" sx="100000" sy="100000" algn="ctr"/>
                </a:blipFill>
                <a:latin typeface="Arial"/>
              </a:rPr>
              <a:t>المنتجات</a:t>
            </a:r>
            <a:endParaRPr b="0" lang="en-US" sz="2400" spc="1" strike="noStrike">
              <a:ln w="9360">
                <a:solidFill>
                  <a:srgbClr val="ffff00"/>
                </a:solidFill>
                <a:miter/>
              </a:ln>
              <a:blipFill rotWithShape="0">
                <a:blip r:embed="rId7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3200400" y="1905120"/>
            <a:ext cx="136224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blipFill rotWithShape="0">
                  <a:blip r:embed="rId8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Times New Roman"/>
              </a:rPr>
              <a:t>النظريات</a:t>
            </a:r>
            <a:endParaRPr b="1" lang="en-US" sz="2400" spc="1" strike="noStrike">
              <a:ln w="0">
                <a:noFill/>
              </a:ln>
              <a:blipFill rotWithShape="0">
                <a:blip r:embed="rId9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0" name=""/>
          <p:cNvSpPr txBox="1"/>
          <p:nvPr/>
        </p:nvSpPr>
        <p:spPr>
          <a:xfrm>
            <a:off x="609480" y="5105520"/>
            <a:ext cx="1228680" cy="1209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0"/>
                  <a:srcRect/>
                  <a:tile tx="0" ty="0" sx="100000" sy="100000" algn="ctr"/>
                </a:blipFill>
                <a:latin typeface="Arial"/>
              </a:rPr>
              <a:t>المفاه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11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4952880" y="5638680"/>
            <a:ext cx="137160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Times New Roman"/>
              </a:rPr>
              <a:t>حل المشاكل</a:t>
            </a:r>
            <a:endParaRPr b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457200" y="1981080"/>
            <a:ext cx="1724040" cy="13716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العلاقات الإنسانية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1828800" y="3581280"/>
            <a:ext cx="144792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Arial"/>
              </a:rPr>
              <a:t>الأدب</a:t>
            </a:r>
            <a:endParaRPr b="0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هل الإبداع ضرورة “ حاجة “ ؟              </a:t>
            </a:r>
            <a:br>
              <a:rPr sz="4400"/>
            </a:br>
            <a:br>
              <a:rPr sz="1000"/>
            </a:br>
            <a:r>
              <a:rPr b="0" lang="ar-SA" sz="4400" spc="-1" strike="noStrike">
                <a:solidFill>
                  <a:srgbClr val="2a3d7a"/>
                </a:solidFill>
                <a:latin typeface="Times New Roman"/>
              </a:rPr>
              <a:t>التنظيم الهرمي لحاجات الإنسا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676520" y="5867280"/>
            <a:ext cx="6400800" cy="459720"/>
          </a:xfrm>
          <a:prstGeom prst="rect">
            <a:avLst/>
          </a:prstGeom>
          <a:solidFill>
            <a:srgbClr val="c3e684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فسيولوجية ( الطعام والشراب والهو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2133720" y="5334120"/>
            <a:ext cx="5486400" cy="8254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أمــن ( الطمأنينة والأمان وغياب الأخطار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2514600" y="4800600"/>
            <a:ext cx="4724280" cy="459720"/>
          </a:xfrm>
          <a:prstGeom prst="rect">
            <a:avLst/>
          </a:prstGeom>
          <a:solidFill>
            <a:srgbClr val="ffff00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حب ( الانتساب - الانتماء 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971800" y="3809880"/>
            <a:ext cx="3581280" cy="825480"/>
          </a:xfrm>
          <a:prstGeom prst="rect">
            <a:avLst/>
          </a:prstGeom>
          <a:solidFill>
            <a:srgbClr val="c9ddf1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الاحترام ( انجاز ، قبول، استحسان   ،   تقدير)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2362320"/>
            <a:ext cx="2895840" cy="1381680"/>
          </a:xfrm>
          <a:prstGeom prst="rect">
            <a:avLst/>
          </a:prstGeom>
          <a:solidFill>
            <a:srgbClr val="b0ae6a"/>
          </a:solidFill>
          <a:ln w="1908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حاجات تحقيق الذات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تحقيق الفرد لامكانياته ) *الابداع * 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143000" y="685800"/>
            <a:ext cx="6248520" cy="1066680"/>
          </a:xfrm>
          <a:prstGeom prst="ellipse">
            <a:avLst/>
          </a:prstGeom>
          <a:gradFill rotWithShape="0">
            <a:gsLst>
              <a:gs pos="0">
                <a:srgbClr val="e6dcac"/>
              </a:gs>
              <a:gs pos="50000">
                <a:srgbClr val="e6dcac"/>
              </a:gs>
              <a:gs pos="100000">
                <a:srgbClr val="e6dcac"/>
              </a:gs>
            </a:gsLst>
            <a:lin ang="8100000"/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06668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1828800" y="914400"/>
            <a:ext cx="495288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ff00"/>
                </a:solidFill>
                <a:effectLst>
                  <a:outerShdw dist="153753" dir="2700000" blurRad="0" rotWithShape="0">
                    <a:srgbClr val="00ff00"/>
                  </a:outerShdw>
                </a:effectLst>
                <a:latin typeface="Arial"/>
              </a:rPr>
              <a:t>خطوات التفكير السليم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ff00"/>
              </a:solidFill>
              <a:effectLst>
                <a:outerShdw dist="153753" dir="2700000" blurRad="0" rotWithShape="0">
                  <a:srgbClr val="00ff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1219320" y="2057400"/>
            <a:ext cx="7162560" cy="600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1- </a:t>
            </a:r>
            <a:r>
              <a:rPr b="0" lang="hi-IN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الاستماع       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2</a:t>
            </a:r>
            <a:r>
              <a:rPr b="0" lang="en-US" sz="24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- الاستفسار</a:t>
            </a:r>
            <a:endParaRPr b="0" lang="en-US" sz="24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1600200" y="2895480"/>
            <a:ext cx="6705720" cy="674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3- </a:t>
            </a:r>
            <a:r>
              <a:rPr b="0" lang="hi-IN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الانصات      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4</a:t>
            </a: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/>
                  </a:outerShdw>
                </a:effectLst>
                <a:latin typeface="Arial"/>
              </a:rPr>
              <a:t>- التذكر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371600" y="3809880"/>
            <a:ext cx="678168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5-</a:t>
            </a:r>
            <a:r>
              <a:rPr b="0" lang="hi-IN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التقويم           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6</a:t>
            </a: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- الاجابة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</p:spTree>
  </p:cSld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DRIVEBY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7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52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2209680" y="762120"/>
            <a:ext cx="4800600" cy="838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ae3b7"/>
              </a:gs>
              <a:gs pos="100000">
                <a:srgbClr val="fbe4ae"/>
              </a:gs>
            </a:gsLst>
            <a:path path="rect">
              <a:fillToRect l="50000" t="50000" r="50000" b="50000"/>
            </a:path>
          </a:gradFill>
          <a:ln w="7632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480" y="68580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 rtl="1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4400" spc="-1" strike="noStrike">
                <a:solidFill>
                  <a:srgbClr val="ff00ff"/>
                </a:solidFill>
                <a:latin typeface="MCS Animals"/>
              </a:rPr>
              <a:t>قاتلات الأفكار العشرون</a:t>
            </a:r>
            <a:endParaRPr b="0" lang="en-US" sz="4400" spc="-1" strike="noStrike">
              <a:solidFill>
                <a:srgbClr val="2a3d7a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38080" y="2286000"/>
            <a:ext cx="7696440" cy="37515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57240">
            <a:solidFill>
              <a:srgbClr val="5b5249"/>
            </a:solidFill>
            <a:miter/>
          </a:ln>
          <a:effectLst>
            <a:outerShdw dist="17819" dir="2700000" blurRad="0" rotWithShape="0">
              <a:srgbClr val="cec8ba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 rtl="1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5b5249"/>
                </a:solidFill>
                <a:latin typeface="Times New Roman"/>
              </a:rPr>
              <a:t>( جربنا هذه الفكرة من قبل * ستستغرق الفكرة وقتاً طويلاً *ستكلف كثير من المال * هذه ليست وظيفتي * هذا ليس من شغلك * لماذا لاتكتب هذه وترفعها لنا *هذا مستحيل * يمكن نطبقها في السنوات القادمة * ربما تكون محقاً ،ولكن *هذه فكرة غبية *عملاؤنا لايرغبون في ذلك *لايمكن عمل ذلك هنا *لا أعتقدأن ذلك مهماً* لا أريد معلومات إضافية * الوضع جيد ولا يحتاج إلى تغيير*إذا لم يكن هناك تغيير فلماذا نغير *مؤسساتنا صغيرة والفكرة أكبر منها *مؤسساتنا كبيرة والفكرة أصغر منها *ليس عندنا وقت الآن أو خلال هذه الفترة * هذه الفكرة تبدو لي بأنها فكرة جنونية</a:t>
            </a:r>
            <a:endParaRPr b="0" lang="en-US" sz="2400" spc="-1" strike="noStrike">
              <a:solidFill>
                <a:srgbClr val="5b5249"/>
              </a:solidFill>
              <a:latin typeface="Times New Roman"/>
            </a:endParaRPr>
          </a:p>
        </p:txBody>
      </p:sp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6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7" dur="3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" presetSubtype="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2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3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doo</cp:lastModifiedBy>
  <dcterms:modified xsi:type="dcterms:W3CDTF">2007-06-09T17:40:00Z</dcterms:modified>
  <cp:revision>3</cp:revision>
  <dc:subject/>
  <dc:title>دورة في التفكير الابداعي</dc:title>
</cp:coreProperties>
</file>