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4.png" ContentType="image/png"/>
  <Override PartName="/ppt/media/image12.wmf" ContentType="image/x-wmf"/>
  <Override PartName="/ppt/media/image6.png" ContentType="image/png"/>
  <Override PartName="/ppt/media/image3.png" ContentType="image/png"/>
  <Override PartName="/ppt/media/DRIVEBY.WAV" ContentType="audio/x-wav"/>
  <Override PartName="/ppt/media/image7.gif" ContentType="image/gif"/>
  <Override PartName="/ppt/media/CHIMES.WAV" ContentType="audio/x-wav"/>
  <Override PartName="/ppt/media/image17.jpeg" ContentType="image/jpeg"/>
  <Override PartName="/ppt/media/APPLAUSE.WAV" ContentType="audio/x-wav"/>
  <Override PartName="/ppt/media/image13.png" ContentType="image/png"/>
  <Override PartName="/ppt/media/image10.gif" ContentType="image/gif"/>
  <Override PartName="/ppt/media/image8.wmf" ContentType="image/x-wmf"/>
  <Override PartName="/ppt/media/CASHREG.WAV" ContentType="audio/x-wav"/>
  <Override PartName="/ppt/media/image25.wmf" ContentType="image/x-wmf"/>
  <Override PartName="/ppt/media/image2.png" ContentType="image/png"/>
  <Override PartName="/ppt/media/image5.png" ContentType="image/png"/>
  <Override PartName="/ppt/media/image1.jpeg" ContentType="image/jpeg"/>
  <Override PartName="/ppt/media/image9.jpeg" ContentType="image/jpeg"/>
  <Override PartName="/ppt/media/image11.png" ContentType="image/png"/>
  <Override PartName="/ppt/media/image14.jpeg" ContentType="image/jpeg"/>
  <Override PartName="/ppt/media/WHOOSH.WAV" ContentType="audio/x-wav"/>
  <Override PartName="/ppt/media/image15.png" ContentType="image/png"/>
  <Override PartName="/ppt/media/image24.jpeg" ContentType="image/jpeg"/>
  <Override PartName="/ppt/media/image16.jpeg" ContentType="image/jpeg"/>
  <Override PartName="/ppt/media/image18.png" ContentType="image/png"/>
  <Override PartName="/ppt/media/image20.png" ContentType="image/png"/>
  <Override PartName="/ppt/media/image21.png" ContentType="image/png"/>
  <Override PartName="/ppt/media/image19.png" ContentType="image/png"/>
  <Override PartName="/ppt/media/image22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1E1-0813-4ADF-A154-A4F42A3C6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42DB3-D3D6-4825-A91D-092B1F6BC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F68EE-E395-40CF-A52D-C243268F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3F846-9437-4156-A405-682B374FF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18B2B-163D-4135-8B0E-D460D91F4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113D7-4E41-46BE-9F8E-3BD7B3D08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47611-9B4D-414C-A590-6F0E33140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A9EE1-2209-455A-9D62-3851F007D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D5ACD-9D09-47DE-B2CD-F68CE858D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0E0978-288C-4DAA-AAF1-2A99E4718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DF42B6-1B85-435D-BDD4-06AB63D44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0D52A-6972-46BB-999A-5898760C5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7741E6-762F-4A71-A44B-D865261C6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079E1-579B-4E41-AD10-10753EAD1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76DD5-44A9-49A4-BA73-2AEC37831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AA4ACA-CF36-44DA-A120-BA2604DA88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5123-F682-4EE4-AFD8-9B50AC5588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545E-4E8C-49F7-A699-A9858A7D9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C8571-1441-43E5-8039-296085D4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D686A-D96C-4863-9DD4-7E1722435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057A7-195A-4DF4-AEE5-D35E4C4D80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9F3CE-ABA1-4D15-B507-1BFCD5F4F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8C15-A26C-46A5-805F-ADCF3A424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62C74-693D-463E-AFB7-4AF68519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 algn="r" rtl="1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 algn="r" rtl="1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43FBE-9501-4474-A3AF-8ADE3EEA4DAE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D24485-D99A-4E61-B30F-6792EC8706A3}" type="slidenum">
              <a:rPr b="0" lang="ar-SA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 rtl="1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 rtl="1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2.wmf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4.jpeg"/><Relationship Id="rId7" Type="http://schemas.openxmlformats.org/officeDocument/2006/relationships/image" Target="../media/image14.jpeg"/><Relationship Id="rId8" Type="http://schemas.openxmlformats.org/officeDocument/2006/relationships/image" Target="../media/image15.png"/><Relationship Id="rId9" Type="http://schemas.openxmlformats.org/officeDocument/2006/relationships/image" Target="../media/image15.png"/><Relationship Id="rId10" Type="http://schemas.openxmlformats.org/officeDocument/2006/relationships/image" Target="../media/image16.jpeg"/><Relationship Id="rId11" Type="http://schemas.openxmlformats.org/officeDocument/2006/relationships/image" Target="../media/image16.jpeg"/><Relationship Id="rId1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image" Target="../media/image18.png"/><Relationship Id="rId11" Type="http://schemas.openxmlformats.org/officeDocument/2006/relationships/image" Target="../media/image18.png"/><Relationship Id="rId12" Type="http://schemas.openxmlformats.org/officeDocument/2006/relationships/image" Target="../media/image18.png"/><Relationship Id="rId13" Type="http://schemas.openxmlformats.org/officeDocument/2006/relationships/image" Target="../media/image18.png"/><Relationship Id="rId14" Type="http://schemas.openxmlformats.org/officeDocument/2006/relationships/image" Target="../media/image18.png"/><Relationship Id="rId15" Type="http://schemas.openxmlformats.org/officeDocument/2006/relationships/image" Target="../media/image18.png"/><Relationship Id="rId16" Type="http://schemas.openxmlformats.org/officeDocument/2006/relationships/image" Target="../media/image18.png"/><Relationship Id="rId17" Type="http://schemas.openxmlformats.org/officeDocument/2006/relationships/image" Target="../media/image18.png"/><Relationship Id="rId18" Type="http://schemas.openxmlformats.org/officeDocument/2006/relationships/image" Target="../media/image18.png"/><Relationship Id="rId19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3.png"/><Relationship Id="rId6" Type="http://schemas.openxmlformats.org/officeDocument/2006/relationships/image" Target="../media/image13.png"/><Relationship Id="rId7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8.png"/><Relationship Id="rId3" Type="http://schemas.openxmlformats.org/officeDocument/2006/relationships/image" Target="../media/image18.png"/><Relationship Id="rId4" Type="http://schemas.openxmlformats.org/officeDocument/2006/relationships/image" Target="../media/image18.png"/><Relationship Id="rId5" Type="http://schemas.openxmlformats.org/officeDocument/2006/relationships/image" Target="../media/image18.png"/><Relationship Id="rId6" Type="http://schemas.openxmlformats.org/officeDocument/2006/relationships/image" Target="../media/image18.png"/><Relationship Id="rId7" Type="http://schemas.openxmlformats.org/officeDocument/2006/relationships/image" Target="../media/image18.png"/><Relationship Id="rId8" Type="http://schemas.openxmlformats.org/officeDocument/2006/relationships/image" Target="../media/image18.png"/><Relationship Id="rId9" Type="http://schemas.openxmlformats.org/officeDocument/2006/relationships/image" Target="../media/image18.png"/><Relationship Id="rId10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5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" descr=""/>
          <p:cNvPicPr/>
          <p:nvPr/>
        </p:nvPicPr>
        <p:blipFill>
          <a:blip r:embed="rId2"/>
          <a:stretch/>
        </p:blipFill>
        <p:spPr>
          <a:xfrm>
            <a:off x="-304920" y="0"/>
            <a:ext cx="9448920" cy="6858000"/>
          </a:xfrm>
          <a:prstGeom prst="rect">
            <a:avLst/>
          </a:prstGeom>
          <a:ln w="0">
            <a:noFill/>
          </a:ln>
        </p:spPr>
      </p:pic>
      <p:sp>
        <p:nvSpPr>
          <p:cNvPr id="137" name=""/>
          <p:cNvSpPr txBox="1"/>
          <p:nvPr/>
        </p:nvSpPr>
        <p:spPr>
          <a:xfrm>
            <a:off x="1981080" y="762120"/>
            <a:ext cx="449604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بسم اللة الرحمن الرحيم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1752480"/>
            <a:ext cx="7010640" cy="2930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بديع السموات والارض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واذا قضى امرا فانما يقول 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لة كن فيكو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"/>
          <p:cNvSpPr/>
          <p:nvPr/>
        </p:nvSpPr>
        <p:spPr>
          <a:xfrm>
            <a:off x="1219320" y="1600200"/>
            <a:ext cx="2286000" cy="36576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 flipH="1">
            <a:off x="5790600" y="1676520"/>
            <a:ext cx="2438280" cy="35049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8120" y="2438280"/>
            <a:ext cx="3124080" cy="1752840"/>
          </a:xfrm>
          <a:prstGeom prst="ellipse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2</a:t>
            </a:r>
            <a:r>
              <a:rPr b="1" lang="ar-SA" sz="3200" spc="-1" strike="noStrike">
                <a:solidFill>
                  <a:srgbClr val="0000cc"/>
                </a:solidFill>
                <a:latin typeface="Times New Roman"/>
              </a:rPr>
              <a:t>- أهمية التفكير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0880" y="990720"/>
            <a:ext cx="8077320" cy="9903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تواجه المنظمات حالياً ومستقبلاً مرحلة صعبة من التغيير</a:t>
            </a:r>
            <a:r>
              <a:rPr b="1" lang="en-US" sz="2800" spc="-1" strike="noStrike">
                <a:solidFill>
                  <a:srgbClr val="660066"/>
                </a:solidFill>
                <a:latin typeface="Times New Roman"/>
                <a:ea typeface="AL-Mohanad Bold"/>
              </a:rPr>
              <a:t>.</a:t>
            </a:r>
            <a:r>
              <a:rPr b="0" lang="en-US" sz="2800" spc="-1" strike="noStrike">
                <a:solidFill>
                  <a:srgbClr val="660066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33520" y="1905120"/>
            <a:ext cx="8001000" cy="990360"/>
          </a:xfrm>
          <a:prstGeom prst="rect">
            <a:avLst/>
          </a:prstGeom>
          <a:solidFill>
            <a:srgbClr val="ccffcc"/>
          </a:solidFill>
          <a:ln w="57240">
            <a:solidFill>
              <a:srgbClr val="8888ae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حاجة المنظمات إلى زيادة قدرتها التنافس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وتقديم خدماتها بشكل أفضل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dvertisingLight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2895480"/>
            <a:ext cx="7924680" cy="12193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797b7"/>
                </a:solidFill>
                <a:latin typeface="Times New Roman"/>
                <a:ea typeface="Times New Roman"/>
              </a:rPr>
              <a:t>  </a:t>
            </a: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زيد الإبداع من تقدم المنظمات, وقابليتها للتكي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ea typeface="AL-Mohanad Bold"/>
              </a:rPr>
              <a:t> مع المتغيرات وزيادة المرونة في عملياتها الإدارية والفنية المستمرة</a:t>
            </a:r>
            <a:r>
              <a:rPr b="1" lang="ar-SA" sz="2800" spc="-1" strike="noStrike">
                <a:solidFill>
                  <a:srgbClr val="ff0000"/>
                </a:solidFill>
                <a:latin typeface="Times New Roman"/>
                <a:ea typeface="AL-Mohanad Bold"/>
              </a:rPr>
              <a:t>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4114800"/>
            <a:ext cx="7924680" cy="114300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دفع المنظمات للحصول على مراكز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التميز والتقدم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09480" y="5257800"/>
            <a:ext cx="7848720" cy="990720"/>
          </a:xfrm>
          <a:prstGeom prst="rect">
            <a:avLst/>
          </a:prstGeom>
          <a:solidFill>
            <a:srgbClr val="ccffcc"/>
          </a:solidFill>
          <a:ln w="57240">
            <a:solidFill>
              <a:srgbClr val="000000"/>
            </a:solidFill>
            <a:miter/>
          </a:ln>
          <a:effectLst>
            <a:outerShdw dist="107932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يساعد الإبداع في تحقيق الذات والشعو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9966ff"/>
                </a:solidFill>
                <a:latin typeface="Times New Roman"/>
                <a:cs typeface="AL-Mohanad Bold"/>
              </a:rPr>
              <a:t>بالإنجاز لجميع العاملين في المنظمة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0"/>
            <a:ext cx="6858000" cy="60948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600" spc="-1" strike="noStrike">
                <a:solidFill>
                  <a:srgbClr val="660066"/>
                </a:solidFill>
                <a:latin typeface="Times New Roman"/>
                <a:cs typeface="Times New Roman"/>
              </a:rPr>
              <a:t>أهمية التفكير الإبـداعي</a:t>
            </a: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85800" y="304920"/>
            <a:ext cx="2133720" cy="685800"/>
          </a:xfrm>
          <a:custGeom>
            <a:avLst/>
            <a:gdLst>
              <a:gd name="textAreaLeft" fmla="*/ 285840 w 2133720"/>
              <a:gd name="textAreaRight" fmla="*/ 1847880 w 21337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8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8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0" y="0"/>
            <a:ext cx="9144000" cy="6856560"/>
          </a:xfrm>
          <a:prstGeom prst="rect">
            <a:avLst/>
          </a:prstGeom>
          <a:noFill/>
          <a:ln w="9360">
            <a:solidFill>
              <a:srgbClr val="c006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عندما تسير السفينة فى نهر هادى فأنة من السه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على قائدها ان يكون فعالا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حتى فى ظل الاختلافات  الفردية بين الطاقم وبين الركا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لكن عندما تخرج السفينة الى محيط مضطر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تبدأ المياه فى غزو السفين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ea typeface="AdvertisingBold"/>
              </a:rPr>
              <a:t> ويفكر البعض فى ترك السفينة ويكتئب الآخرون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66ff"/>
                </a:solidFill>
                <a:latin typeface="Times New Roman"/>
                <a:cs typeface="AdvertisingBold"/>
              </a:rPr>
              <a:t>وتتضارب القرار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006c0"/>
                </a:solidFill>
                <a:latin typeface="Times New Roman"/>
                <a:cs typeface="AdvertisingBold"/>
              </a:rPr>
              <a:t>فأننا فى حاجة الى فكر جديد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3276720" y="4952880"/>
            <a:ext cx="2495520" cy="1067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فماذا نحن فاعلون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" descr="Image number: 200116474-001"/>
          <p:cNvPicPr/>
          <p:nvPr/>
        </p:nvPicPr>
        <p:blipFill>
          <a:blip r:embed="rId2"/>
          <a:stretch/>
        </p:blipFill>
        <p:spPr>
          <a:xfrm>
            <a:off x="0" y="1523880"/>
            <a:ext cx="9144000" cy="5332680"/>
          </a:xfrm>
          <a:prstGeom prst="rect">
            <a:avLst/>
          </a:prstGeom>
          <a:ln w="12600">
            <a:solidFill>
              <a:srgbClr val="afafc1"/>
            </a:solidFill>
            <a:miter/>
          </a:ln>
        </p:spPr>
      </p:pic>
      <p:grpSp>
        <p:nvGrpSpPr>
          <p:cNvPr id="197" name=""/>
          <p:cNvGrpSpPr/>
          <p:nvPr/>
        </p:nvGrpSpPr>
        <p:grpSpPr>
          <a:xfrm>
            <a:off x="887400" y="684360"/>
            <a:ext cx="7964280" cy="9360"/>
            <a:chOff x="887400" y="684360"/>
            <a:chExt cx="7964280" cy="9360"/>
          </a:xfrm>
        </p:grpSpPr>
        <p:grpSp>
          <p:nvGrpSpPr>
            <p:cNvPr id="198" name=""/>
            <p:cNvGrpSpPr/>
            <p:nvPr/>
          </p:nvGrpSpPr>
          <p:grpSpPr>
            <a:xfrm>
              <a:off x="892080" y="689040"/>
              <a:ext cx="7954920" cy="360"/>
              <a:chOff x="892080" y="689040"/>
              <a:chExt cx="7954920" cy="360"/>
            </a:xfrm>
          </p:grpSpPr>
          <p:sp>
            <p:nvSpPr>
              <p:cNvPr id="199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0" name=""/>
              <p:cNvSpPr/>
              <p:nvPr/>
            </p:nvSpPr>
            <p:spPr>
              <a:xfrm>
                <a:off x="892080" y="689040"/>
                <a:ext cx="79549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1" name=""/>
            <p:cNvSpPr/>
            <p:nvPr/>
          </p:nvSpPr>
          <p:spPr>
            <a:xfrm>
              <a:off x="887400" y="684360"/>
              <a:ext cx="796428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1670040" y="689040"/>
            <a:ext cx="6400800" cy="360"/>
            <a:chOff x="1670040" y="689040"/>
            <a:chExt cx="6400800" cy="360"/>
          </a:xfrm>
        </p:grpSpPr>
        <p:grpSp>
          <p:nvGrpSpPr>
            <p:cNvPr id="203" name=""/>
            <p:cNvGrpSpPr/>
            <p:nvPr/>
          </p:nvGrpSpPr>
          <p:grpSpPr>
            <a:xfrm>
              <a:off x="1674360" y="689040"/>
              <a:ext cx="6391440" cy="360"/>
              <a:chOff x="1674360" y="689040"/>
              <a:chExt cx="6391440" cy="360"/>
            </a:xfrm>
          </p:grpSpPr>
          <p:sp>
            <p:nvSpPr>
              <p:cNvPr id="204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05" name=""/>
              <p:cNvSpPr/>
              <p:nvPr/>
            </p:nvSpPr>
            <p:spPr>
              <a:xfrm>
                <a:off x="1674360" y="689040"/>
                <a:ext cx="639144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06" name=""/>
            <p:cNvSpPr/>
            <p:nvPr/>
          </p:nvSpPr>
          <p:spPr>
            <a:xfrm>
              <a:off x="1670040" y="689040"/>
              <a:ext cx="6400800" cy="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07" name=""/>
          <p:cNvGrpSpPr/>
          <p:nvPr/>
        </p:nvGrpSpPr>
        <p:grpSpPr>
          <a:xfrm>
            <a:off x="0" y="762120"/>
            <a:ext cx="8010360" cy="9360"/>
            <a:chOff x="0" y="762120"/>
            <a:chExt cx="8010360" cy="9360"/>
          </a:xfrm>
        </p:grpSpPr>
        <p:grpSp>
          <p:nvGrpSpPr>
            <p:cNvPr id="208" name=""/>
            <p:cNvGrpSpPr/>
            <p:nvPr/>
          </p:nvGrpSpPr>
          <p:grpSpPr>
            <a:xfrm>
              <a:off x="4680" y="766800"/>
              <a:ext cx="8001000" cy="360"/>
              <a:chOff x="4680" y="766800"/>
              <a:chExt cx="8001000" cy="360"/>
            </a:xfrm>
          </p:grpSpPr>
          <p:sp>
            <p:nvSpPr>
              <p:cNvPr id="209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/>
              <p:nvPr/>
            </p:nvSpPr>
            <p:spPr>
              <a:xfrm>
                <a:off x="4680" y="766800"/>
                <a:ext cx="800100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545472"/>
                  </a:solidFill>
                  <a:latin typeface="Times New Roman"/>
                </a:endParaRPr>
              </a:p>
            </p:txBody>
          </p:sp>
        </p:grpSp>
        <p:sp>
          <p:nvSpPr>
            <p:cNvPr id="211" name=""/>
            <p:cNvSpPr/>
            <p:nvPr/>
          </p:nvSpPr>
          <p:spPr>
            <a:xfrm>
              <a:off x="0" y="762120"/>
              <a:ext cx="8010360" cy="936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12" name=""/>
          <p:cNvSpPr/>
          <p:nvPr/>
        </p:nvSpPr>
        <p:spPr>
          <a:xfrm>
            <a:off x="53352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Cloud"/>
          <p:cNvSpPr/>
          <p:nvPr/>
        </p:nvSpPr>
        <p:spPr>
          <a:xfrm>
            <a:off x="1523880" y="1905120"/>
            <a:ext cx="2210040" cy="914400"/>
          </a:xfrm>
          <a:prstGeom prst="pie">
            <a:avLst/>
          </a:prstGeom>
          <a:noFill/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Cloud"/>
          <p:cNvSpPr/>
          <p:nvPr/>
        </p:nvSpPr>
        <p:spPr>
          <a:xfrm>
            <a:off x="5486400" y="1828800"/>
            <a:ext cx="2133720" cy="1428840"/>
          </a:xfrm>
          <a:prstGeom prst="pie">
            <a:avLst/>
          </a:prstGeom>
          <a:noFill/>
          <a:ln w="324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38080" y="4038480"/>
            <a:ext cx="79250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685800" y="380880"/>
            <a:ext cx="7924680" cy="30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تخيل ان السحب تم ربطها وان هذة السحب يتدلى منها حبال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1066680" y="838080"/>
            <a:ext cx="647712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اكتب جميع الافكار والتخمينات التى يمكن ان تترتب على هذا الوضع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4191120"/>
            <a:ext cx="9144000" cy="26668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791320" y="3048120"/>
            <a:ext cx="0" cy="23619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391520" y="2819520"/>
            <a:ext cx="0" cy="25905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828800" y="2819520"/>
            <a:ext cx="0" cy="213336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124080" y="2666880"/>
            <a:ext cx="0" cy="25909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6629400" y="3200400"/>
            <a:ext cx="0" cy="327672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2438280" y="2819520"/>
            <a:ext cx="0" cy="2971800"/>
          </a:xfrm>
          <a:prstGeom prst="line">
            <a:avLst/>
          </a:prstGeom>
          <a:ln w="572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9595ff"/>
              </a:gs>
              <a:gs pos="50000">
                <a:srgbClr val="ffffff"/>
              </a:gs>
              <a:gs pos="100000">
                <a:srgbClr val="9595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45472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5" dur="30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ccff"/>
            </a:gs>
            <a:gs pos="100000">
              <a:srgbClr val="c7c7d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685800" y="228600"/>
            <a:ext cx="7772400" cy="914400"/>
          </a:xfrm>
          <a:prstGeom prst="ellipse">
            <a:avLst/>
          </a:prstGeom>
          <a:solidFill>
            <a:srgbClr val="ff99cc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4400" spc="-1" strike="noStrike">
                <a:solidFill>
                  <a:srgbClr val="660066"/>
                </a:solidFill>
                <a:latin typeface="Tahoma"/>
              </a:rPr>
              <a:t>سمات الشخصية المبدع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228240" y="1295280"/>
            <a:ext cx="48769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just" rtl="1">
              <a:spcBef>
                <a:spcPts val="700"/>
              </a:spcBef>
              <a:buSzPct val="10584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يل الى ايجاد اكثر من حل للمشكلة الواحد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تف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حب التغيير والتجديد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دائم التساؤ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قترح افكارا قد يعتبرها الآخرون غير معقول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لا يحب الروتين في اداء ال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ستخدم طرق غير مألوفة لدى الآخرين في انجاز ما كلف به من عم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just" rtl="1"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تحمل المسئولي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800240" y="1218960"/>
            <a:ext cx="4343400" cy="563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 algn="just" rtl="1"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ذك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رون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خاط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مثابرة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ثقة العالية بالنفس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سعة الافق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قدرة على التحليل والاستدلا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ربط بين الاشياء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الاحساس بالمشاكل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-318960" algn="just" rtl="1">
              <a:spcBef>
                <a:spcPts val="700"/>
              </a:spcBef>
              <a:buSzPct val="105842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يملك درجة معقولة من الاتزان الانفعالي .</a:t>
            </a:r>
            <a:r>
              <a:rPr b="1" i="1" lang="ar-SA" sz="2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896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0" dur="500"/>
                                        <p:tgtEl>
                                          <p:spTgt spid="2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5" dur="500"/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0" dur="500"/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85" dur="500"/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0" dur="500"/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5" dur="500"/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0" dur="500"/>
                                        <p:tgtEl>
                                          <p:spTgt spid="2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5" dur="500"/>
                                        <p:tgtEl>
                                          <p:spTgt spid="2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0" dur="500"/>
                                        <p:tgtEl>
                                          <p:spTgt spid="2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5" dur="500"/>
                                        <p:tgtEl>
                                          <p:spTgt spid="2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0" dur="500"/>
                                        <p:tgtEl>
                                          <p:spTgt spid="2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5" dur="500"/>
                                        <p:tgtEl>
                                          <p:spTgt spid="2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0" dur="500"/>
                                        <p:tgtEl>
                                          <p:spTgt spid="2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5" dur="500"/>
                                        <p:tgtEl>
                                          <p:spTgt spid="23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0" dur="500"/>
                                        <p:tgtEl>
                                          <p:spTgt spid="2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45" dur="500"/>
                                        <p:tgtEl>
                                          <p:spTgt spid="23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23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5" dur="500"/>
                                        <p:tgtEl>
                                          <p:spTgt spid="23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0" y="0"/>
            <a:ext cx="9144000" cy="1523880"/>
          </a:xfrm>
          <a:prstGeom prst="rect">
            <a:avLst/>
          </a:prstGeom>
          <a:gradFill rotWithShape="0">
            <a:gsLst>
              <a:gs pos="0">
                <a:srgbClr val="0047ff"/>
              </a:gs>
              <a:gs pos="100000">
                <a:srgbClr val="000082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ffffff"/>
                </a:solidFill>
                <a:latin typeface="Arial"/>
              </a:rPr>
              <a:t>أهمية دراسة الإبداع في حل المشكلات واتخاذ القرارات</a:t>
            </a:r>
            <a:r>
              <a:rPr b="0" lang="en-US" sz="4400" spc="-1" strike="noStrike">
                <a:solidFill>
                  <a:srgbClr val="ffffff"/>
                </a:solidFill>
                <a:latin typeface="Times New Roman (Arabic)"/>
              </a:rPr>
              <a:t> </a:t>
            </a:r>
            <a:endParaRPr b="0" lang="en-US" sz="4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0" y="1905120"/>
            <a:ext cx="9144000" cy="375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ظهرت أهمية</a:t>
            </a:r>
            <a:r>
              <a:rPr b="0" lang="en-US" sz="4000" spc="-1" strike="noStrike">
                <a:solidFill>
                  <a:srgbClr val="b7530f"/>
                </a:solidFill>
                <a:latin typeface="Arial"/>
                <a:ea typeface="Arial"/>
              </a:rPr>
              <a:t>  </a:t>
            </a:r>
            <a:r>
              <a:rPr b="0" lang="ar-SA" sz="4000" spc="-1" strike="noStrike">
                <a:solidFill>
                  <a:srgbClr val="b7530f"/>
                </a:solidFill>
                <a:latin typeface="Arial"/>
                <a:cs typeface="Arial"/>
              </a:rPr>
              <a:t>الأخذ بالمدخل الإبداعي كأسلوب آخر للتعامل مع المشكلات، حيث يتيح الأخذ به سواء للفرد أو الجماعة أو المنظمة اكتشاف فرص جيدة للتعامل مع المشكلات التي تواجههم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pic>
        <p:nvPicPr>
          <p:cNvPr id="237" name="" descr=""/>
          <p:cNvPicPr/>
          <p:nvPr/>
        </p:nvPicPr>
        <p:blipFill>
          <a:blip r:embed="rId2"/>
          <a:stretch/>
        </p:blipFill>
        <p:spPr>
          <a:xfrm>
            <a:off x="1219320" y="2286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6172200" y="6172200"/>
            <a:ext cx="2759040" cy="4597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  <a:cs typeface="Times New Roman"/>
              </a:rPr>
              <a:t>إعداد: د. سناء الطوق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6019920" y="28195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3733920" y="3200400"/>
            <a:ext cx="2057400" cy="228600"/>
          </a:xfrm>
          <a:prstGeom prst="leftArrow">
            <a:avLst>
              <a:gd name="adj1" fmla="val 50000"/>
              <a:gd name="adj2" fmla="val 225000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1371600" y="2819520"/>
            <a:ext cx="236232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248160" y="3073320"/>
            <a:ext cx="134208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imes New Roman"/>
              </a:rPr>
              <a:t>ا</a:t>
            </a: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لهدف</a:t>
            </a: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930480" y="2610000"/>
            <a:ext cx="16322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545472"/>
                </a:solidFill>
                <a:latin typeface="Times New Roman"/>
              </a:rPr>
              <a:t>فرق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220400" y="3048120"/>
            <a:ext cx="2559600" cy="520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545472"/>
                </a:solidFill>
                <a:latin typeface="Times New Roman"/>
              </a:rPr>
              <a:t>الواقع الفعل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4800600" y="3276720"/>
            <a:ext cx="304920" cy="1447560"/>
          </a:xfrm>
          <a:prstGeom prst="downArrow">
            <a:avLst>
              <a:gd name="adj1" fmla="val 50000"/>
              <a:gd name="adj2" fmla="val 118684"/>
            </a:avLst>
          </a:prstGeom>
          <a:solidFill>
            <a:srgbClr val="a7ccd9"/>
          </a:solidFill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276720" y="4876920"/>
            <a:ext cx="2361960" cy="1066680"/>
          </a:xfrm>
          <a:prstGeom prst="rect">
            <a:avLst/>
          </a:prstGeom>
          <a:noFill/>
          <a:ln w="12600">
            <a:solidFill>
              <a:srgbClr val="545472"/>
            </a:solidFill>
            <a:miter/>
          </a:ln>
          <a:effectLst>
            <a:outerShdw dist="17819" dir="2700000" blurRad="0" rotWithShape="0">
              <a:srgbClr val="323244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352680" y="5029200"/>
            <a:ext cx="205740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545472"/>
                </a:solidFill>
                <a:latin typeface="Times New Roman"/>
              </a:rPr>
              <a:t>مشكلة تحتاج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</a:rPr>
              <a:t>    إلى ح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0" fill="hold">
                      <p:stCondLst>
                        <p:cond delay="indefinite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 txBox="1"/>
          <p:nvPr/>
        </p:nvSpPr>
        <p:spPr>
          <a:xfrm>
            <a:off x="2286000" y="685800"/>
            <a:ext cx="4572000" cy="2209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CascadeUp">
              <a:avLst>
                <a:gd name="adj" fmla="val 63435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مفهوم المشكلة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249" name=""/>
          <p:cNvSpPr/>
          <p:nvPr/>
        </p:nvSpPr>
        <p:spPr>
          <a:xfrm>
            <a:off x="990720" y="2514600"/>
            <a:ext cx="6873840" cy="3750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المشكلة هي فجوة بين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مستوى الإنجاز المتوقع والإنجاز الفعلى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أو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imes New Roman"/>
              </a:rPr>
              <a:t>هي انحراف في الأداء عن معيار محدد مسبقا .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0" dur="indefinite" restart="never" nodeType="tmRoot">
          <p:childTnLst>
            <p:seq>
              <p:cTn id="431" dur="indefinite" nodeType="mainSeq">
                <p:childTnLst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4" fill="hold">
                      <p:stCondLst>
                        <p:cond delay="indefinite"/>
                      </p:stCondLst>
                      <p:childTnLst>
                        <p:par>
                          <p:cTn id="445" fill="hold">
                            <p:stCondLst>
                              <p:cond delay="0"/>
                            </p:stCondLst>
                            <p:childTnLst>
                              <p:par>
                                <p:cTn id="4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5000"/>
                            </p:stCondLst>
                            <p:childTnLst>
                              <p:par>
                                <p:cTn id="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" descr=""/>
          <p:cNvPicPr/>
          <p:nvPr/>
        </p:nvPicPr>
        <p:blipFill>
          <a:blip r:embed="rId2"/>
          <a:stretch/>
        </p:blipFill>
        <p:spPr>
          <a:xfrm>
            <a:off x="7467480" y="457200"/>
            <a:ext cx="1371600" cy="1371600"/>
          </a:xfrm>
          <a:prstGeom prst="rect">
            <a:avLst/>
          </a:prstGeom>
          <a:ln w="0">
            <a:noFill/>
          </a:ln>
        </p:spPr>
      </p:pic>
      <p:sp>
        <p:nvSpPr>
          <p:cNvPr id="253" name=""/>
          <p:cNvSpPr/>
          <p:nvPr/>
        </p:nvSpPr>
        <p:spPr>
          <a:xfrm>
            <a:off x="6095880" y="6172200"/>
            <a:ext cx="2835360" cy="825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637981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buClr>
                <a:srgbClr val="545472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545472"/>
                </a:solidFill>
                <a:latin typeface="Times New Roman"/>
              </a:rPr>
              <a:t>عداد : د. سناء الطوق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0" y="2514600"/>
            <a:ext cx="9144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نماذج التفكير الإبداعي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6000" spc="-1" strike="noStrike">
                <a:solidFill>
                  <a:srgbClr val="3da125"/>
                </a:solidFill>
                <a:latin typeface="Times New Roman"/>
                <a:cs typeface="Times New Roman"/>
              </a:rPr>
              <a:t>والنموذج العام في حل المشكلات</a:t>
            </a:r>
            <a:r>
              <a:rPr b="0" lang="en-US" sz="6000" spc="-1" strike="noStrike">
                <a:solidFill>
                  <a:srgbClr val="3da125"/>
                </a:solidFill>
                <a:latin typeface="Times New Roman"/>
              </a:rPr>
              <a:t> </a:t>
            </a:r>
            <a:endParaRPr b="0" lang="en-US" sz="6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يتكون نموذج ( ويست ) من  أربع مراحل هي :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09480" y="243828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66"/>
                </a:solidFill>
                <a:latin typeface="Times New Roman"/>
                <a:cs typeface="AdvertisingLight"/>
              </a:rPr>
              <a:t>المرحلة الأولى ( إدراك الحاجة إلى الإبداع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ثان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dvertisingLight"/>
              </a:rPr>
              <a:t>نموذج دورة الإبداع : ويست 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(</a:t>
            </a:r>
            <a:r>
              <a:rPr b="1" lang="en-US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West: 1990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609480" y="32767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ff00"/>
                </a:solidFill>
                <a:latin typeface="Times New Roman"/>
                <a:cs typeface="AdvertisingLight"/>
              </a:rPr>
              <a:t>المرحلة الثانية ( المبادرة بطرح الأفكار الإبداعية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09480" y="4191120"/>
            <a:ext cx="7848720" cy="76176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cc3300"/>
                </a:solidFill>
                <a:latin typeface="Times New Roman"/>
                <a:cs typeface="AdvertisingLight"/>
              </a:rPr>
              <a:t>المرحلة الثالثة ( التطبيق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609480" y="5029200"/>
            <a:ext cx="7848720" cy="762120"/>
          </a:xfrm>
          <a:prstGeom prst="rect">
            <a:avLst/>
          </a:prstGeom>
          <a:gradFill rotWithShape="0">
            <a:gsLst>
              <a:gs pos="0">
                <a:srgbClr val="0033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660066"/>
                </a:solidFill>
                <a:latin typeface="Times New Roman"/>
                <a:cs typeface="AdvertisingLight"/>
              </a:rPr>
              <a:t>المرحلة الرابعة ( الثبات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0" dur="indefinite" restart="never" nodeType="tmRoot">
          <p:childTnLst>
            <p:seq>
              <p:cTn id="461" dur="indefinite" nodeType="mainSeq">
                <p:childTnLst>
                  <p:par>
                    <p:cTn id="462" fill="hold">
                      <p:stCondLst>
                        <p:cond delay="indefinite"/>
                      </p:stCondLst>
                      <p:childTnLst>
                        <p:par>
                          <p:cTn id="463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/>
          <p:nvPr/>
        </p:nvSpPr>
        <p:spPr>
          <a:xfrm>
            <a:off x="685800" y="76320"/>
            <a:ext cx="7772400" cy="761760"/>
          </a:xfrm>
          <a:prstGeom prst="rect">
            <a:avLst/>
          </a:prstGeom>
          <a:gradFill rotWithShape="0">
            <a:gsLst>
              <a:gs pos="0">
                <a:srgbClr val="c7c7df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مراحل العملية الإبداع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609480" y="17524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1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عداد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repa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09480" y="24382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2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ركيز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Concentr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609480" y="3124080"/>
            <a:ext cx="7848720" cy="53352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3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كمون " الاختمار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ncub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609480" y="3809880"/>
            <a:ext cx="7848720" cy="60984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4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شراق " وجدتها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" 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Illumin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705720" y="838080"/>
            <a:ext cx="1752480" cy="685800"/>
          </a:xfrm>
          <a:prstGeom prst="rect">
            <a:avLst/>
          </a:prstGeom>
          <a:solidFill>
            <a:srgbClr val="8888ae"/>
          </a:solidFill>
          <a:ln w="25560">
            <a:solidFill>
              <a:srgbClr val="545472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3300"/>
                </a:solidFill>
                <a:latin typeface="Times New Roman"/>
              </a:rPr>
              <a:t>النموذج الأول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5800" y="838080"/>
            <a:ext cx="601992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c7c7df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نموذج نظرية ولاس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Walas, 1926</a:t>
            </a:r>
            <a:r>
              <a:rPr b="1" lang="ar-SA" sz="2800" spc="-1" strike="noStrike">
                <a:solidFill>
                  <a:srgbClr val="545472"/>
                </a:solidFill>
                <a:latin typeface="Times New Roman"/>
                <a:ea typeface="AL-Mohanad Bold"/>
              </a:rPr>
              <a:t>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09480" y="457200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5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إصرار والمثابرة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Persistence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5334120"/>
            <a:ext cx="7848720" cy="609480"/>
          </a:xfrm>
          <a:prstGeom prst="rect">
            <a:avLst/>
          </a:prstGeom>
          <a:gradFill rotWithShape="0">
            <a:gsLst>
              <a:gs pos="0">
                <a:srgbClr val="ccff33"/>
              </a:gs>
              <a:gs pos="100000">
                <a:srgbClr val="c7c7d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3300"/>
                </a:solidFill>
                <a:latin typeface="Times New Roman"/>
                <a:ea typeface="AdvertisingLight"/>
              </a:rPr>
              <a:t>6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AdvertisingLight"/>
              </a:rPr>
              <a:t>- مرحلة التحقق والتجريب 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(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Verification</a:t>
            </a:r>
            <a:r>
              <a:rPr b="1" lang="ar-SA" sz="3200" spc="-1" strike="noStrike">
                <a:solidFill>
                  <a:srgbClr val="ff0066"/>
                </a:solidFill>
                <a:latin typeface="Times New Roman"/>
                <a:ea typeface="Times New Roman"/>
              </a:rPr>
              <a:t> )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0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0" fill="hold">
                      <p:stCondLst>
                        <p:cond delay="indefinite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 txBox="1"/>
          <p:nvPr/>
        </p:nvSpPr>
        <p:spPr>
          <a:xfrm>
            <a:off x="1752480" y="762120"/>
            <a:ext cx="5562720" cy="990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النموذج العام في تحليل المشكلات وصنع القرار</a:t>
            </a:r>
            <a:endParaRPr b="1" lang="en-US" sz="2400" spc="1" strike="noStrike">
              <a:ln w="12600">
                <a:solidFill>
                  <a:srgbClr val="eaeaea"/>
                </a:solidFill>
                <a:miter/>
              </a:ln>
              <a:solidFill>
                <a:srgbClr val="ff00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3" name=""/>
          <p:cNvSpPr/>
          <p:nvPr/>
        </p:nvSpPr>
        <p:spPr>
          <a:xfrm>
            <a:off x="380880" y="1981080"/>
            <a:ext cx="8305920" cy="40388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تحديد المشكلة وتتضمن : إدراك المشكلة</a:t>
            </a: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 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وجمع المعلومات وتحديد الأسباب المتعلقة بها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صنع القرار والتي تتكون من : تحديد الهدف من القرار ، وتحديد الحلول البديلة ، وتقييمها ، واختيار البديل الأنسب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ahoma"/>
                <a:ea typeface="Arial Unicode MS"/>
              </a:rPr>
              <a:t>·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   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cs typeface="Arial Unicode MS"/>
              </a:rPr>
              <a:t>مرحلة التنفيذ والمتابعة والتي تتضمن مرحلتي : وضع خطة للتنفيذ والمتابعة 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 txBox="1"/>
          <p:nvPr/>
        </p:nvSpPr>
        <p:spPr>
          <a:xfrm>
            <a:off x="838080" y="533520"/>
            <a:ext cx="7772400" cy="14475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12600">
                  <a:solidFill>
                    <a:srgbClr val="eaeaea"/>
                  </a:solidFill>
                  <a:miter/>
                </a:ln>
                <a:solidFill>
                  <a:srgbClr val="9595ff"/>
                </a:solidFill>
                <a:effectLst>
                  <a:outerShdw dist="153753" dir="2700000" blurRad="0" rotWithShape="0">
                    <a:srgbClr val="003399"/>
                  </a:outerShdw>
                </a:effectLst>
                <a:latin typeface="PT Bold Heading"/>
              </a:rPr>
              <a:t>أدوات الإبداع</a:t>
            </a:r>
            <a:endParaRPr b="1" lang="en-US" sz="4000" spc="1" strike="noStrike">
              <a:ln w="12600">
                <a:solidFill>
                  <a:srgbClr val="eaeaea"/>
                </a:solidFill>
                <a:miter/>
              </a:ln>
              <a:solidFill>
                <a:srgbClr val="9595ff"/>
              </a:solidFill>
              <a:effectLst>
                <a:outerShdw dist="153753" dir="2700000" blurRad="0" rotWithShape="0">
                  <a:srgbClr val="003399"/>
                </a:outerShdw>
              </a:effectLst>
              <a:latin typeface="PT Bold Heading"/>
              <a:ea typeface="PT Bold Heading"/>
            </a:endParaRPr>
          </a:p>
        </p:txBody>
      </p:sp>
      <p:sp>
        <p:nvSpPr>
          <p:cNvPr id="275" name=""/>
          <p:cNvSpPr/>
          <p:nvPr/>
        </p:nvSpPr>
        <p:spPr>
          <a:xfrm>
            <a:off x="684360" y="2349360"/>
            <a:ext cx="7238880" cy="811440"/>
          </a:xfrm>
          <a:prstGeom prst="rect">
            <a:avLst/>
          </a:prstGeom>
          <a:solidFill>
            <a:srgbClr val="ccff99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1</a:t>
            </a:r>
            <a:r>
              <a:rPr b="1" lang="ar-SA" sz="2800" spc="-1" strike="noStrike">
                <a:solidFill>
                  <a:srgbClr val="0000ff"/>
                </a:solidFill>
                <a:latin typeface="Tahoma"/>
                <a:ea typeface="AdvertisingBold"/>
              </a:rPr>
              <a:t>- طريقة ” القبعات الست ” للتفكير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4344840"/>
            <a:ext cx="7238880" cy="812880"/>
          </a:xfrm>
          <a:prstGeom prst="rect">
            <a:avLst/>
          </a:prstGeom>
          <a:solidFill>
            <a:srgbClr val="ffff00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3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استخدام وتطبيق طريقة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SCAMPER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11280" y="5157720"/>
            <a:ext cx="7238880" cy="811440"/>
          </a:xfrm>
          <a:prstGeom prst="rect">
            <a:avLst/>
          </a:prstGeom>
          <a:solidFill>
            <a:srgbClr val="ffffcc"/>
          </a:solidFill>
          <a:ln w="2844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4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طريقة استخدام الأسئلة الفعالة     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11280" y="3141720"/>
            <a:ext cx="7238880" cy="1165320"/>
          </a:xfrm>
          <a:prstGeom prst="rect">
            <a:avLst/>
          </a:prstGeom>
          <a:solidFill>
            <a:srgbClr val="9595ff"/>
          </a:solidFill>
          <a:ln w="2844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 rtl="1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2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 -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cs typeface="AdvertisingBold"/>
              </a:rPr>
              <a:t>عملية بناء الأفكار أو العصف الذهني </a:t>
            </a:r>
            <a:r>
              <a:rPr b="1" lang="ar-SA" sz="2800" spc="-1" strike="noStrike">
                <a:solidFill>
                  <a:srgbClr val="3333cc"/>
                </a:solidFill>
                <a:latin typeface="Tahoma"/>
                <a:ea typeface="AdvertisingBold"/>
              </a:rPr>
              <a:t>Brainstorming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5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7" fill="hold">
                      <p:stCondLst>
                        <p:cond delay="indefinite"/>
                      </p:stCondLst>
                      <p:childTnLst>
                        <p:par>
                          <p:cTn id="558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1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1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9" name="" descr="6 Thinking Hats"/>
          <p:cNvPicPr/>
          <p:nvPr/>
        </p:nvPicPr>
        <p:blipFill>
          <a:blip r:embed="rId2"/>
          <a:stretch/>
        </p:blipFill>
        <p:spPr>
          <a:xfrm>
            <a:off x="2057400" y="838080"/>
            <a:ext cx="5943600" cy="487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6248520" y="18684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حم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248520" y="28591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rial"/>
              </a:rPr>
              <a:t>السود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248520" y="384984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rial"/>
              </a:rPr>
              <a:t>الصف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248520" y="48402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rial"/>
              </a:rPr>
              <a:t>الخضر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6248520" y="5830920"/>
            <a:ext cx="1904760" cy="838080"/>
          </a:xfrm>
          <a:prstGeom prst="leftArrow">
            <a:avLst>
              <a:gd name="adj1" fmla="val 50000"/>
              <a:gd name="adj2" fmla="val 56819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rial"/>
              </a:rPr>
              <a:t>الزرق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6248520" y="954000"/>
            <a:ext cx="1904760" cy="838440"/>
          </a:xfrm>
          <a:prstGeom prst="leftArrow">
            <a:avLst>
              <a:gd name="adj1" fmla="val 50000"/>
              <a:gd name="adj2" fmla="val 56795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rial"/>
              </a:rPr>
              <a:t>القبعة البيضاء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09480" y="11066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54547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8080"/>
                </a:solidFill>
                <a:latin typeface="Times New Roman"/>
                <a:cs typeface="AL-Mohanad Bold"/>
              </a:rPr>
              <a:t>وترمز إلى التفكير المحايد والموضوعي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609480" y="20210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ناحية الانفعالية أو العاطفية</a:t>
            </a:r>
            <a:r>
              <a:rPr b="1" lang="ar-SA" sz="2000" spc="-1" strike="noStrike">
                <a:solidFill>
                  <a:srgbClr val="545472"/>
                </a:solidFill>
                <a:latin typeface="Times New Roman"/>
                <a:ea typeface="AdvertisingLight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609480" y="301140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التفكير السلبي  والنتائج السلب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09480" y="4002120"/>
            <a:ext cx="5105520" cy="53352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0000ff"/>
                </a:solidFill>
                <a:latin typeface="Times New Roman"/>
                <a:cs typeface="AL-Mohanad Bold"/>
              </a:rPr>
              <a:t>التفكير المتفائل والإيجابي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609480" y="4992840"/>
            <a:ext cx="5105520" cy="533160"/>
          </a:xfrm>
          <a:prstGeom prst="roundRect">
            <a:avLst>
              <a:gd name="adj" fmla="val 16667"/>
            </a:avLst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45472"/>
                </a:solidFill>
                <a:latin typeface="Times New Roman"/>
                <a:cs typeface="AL-Mohanad Bold"/>
              </a:rPr>
              <a:t>التفكير المتعلق بالإبداع وبناء الأفكار الجديدة.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09480" y="5907240"/>
            <a:ext cx="5105520" cy="609480"/>
          </a:xfrm>
          <a:prstGeom prst="roundRect">
            <a:avLst>
              <a:gd name="adj" fmla="val 16667"/>
            </a:avLst>
          </a:prstGeom>
          <a:solidFill>
            <a:srgbClr val="000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ccecff"/>
                </a:solidFill>
                <a:latin typeface="Times New Roman"/>
                <a:cs typeface="AL-Mohanad Bold"/>
              </a:rPr>
              <a:t>بناء نظام لعملية التفكير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2" name=""/>
          <p:cNvSpPr txBox="1"/>
          <p:nvPr/>
        </p:nvSpPr>
        <p:spPr>
          <a:xfrm>
            <a:off x="772200" y="139320"/>
            <a:ext cx="7599600" cy="60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- طريقة ” القبعات الست ” للتفكير.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93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572" dur="indefinite" restart="never" nodeType="tmRoot">
          <p:childTnLst>
            <p:seq>
              <p:cTn id="573" dur="indefinite" nodeType="mainSeq">
                <p:childTnLst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3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9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6" fill="hold">
                            <p:stCondLst>
                              <p:cond delay="500"/>
                            </p:stCondLst>
                            <p:childTnLst>
                              <p:par>
                                <p:cTn id="64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0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"/>
          <p:cNvSpPr txBox="1"/>
          <p:nvPr/>
        </p:nvSpPr>
        <p:spPr>
          <a:xfrm>
            <a:off x="1447920" y="2886120"/>
            <a:ext cx="6248160" cy="1084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2- </a:t>
            </a: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استخدام وتطبيق طريقة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Scamper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6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ar-SA" sz="3600" spc="-1" strike="noStrike">
                <a:solidFill>
                  <a:srgbClr val="ffff99"/>
                </a:solidFill>
                <a:latin typeface="Tahoma"/>
              </a:rPr>
              <a:t>- نموذج استخدام طريقة</a:t>
            </a:r>
            <a:r>
              <a:rPr b="0" lang="en-US" sz="3600" spc="-1" strike="noStrike">
                <a:solidFill>
                  <a:srgbClr val="ffff99"/>
                </a:solidFill>
                <a:latin typeface="Tahoma"/>
              </a:rPr>
              <a:t>SCAMPER</a:t>
            </a: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  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ctr" rtl="1"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سلوب لتحويل اى شى الى فكرة جديدة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الفكرة المحورية: ان اى شى جديد ما هو الا نتيجة فكرة قديمة مطورة قد تم معالجتها وتحويرها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0" algn="ct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وطريقة الوصول الى افكار ابداعية من خلال سلسلة من التساؤلات المقصودة مختصرة بكلمة انجليزية هى 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1680" indent="-301680" algn="ctr" rtl="1"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45472"/>
                </a:solidFill>
                <a:latin typeface="Tahoma"/>
              </a:rPr>
              <a:t>SCAMPER</a:t>
            </a:r>
            <a:r>
              <a:rPr b="1" lang="ar-SA" sz="2800" spc="-1" strike="noStrike">
                <a:solidFill>
                  <a:srgbClr val="545472"/>
                </a:solidFill>
                <a:latin typeface="Tahoma"/>
              </a:rPr>
              <a:t> وتعنى العدو او الركض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59" dur="500"/>
                                        <p:tgtEl>
                                          <p:spTgt spid="2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4" dur="500"/>
                                        <p:tgtEl>
                                          <p:spTgt spid="2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fill="hold">
                      <p:stCondLst>
                        <p:cond delay="indefinite"/>
                      </p:stCondLst>
                      <p:childTnLst>
                        <p:par>
                          <p:cTn id="666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69" dur="500"/>
                                        <p:tgtEl>
                                          <p:spTgt spid="2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674" dur="500"/>
                                        <p:tgtEl>
                                          <p:spTgt spid="2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97" name=""/>
          <p:cNvGraphicFramePr/>
          <p:nvPr/>
        </p:nvGraphicFramePr>
        <p:xfrm>
          <a:off x="108000" y="836640"/>
          <a:ext cx="9036000" cy="6253200"/>
        </p:xfrm>
        <a:graphic>
          <a:graphicData uri="http://schemas.openxmlformats.org/drawingml/2006/table">
            <a:tbl>
              <a:tblPr/>
              <a:tblGrid>
                <a:gridCol w="6175440"/>
                <a:gridCol w="1068120"/>
                <a:gridCol w="1057320"/>
                <a:gridCol w="73512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مضمون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ترجمة بالعربي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كلمة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a7ccd9"/>
                          </a:solidFill>
                          <a:latin typeface="Tahoma"/>
                          <a:cs typeface="PT Bold Heading"/>
                        </a:rPr>
                        <a:t>الرمز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e5dd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3333cc"/>
                          </a:solidFill>
                          <a:latin typeface="Tahoma"/>
                          <a:cs typeface="AdvertisingLight"/>
                        </a:rPr>
                        <a:t>اعمل على تبديل الأدوات المستخدمة أو العناصر المركبة للمنتج , الأفراد ..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مالذى يمكن احلالة او ابدالة</a:t>
                      </a: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؟ , هل يوجد شىء يمكن احلالة عما هو موجود حاليا؟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بديل أو الإحلا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Substitut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S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181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ربط أو خلط أو دمج بين الأشياء ذات العلاقة بالخدمة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</a:rPr>
                        <a:t>مالذى يمكن دمجة بالنسبة لهذا الموضوع او الاجراء؟, هل يمكن دمج عناصر هذا الموضوع او دمج خطوات هذا الاجراء؟ ما الذى يمكن تحقيقة من هذا الدمج؟.......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ربط أو الدمج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Combine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C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ما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ea typeface="AdvertisingLight"/>
                        </a:rPr>
                        <a:t> الأشياء التي أحتاج إلى أن اكيفها وأعيد النظر فيها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SA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تكي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Adopt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A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5806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600" spc="-1" strike="noStrike">
                          <a:solidFill>
                            <a:srgbClr val="000000"/>
                          </a:solidFill>
                          <a:latin typeface="Tahoma"/>
                          <a:cs typeface="AdvertisingLight"/>
                        </a:rPr>
                        <a:t>اعمل بعض التعديلات في الشكل أو اللون أو أي جانب في الخدمة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.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تعديل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Modify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M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1912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هل يمكن الاستفادة من الشيء في استخدامات أخرى </a:t>
                      </a: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.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هل يمكن استغلال هذا الشىء من اجل تحقيق اهداف او اغراض اخرى.</a:t>
                      </a:r>
                      <a:r>
                        <a:rPr b="1" lang="ar-SA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قترح استخدامات أخرى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  <a:ea typeface="AdvertisingLight"/>
                        </a:rPr>
                        <a:t>Put to other uses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P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  <a:tr h="1168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SA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اعمل على إلغاء أو حذف بعض العناصر غير المهمة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غاء بعض خطوات من الاجراءات الحالية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800000"/>
                          </a:solidFill>
                          <a:latin typeface="Tahoma"/>
                          <a:cs typeface="AdvertisingLight"/>
                        </a:rPr>
                        <a:t>هل يمكن التخلى عن بعض المطالب بالنسبة للمشكلة الحا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000000"/>
                          </a:solidFill>
                          <a:latin typeface="Tahoma"/>
                          <a:cs typeface="PT Bold Heading"/>
                        </a:rPr>
                        <a:t>الإلغاء أو الحذف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ahoma"/>
                          <a:ea typeface="AdvertisingLight"/>
                        </a:rPr>
                        <a:t>Eliminate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Tahoma"/>
                          <a:ea typeface="AdvertisingBold"/>
                        </a:rPr>
                        <a:t>E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ffffcc"/>
                    </a:solidFill>
                  </a:tcPr>
                </a:tc>
              </a:tr>
              <a:tr h="14630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  <a:cs typeface="AdvertisingLight"/>
                        </a:rPr>
                        <a:t>غير الترتيب او عدلة او صمم خطة اخرى؟</a:t>
                      </a:r>
                      <a:r>
                        <a:rPr b="1" lang="ar-EG" sz="16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استخدام هذا الشىء خلافا لما ييستخدم علية فى الوقت الراهن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هناك ادوار اخرى يؤديها هذا الشىء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 algn="ctr" rtl="1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ar-EG" sz="16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هل يمكن قلب وظيفة هذا الشىء راسا على عقب؟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hi-IN" sz="1800" spc="-1" strike="noStrike">
                          <a:solidFill>
                            <a:srgbClr val="f00000"/>
                          </a:solidFill>
                          <a:latin typeface="Tahoma"/>
                          <a:cs typeface="PT Bold Heading"/>
                        </a:rPr>
                        <a:t>العكس أو إعادة الترتيب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Reverse</a:t>
                      </a:r>
                      <a:r>
                        <a:rPr b="1" lang="en-US" sz="1800" spc="-1" strike="noStrike">
                          <a:solidFill>
                            <a:srgbClr val="f00000"/>
                          </a:solidFill>
                          <a:latin typeface="Tahoma"/>
                        </a:rPr>
                        <a:t> </a:t>
                      </a:r>
                      <a:endParaRPr b="0" lang="en-US" sz="1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 rtl="1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00000"/>
                          </a:solidFill>
                          <a:latin typeface="Tahoma"/>
                          <a:ea typeface="AdvertisingBold"/>
                        </a:rPr>
                        <a:t>R</a:t>
                      </a:r>
                      <a:endParaRPr b="0" lang="en-US" sz="28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872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18720">
                      <a:solidFill>
                        <a:srgbClr val="000000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solidFill>
                      <a:srgbClr val="ccffcc"/>
                    </a:solidFill>
                  </a:tcPr>
                </a:tc>
              </a:tr>
            </a:tbl>
          </a:graphicData>
        </a:graphic>
      </p:graphicFrame>
      <p:sp>
        <p:nvSpPr>
          <p:cNvPr id="298" name=""/>
          <p:cNvSpPr txBox="1"/>
          <p:nvPr/>
        </p:nvSpPr>
        <p:spPr>
          <a:xfrm>
            <a:off x="1031760" y="172080"/>
            <a:ext cx="7142400" cy="5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كيفية إستخدام وتطبيق طريقة (</a:t>
            </a: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SCAMPER</a:t>
            </a:r>
            <a:r>
              <a:rPr b="0" lang="ar-SA" sz="3200" spc="-1" strike="noStrike">
                <a:solidFill>
                  <a:srgbClr val="660066"/>
                </a:solidFill>
                <a:latin typeface="Tahoma"/>
              </a:rPr>
              <a:t>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ى نشاط عقلى من أجل الوصول الى حل مشكلة أو اتخاذ قرا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539640" y="1773360"/>
            <a:ext cx="7993080" cy="4604040"/>
          </a:xfrm>
          <a:prstGeom prst="rect">
            <a:avLst/>
          </a:prstGeom>
          <a:solidFill>
            <a:srgbClr val="800000">
              <a:alpha val="50000"/>
            </a:srgbClr>
          </a:solidFill>
          <a:ln w="0">
            <a:noFill/>
          </a:ln>
          <a:effectLst>
            <a:outerShdw dist="107932" dir="2700000" blurRad="0" rotWithShape="0">
              <a:srgbClr val="9797b7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تعد طريقة الأسئلة الموجهة او الفعالة أحد الأساليب التي تثير الإبداع في مكان العمل , فهي تجعلنا ننظر إلى الجانب الآخر لأي معادلة.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من خلال طرح اسئلة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" لماذا ؟ " و " لم لا ؟ "  </a:t>
            </a:r>
            <a:r>
              <a:rPr b="1" lang="ar-EG" sz="2800" spc="-1" strike="noStrike">
                <a:solidFill>
                  <a:srgbClr val="ffffcc"/>
                </a:solidFill>
                <a:latin typeface="Times New Roman"/>
                <a:cs typeface="AL-Mohanad Bold"/>
              </a:rPr>
              <a:t>والمقصود</a:t>
            </a:r>
            <a:r>
              <a:rPr b="1" lang="ar-SA" sz="2800" spc="-1" strike="noStrike">
                <a:solidFill>
                  <a:srgbClr val="ffffcc"/>
                </a:solidFill>
                <a:latin typeface="Times New Roman"/>
                <a:ea typeface="AL-Mohanad Bold"/>
              </a:rPr>
              <a:t> منها هو تقديم الأسئلة التي توضح الاهتمام والإثارة التي تزيد من إدراك أن هناك طريقة أفضل يمكن العمل بها.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  <a:p>
            <a:pPr algn="just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1104120" y="810000"/>
            <a:ext cx="6863400" cy="105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5</a:t>
            </a: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- طريقة استخدام الاسئلة الفعالة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"/>
          <p:cNvSpPr/>
          <p:nvPr/>
        </p:nvSpPr>
        <p:spPr>
          <a:xfrm>
            <a:off x="304920" y="152280"/>
            <a:ext cx="8381880" cy="1067040"/>
          </a:xfrm>
          <a:prstGeom prst="rect">
            <a:avLst/>
          </a:prstGeom>
          <a:gradFill rotWithShape="0">
            <a:gsLst>
              <a:gs pos="0">
                <a:srgbClr val="333399"/>
              </a:gs>
              <a:gs pos="100000">
                <a:srgbClr val="7c7cbd"/>
              </a:gs>
            </a:gsLst>
            <a:lin ang="5400000"/>
          </a:gra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ما الهدف من طرح الأسئلة كأداة في الإبداع ؟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302" name="" descr=""/>
          <p:cNvPicPr/>
          <p:nvPr/>
        </p:nvPicPr>
        <p:blipFill>
          <a:blip r:embed="rId2"/>
          <a:stretch/>
        </p:blipFill>
        <p:spPr>
          <a:xfrm>
            <a:off x="0" y="1752480"/>
            <a:ext cx="2514600" cy="3733920"/>
          </a:xfrm>
          <a:prstGeom prst="rect">
            <a:avLst/>
          </a:prstGeom>
          <a:ln w="0">
            <a:noFill/>
          </a:ln>
        </p:spPr>
      </p:pic>
      <p:sp>
        <p:nvSpPr>
          <p:cNvPr id="303" name=""/>
          <p:cNvSpPr/>
          <p:nvPr/>
        </p:nvSpPr>
        <p:spPr>
          <a:xfrm>
            <a:off x="2514600" y="1600200"/>
            <a:ext cx="61722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a4080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a40808"/>
                </a:solidFill>
                <a:latin typeface="Times New Roman"/>
                <a:cs typeface="AdvertisingBold"/>
              </a:rPr>
              <a:t>تساعد على دعم التقصي والبحث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514600" y="2438280"/>
            <a:ext cx="6172200" cy="685800"/>
          </a:xfrm>
          <a:prstGeom prst="rect">
            <a:avLst/>
          </a:prstGeom>
          <a:solidFill>
            <a:srgbClr val="eed878"/>
          </a:solidFill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c3300"/>
                </a:solidFill>
                <a:latin typeface="Times New Roman"/>
                <a:cs typeface="AdvertisingBold"/>
              </a:rPr>
              <a:t>تتصف الأسئلة بأن لها طابع التركيز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514600" y="3276720"/>
            <a:ext cx="6172200" cy="685800"/>
          </a:xfrm>
          <a:prstGeom prst="rect">
            <a:avLst/>
          </a:prstGeom>
          <a:solidFill>
            <a:srgbClr val="dfb3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8080"/>
                </a:solidFill>
                <a:latin typeface="Times New Roman"/>
                <a:cs typeface="AdvertisingBold"/>
              </a:rPr>
              <a:t>تساعد في معرفة نقاط الضعف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514600" y="4114800"/>
            <a:ext cx="6172200" cy="609480"/>
          </a:xfrm>
          <a:prstGeom prst="rect">
            <a:avLst/>
          </a:prstGeom>
          <a:solidFill>
            <a:srgbClr val="8d710b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660066"/>
                </a:solidFill>
                <a:latin typeface="Times New Roman"/>
                <a:cs typeface="AdvertisingBold"/>
              </a:rPr>
              <a:t>تحديد الأسئلة يساعد على تحديد الأفعال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2514600" y="4876920"/>
            <a:ext cx="6172200" cy="609480"/>
          </a:xfrm>
          <a:prstGeom prst="rect">
            <a:avLst/>
          </a:prstGeom>
          <a:solidFill>
            <a:srgbClr val="9b5611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00"/>
                </a:solidFill>
                <a:latin typeface="Times New Roman"/>
                <a:cs typeface="AdvertisingBold"/>
              </a:rPr>
              <a:t>تقلل من جوانب النقص في أفكار الآخرين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2514600" y="5638680"/>
            <a:ext cx="6172200" cy="609840"/>
          </a:xfrm>
          <a:prstGeom prst="rect">
            <a:avLst/>
          </a:prstGeom>
          <a:solidFill>
            <a:srgbClr val="a40808"/>
          </a:solidFill>
          <a:ln w="9360">
            <a:solidFill>
              <a:srgbClr val="9595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تساعد على طرح أفكار  أو خيارات جديدة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  <p:timing>
    <p:tnLst>
      <p:par>
        <p:cTn id="682" dur="indefinite" restart="never" nodeType="tmRoot">
          <p:childTnLst>
            <p:seq>
              <p:cTn id="683" dur="indefinite" nodeType="mainSeq">
                <p:childTnLst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8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9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0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1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2" fill="hold">
                      <p:stCondLst>
                        <p:cond delay="indefinite"/>
                      </p:stCondLst>
                      <p:childTnLst>
                        <p:par>
                          <p:cTn id="703" fill="hold">
                            <p:stCondLst>
                              <p:cond delay="0"/>
                            </p:stCondLst>
                            <p:childTnLst>
                              <p:par>
                                <p:cTn id="7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6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2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8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9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4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5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"/>
          <p:cNvSpPr/>
          <p:nvPr/>
        </p:nvSpPr>
        <p:spPr>
          <a:xfrm>
            <a:off x="1763640" y="1844640"/>
            <a:ext cx="5943600" cy="1447920"/>
          </a:xfrm>
          <a:prstGeom prst="rect">
            <a:avLst/>
          </a:prstGeom>
          <a:solidFill>
            <a:srgbClr val="9b5611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أسئلة لماذا ؟ وهى الت</a:t>
            </a:r>
            <a:r>
              <a:rPr b="1" lang="ar-EG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ى ت</a:t>
            </a: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حدد المشكل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ffcc"/>
                </a:solidFill>
                <a:latin typeface="Times New Roman"/>
                <a:cs typeface="AdvertisingBold"/>
              </a:rPr>
              <a:t>ومن امثلتها .............................</a:t>
            </a:r>
            <a:r>
              <a:rPr b="1" lang="ar-SA" sz="3200" spc="-1" strike="noStrike">
                <a:solidFill>
                  <a:srgbClr val="ffffcc"/>
                </a:solidFill>
                <a:latin typeface="Times New Roman"/>
                <a:ea typeface="AdvertisingBold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987640" y="3213000"/>
            <a:ext cx="1143000" cy="38592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1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26" dur="indefinite" restart="never" nodeType="tmRoot">
          <p:childTnLst>
            <p:seq>
              <p:cTn id="727" dur="indefinite" nodeType="mainSeq">
                <p:childTnLst>
                  <p:par>
                    <p:cTn id="728" fill="hold">
                      <p:stCondLst>
                        <p:cond delay="indefinite"/>
                      </p:stCondLst>
                      <p:childTnLst>
                        <p:par>
                          <p:cTn id="729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8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"/>
          <p:cNvSpPr/>
          <p:nvPr/>
        </p:nvSpPr>
        <p:spPr>
          <a:xfrm>
            <a:off x="1692360" y="1916280"/>
            <a:ext cx="6878520" cy="1676160"/>
          </a:xfrm>
          <a:prstGeom prst="rect">
            <a:avLst/>
          </a:prstGeom>
          <a:solidFill>
            <a:srgbClr val="f4d22a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سئلة ”لم لا“ ؟ وهى التى تحدد الوضع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800000"/>
                </a:solidFill>
                <a:latin typeface="Times New Roman"/>
                <a:cs typeface="AdvertisingBold"/>
              </a:rPr>
              <a:t>المرغوب الوصول ال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800000"/>
                </a:solidFill>
                <a:latin typeface="Arial"/>
                <a:cs typeface="Arial"/>
              </a:rPr>
              <a:t>ومن امثلتها</a:t>
            </a:r>
            <a:r>
              <a:rPr b="1" lang="ar-SA" sz="2000" spc="-1" strike="noStrike">
                <a:solidFill>
                  <a:srgbClr val="545472"/>
                </a:solidFill>
                <a:latin typeface="Arial"/>
                <a:ea typeface="Arial"/>
              </a:rPr>
              <a:t> ............................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2771640" y="2492280"/>
            <a:ext cx="77652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40" dur="indefinite" restart="never" nodeType="tmRoot">
          <p:childTnLst>
            <p:seq>
              <p:cTn id="741" dur="indefinite" nodeType="mainSeq">
                <p:childTnLst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8" fill="hold">
                      <p:stCondLst>
                        <p:cond delay="indefinite"/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1979640" y="1557360"/>
            <a:ext cx="5943600" cy="1523880"/>
          </a:xfrm>
          <a:prstGeom prst="rect">
            <a:avLst/>
          </a:prstGeom>
          <a:solidFill>
            <a:srgbClr val="f9e78b"/>
          </a:solidFill>
          <a:ln w="9360">
            <a:solidFill>
              <a:srgbClr val="724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724c00"/>
                </a:solidFill>
                <a:latin typeface="Times New Roman"/>
                <a:ea typeface="AdvertisingLight"/>
              </a:rPr>
              <a:t> </a:t>
            </a: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أسئلة كيف ؟ وهي التساؤلات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التى تحدد كيفية الوصول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cs typeface="AdvertisingBold"/>
              </a:rPr>
              <a:t>الى الوضع المرغوب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724c00"/>
                </a:solidFill>
                <a:latin typeface="Times New Roman"/>
                <a:ea typeface="AdvertisingBold"/>
              </a:rPr>
              <a:t> ومن امثلتها .............................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268360" y="1989000"/>
            <a:ext cx="1143000" cy="1143000"/>
          </a:xfrm>
          <a:prstGeom prst="smileyFace">
            <a:avLst>
              <a:gd name="adj" fmla="val 9282"/>
            </a:avLst>
          </a:prstGeom>
          <a:noFill/>
          <a:ln w="9360">
            <a:solidFill>
              <a:srgbClr val="f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827640" y="232920"/>
            <a:ext cx="7201440" cy="110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660066"/>
                </a:solidFill>
                <a:latin typeface="Tahoma"/>
              </a:rPr>
              <a:t>كيف استخدم أسئلة الإبداع ؟</a:t>
            </a:r>
            <a:br>
              <a:rPr sz="3200"/>
            </a:b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( أنواع وتصنيفات الأسئلة الفعالة في الإبداع )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54" dur="indefinite" restart="never" nodeType="tmRoot">
          <p:childTnLst>
            <p:seq>
              <p:cTn id="755" dur="indefinite" nodeType="mainSeq">
                <p:childTnLst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2" fill="hold">
                      <p:stCondLst>
                        <p:cond delay="indefinite"/>
                      </p:stCondLst>
                      <p:childTnLst>
                        <p:par>
                          <p:cTn id="763" fill="hold">
                            <p:stCondLst>
                              <p:cond delay="0"/>
                            </p:stCondLst>
                            <p:childTnLst>
                              <p:par>
                                <p:cTn id="7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7" dur="500" fill="hold"/>
                                        <p:tgtEl>
                                          <p:spTgt spid="3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4400" spc="-1" strike="noStrike">
                <a:solidFill>
                  <a:srgbClr val="660066"/>
                </a:solidFill>
                <a:latin typeface="Tahoma"/>
              </a:rPr>
              <a:t>4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-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افترضى انك بصدد التفكير فى تحديث المدخل الخارجى لقسمك او بيتك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45472"/>
                </a:solidFill>
                <a:latin typeface="Tahoma"/>
              </a:rPr>
              <a:t>ماهو تصورك للجوانب التى سوف تشملها عملية التحديث؟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 txBox="1"/>
          <p:nvPr/>
        </p:nvSpPr>
        <p:spPr>
          <a:xfrm>
            <a:off x="756360" y="233820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36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68" dur="indefinite" restart="never" nodeType="tmRoot">
          <p:childTnLst>
            <p:seq>
              <p:cTn id="769" dur="indefinite" nodeType="mainSeq">
                <p:childTnLst>
                  <p:par>
                    <p:cTn id="770" fill="hold">
                      <p:stCondLst>
                        <p:cond delay="0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4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7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/>
          </p:nvPr>
        </p:nvSpPr>
        <p:spPr>
          <a:xfrm>
            <a:off x="972720" y="3061800"/>
            <a:ext cx="72090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595ff"/>
                </a:solidFill>
                <a:latin typeface="Tahoma"/>
              </a:rPr>
              <a:t>	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9595ff"/>
                </a:solidFill>
                <a:latin typeface="Tahoma"/>
                <a:cs typeface="PT Bold Heading"/>
              </a:rPr>
              <a:t>هو محاولة الحصول على أكبر عدد من الأفكار الإبداع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212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9595ff"/>
                </a:solidFill>
                <a:latin typeface="Tahoma"/>
                <a:ea typeface="PT Bold Heading"/>
              </a:rPr>
              <a:t> بواسطة بيئة محفزة ومتحررة من القيود غير الضرورية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  <a:ea typeface="PT Bold Heading"/>
              </a:rPr>
              <a:t>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EG" sz="3600" spc="-1" strike="noStrike">
                <a:solidFill>
                  <a:srgbClr val="3333cc"/>
                </a:solidFill>
                <a:latin typeface="Tahoma"/>
              </a:rPr>
              <a:t>5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24" name="" descr=""/>
          <p:cNvPicPr/>
          <p:nvPr/>
        </p:nvPicPr>
        <p:blipFill>
          <a:blip r:embed="rId3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5" dur="5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6" fill="hold">
                            <p:stCondLst>
                              <p:cond delay="500"/>
                            </p:stCondLst>
                            <p:childTnLst>
                              <p:par>
                                <p:cTn id="787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9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0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/>
          </p:nvPr>
        </p:nvSpPr>
        <p:spPr>
          <a:xfrm>
            <a:off x="831960" y="3062160"/>
            <a:ext cx="7548480" cy="2570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ffff99"/>
                </a:solidFill>
                <a:latin typeface="Tahoma"/>
              </a:rPr>
              <a:t>يرى اسبورن ان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”عبارة عن مؤتمر ابتكارى ذى طبيعة خاصة  من اجل انتاج قائمة من الافكار,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95ff"/>
                </a:solidFill>
                <a:latin typeface="Tahoma"/>
              </a:rPr>
              <a:t> يمكن أن تستخدم كمفتاح تقود الى بلورة المشكلة, وتؤدى بالتالى الى تكوين حل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000" spc="-1" strike="noStrike">
                <a:solidFill>
                  <a:srgbClr val="9595ff"/>
                </a:solidFill>
                <a:latin typeface="Tahoma"/>
              </a:rPr>
              <a:t>للمشكل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26" name=""/>
          <p:cNvSpPr txBox="1"/>
          <p:nvPr/>
        </p:nvSpPr>
        <p:spPr>
          <a:xfrm>
            <a:off x="832680" y="585720"/>
            <a:ext cx="7485120" cy="13068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76320">
            <a:solidFill>
              <a:srgbClr val="c7c7df"/>
            </a:solidFill>
            <a:miter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3333cc"/>
                </a:solidFill>
                <a:latin typeface="Tahoma"/>
              </a:rPr>
              <a:t>3</a:t>
            </a:r>
            <a:r>
              <a:rPr b="0" lang="ar-SA" sz="2800" spc="-1" strike="noStrike">
                <a:solidFill>
                  <a:srgbClr val="3333cc"/>
                </a:solidFill>
                <a:latin typeface="Tahoma"/>
              </a:rPr>
              <a:t>- عملية بناء الأفكار أو العصف الذهني 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</p:spTree>
  </p:cSld>
  <p:transition spd="med">
    <p:random/>
  </p:transition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indefinite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0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17819" dir="2700000" blurRad="0" rotWithShape="0">
              <a:srgbClr val="9797b7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45472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iming>
    <p:tnLst>
      <p:par>
        <p:cTn id="801" dur="indefinite" restart="never" nodeType="tmRoot">
          <p:childTnLst>
            <p:seq>
              <p:cTn id="802" dur="indefinite" nodeType="mainSeq">
                <p:childTnLst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3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3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2819520"/>
            <a:ext cx="7772400" cy="228600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45472"/>
            </a:solidFill>
            <a:miter/>
          </a:ln>
          <a:effectLst>
            <a:outerShdw dist="36147" dir="2700000" blurRad="0" rotWithShape="0">
              <a:srgbClr val="9797b7"/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  <a:cs typeface="AdvertisingBold"/>
              </a:rPr>
              <a:t>هو المرحلة الرئيسية للابداع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50" name=""/>
          <p:cNvSpPr txBox="1"/>
          <p:nvPr/>
        </p:nvSpPr>
        <p:spPr>
          <a:xfrm>
            <a:off x="2971800" y="914400"/>
            <a:ext cx="3352680" cy="1523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660066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فكير</a:t>
            </a:r>
            <a:endParaRPr b="0" lang="en-US" sz="2400" spc="1" strike="noStrike">
              <a:ln w="12600">
                <a:solidFill>
                  <a:srgbClr val="660066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1/1</a:t>
            </a: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hi-IN" sz="20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799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200" spc="-1" strike="noStrike">
                <a:solidFill>
                  <a:srgbClr val="9595ff"/>
                </a:solidFill>
                <a:latin typeface="Tahoma"/>
              </a:rPr>
              <a:t>اختيار رئيس للمجموع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مهارات عالية فى التعامل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متلك شخصية قوية مرنة ومتفهمة.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يشجع توليد الافكار      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*جمع المعلومات الكافية حول الموضوع وتزويد المشاركين بها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r" rtl="1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يمان المسئول عن ادارة الجلسة بجدوى هذا الاسلوب فى التوصل الى حلول ابداعية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lnSpc>
                <a:spcPct val="80000"/>
              </a:lnSpc>
              <a:spcBef>
                <a:spcPts val="601"/>
              </a:spcBef>
              <a:buClr>
                <a:srgbClr val="ffff99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ffff99"/>
                </a:solidFill>
                <a:latin typeface="Tahoma"/>
              </a:rPr>
              <a:t>ان تكون الجلسة موضوعية بعيدة عن الآراء والدفاعات الشخصية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  <a:p>
            <a:pPr marL="329040" indent="0" algn="ctr" rtl="1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7" dur="indefinite" restart="never" nodeType="tmRoot">
          <p:childTnLst>
            <p:seq>
              <p:cTn id="828" dur="indefinite" nodeType="mainSeq">
                <p:childTnLst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3" dur="5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fill="hold">
                      <p:stCondLst>
                        <p:cond delay="indefinite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38" dur="500"/>
                                        <p:tgtEl>
                                          <p:spTgt spid="33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3" dur="500"/>
                                        <p:tgtEl>
                                          <p:spTgt spid="3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48" dur="500"/>
                                        <p:tgtEl>
                                          <p:spTgt spid="3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3" dur="500"/>
                                        <p:tgtEl>
                                          <p:spTgt spid="3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58" dur="500"/>
                                        <p:tgtEl>
                                          <p:spTgt spid="3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3" dur="500"/>
                                        <p:tgtEl>
                                          <p:spTgt spid="33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68" dur="500"/>
                                        <p:tgtEl>
                                          <p:spTgt spid="33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يكون عدد المشاركين فى جلسة العصف بين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6/12</a:t>
            </a: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 شخصا من الاشخاص المعنيين بالموضوع ومن ذوى الخبرة ومن ذوى الصلاحيات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-325800" algn="ctr" rtl="1"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ضرورة التمهيد لجلسات العصف وعقد الجلسات لازالة الحواجز بين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595ff"/>
                </a:solidFill>
                <a:latin typeface="Tahoma"/>
              </a:rPr>
              <a:t>- تعين مراقب لتدوين وترقيم الافكار المنبثقة من الجلسة وتوزيعها على جميع المشاركين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25800" indent="0" algn="ct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75" dur="500"/>
                                        <p:tgtEl>
                                          <p:spTgt spid="3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6" fill="hold">
                      <p:stCondLst>
                        <p:cond delay="indefinite"/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0" dur="500"/>
                                        <p:tgtEl>
                                          <p:spTgt spid="3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85" dur="500"/>
                                        <p:tgtEl>
                                          <p:spTgt spid="3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6" fill="hold">
                      <p:stCondLst>
                        <p:cond delay="indefinite"/>
                      </p:stCondLst>
                      <p:childTnLst>
                        <p:par>
                          <p:cTn id="887" fill="hold">
                            <p:stCondLst>
                              <p:cond delay="0"/>
                            </p:stCondLst>
                            <p:childTnLst>
                              <p:par>
                                <p:cTn id="88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0" dur="500"/>
                                        <p:tgtEl>
                                          <p:spTgt spid="33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- </a:t>
            </a:r>
            <a:r>
              <a:rPr b="0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بادى وقواعد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يجب ان تستمر جلسات العصف الذهنى وعملية توليد الافكار حتى يقل سيل الافكار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ان يسود الجلسة جو من خفة الظل.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وفير قاعة مناسبة وتوفير متطلبات الاجتماع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ctr" rtl="1">
              <a:lnSpc>
                <a:spcPct val="90000"/>
              </a:lnSpc>
              <a:spcBef>
                <a:spcPts val="601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تحديد الوقت المحدد للجلسات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1" dur="indefinite" restart="never" nodeType="tmRoot">
          <p:childTnLst>
            <p:seq>
              <p:cTn id="892" dur="indefinite" nodeType="mainSeq">
                <p:childTnLst>
                  <p:par>
                    <p:cTn id="893" fill="hold">
                      <p:stCondLst>
                        <p:cond delay="indefinite"/>
                      </p:stCondLst>
                      <p:childTnLst>
                        <p:par>
                          <p:cTn id="894" fill="hold">
                            <p:stCondLst>
                              <p:cond delay="0"/>
                            </p:stCondLst>
                            <p:childTnLst>
                              <p:par>
                                <p:cTn id="89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897" dur="500"/>
                                        <p:tgtEl>
                                          <p:spTgt spid="3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8" fill="hold">
                      <p:stCondLst>
                        <p:cond delay="indefinite"/>
                      </p:stCondLst>
                      <p:childTnLst>
                        <p:par>
                          <p:cTn id="899" fill="hold">
                            <p:stCondLst>
                              <p:cond delay="0"/>
                            </p:stCondLst>
                            <p:childTnLst>
                              <p:par>
                                <p:cTn id="90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2" dur="500"/>
                                        <p:tgtEl>
                                          <p:spTgt spid="3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07" dur="500"/>
                                        <p:tgtEl>
                                          <p:spTgt spid="3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2" dur="500"/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17" dur="500"/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2</a:t>
            </a:r>
            <a:r>
              <a:rPr b="1" lang="en-US" sz="2800" spc="-1" strike="noStrike" u="sng">
                <a:solidFill>
                  <a:srgbClr val="ff5050"/>
                </a:solidFill>
                <a:uFillTx/>
                <a:latin typeface="Tahoma"/>
              </a:rPr>
              <a:t>-  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أ-التحديد الواضح للموضوع او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طرح وشرح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- صياغة  دقيقة للموضوع أو المشكلة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</a:rPr>
              <a:t>تحديد المشكل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ه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اين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ن تعنى المشكلة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تى حدثت او بدأت فى الظهو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ل المشكلة تكبر ام تصغر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-34308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ما هو الوضع الطبيع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8" dur="indefinite" restart="never" nodeType="tmRoot">
          <p:childTnLst>
            <p:seq>
              <p:cTn id="919" dur="indefinite" nodeType="mainSeq">
                <p:childTnLst>
                  <p:par>
                    <p:cTn id="920" fill="hold">
                      <p:stCondLst>
                        <p:cond delay="indefinite"/>
                      </p:stCondLst>
                      <p:childTnLst>
                        <p:par>
                          <p:cTn id="921" fill="hold">
                            <p:stCondLst>
                              <p:cond delay="0"/>
                            </p:stCondLst>
                            <p:childTnLst>
                              <p:par>
                                <p:cTn id="92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4" dur="500"/>
                                        <p:tgtEl>
                                          <p:spTgt spid="3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29" dur="500"/>
                                        <p:tgtEl>
                                          <p:spTgt spid="33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0" fill="hold">
                      <p:stCondLst>
                        <p:cond delay="indefinite"/>
                      </p:stCondLst>
                      <p:childTnLst>
                        <p:par>
                          <p:cTn id="931" fill="hold">
                            <p:stCondLst>
                              <p:cond delay="0"/>
                            </p:stCondLst>
                            <p:childTnLst>
                              <p:par>
                                <p:cTn id="93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4" dur="500"/>
                                        <p:tgtEl>
                                          <p:spTgt spid="33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5" fill="hold">
                      <p:stCondLst>
                        <p:cond delay="indefinite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39" dur="500"/>
                                        <p:tgtEl>
                                          <p:spTgt spid="33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4" dur="500"/>
                                        <p:tgtEl>
                                          <p:spTgt spid="33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49" dur="500"/>
                                        <p:tgtEl>
                                          <p:spTgt spid="33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 algn="ctr" rtl="1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 u="sng">
                <a:solidFill>
                  <a:srgbClr val="ff5050"/>
                </a:solidFill>
                <a:uFillTx/>
                <a:latin typeface="Tahoma"/>
              </a:rPr>
              <a:t>قواعد العصف الذهنى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ضرورة تجنب النقد  والحكم المبكر على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0066"/>
                </a:solidFill>
                <a:latin typeface="Tahoma"/>
              </a:rPr>
              <a:t>( فى هذه المرحلة يتم استنباط الافكار وليس تقيمها)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طلاق حرية التفكير والترحيب بكل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15360" indent="-315360" algn="ctr" rtl="1">
              <a:lnSpc>
                <a:spcPct val="90000"/>
              </a:lnSpc>
              <a:spcBef>
                <a:spcPts val="700"/>
              </a:spcBef>
              <a:buClr>
                <a:srgbClr val="9595ff"/>
              </a:buClr>
              <a:buSzPct val="90000"/>
              <a:buFont typeface="Tahom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9595ff"/>
                </a:solidFill>
                <a:latin typeface="Tahoma"/>
              </a:rPr>
              <a:t>المطلوب الحصول على اكبر عدد من الافكار بغض النظر عن جودتها او مدى عملياتها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0" dur="indefinite" restart="never" nodeType="tmRoot">
          <p:childTnLst>
            <p:seq>
              <p:cTn id="951" dur="indefinite" nodeType="mainSeq">
                <p:childTnLst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56" dur="500"/>
                                        <p:tgtEl>
                                          <p:spTgt spid="34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7" fill="hold">
                      <p:stCondLst>
                        <p:cond delay="indefinite"/>
                      </p:stCondLst>
                      <p:childTnLst>
                        <p:par>
                          <p:cTn id="958" fill="hold">
                            <p:stCondLst>
                              <p:cond delay="0"/>
                            </p:stCondLst>
                            <p:childTnLst>
                              <p:par>
                                <p:cTn id="95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1" dur="500"/>
                                        <p:tgtEl>
                                          <p:spTgt spid="34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66" dur="500"/>
                                        <p:tgtEl>
                                          <p:spTgt spid="34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7" fill="hold">
                      <p:stCondLst>
                        <p:cond delay="indefinite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1" dur="500"/>
                                        <p:tgtEl>
                                          <p:spTgt spid="34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2" fill="hold">
                      <p:stCondLst>
                        <p:cond delay="indefinite"/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76" dur="500"/>
                                        <p:tgtEl>
                                          <p:spTgt spid="34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</a:t>
            </a:r>
            <a:r>
              <a:rPr b="0" lang="ar-SA" sz="2800" spc="-1" strike="noStrike">
                <a:solidFill>
                  <a:srgbClr val="660066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0" y="1294920"/>
            <a:ext cx="86868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 u="sng">
                <a:solidFill>
                  <a:srgbClr val="ff5050"/>
                </a:solidFill>
                <a:uFillTx/>
                <a:latin typeface="Tahoma"/>
              </a:rPr>
              <a:t>مراحل جلسات العصف الذهنى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ج- كتابة قائمة الافكار التى تم التوصل اليها وتوزع على المشاركين لمراجعة ماتم التوصل الي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400" spc="-1" strike="noStrike">
                <a:solidFill>
                  <a:srgbClr val="9595ff"/>
                </a:solidFill>
                <a:latin typeface="Tahoma"/>
              </a:rPr>
              <a:t>ء- تقيم الافكار التى تم توليدها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5050"/>
                </a:solidFill>
                <a:latin typeface="Tahoma"/>
              </a:rPr>
              <a:t>            </a:t>
            </a: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- استكشاف الافكار الجديد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 - دمج الافكار المتشابهة والمتماثلة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r" rtl="1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99"/>
                </a:solidFill>
                <a:latin typeface="Tahoma"/>
              </a:rPr>
              <a:t>           - تحديد الافكار التى تمثل حل للمشكلة            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marL="305280" indent="0" algn="ctr" rtl="1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5050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7" dur="indefinite" restart="never" nodeType="tmRoot">
          <p:childTnLst>
            <p:seq>
              <p:cTn id="978" dur="indefinite" nodeType="mainSeq">
                <p:childTnLst>
                  <p:par>
                    <p:cTn id="979" fill="hold">
                      <p:stCondLst>
                        <p:cond delay="indefinite"/>
                      </p:stCondLst>
                      <p:childTnLst>
                        <p:par>
                          <p:cTn id="980" fill="hold">
                            <p:stCondLst>
                              <p:cond delay="0"/>
                            </p:stCondLst>
                            <p:childTnLst>
                              <p:par>
                                <p:cTn id="98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3" dur="500"/>
                                        <p:tgtEl>
                                          <p:spTgt spid="3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88" dur="500"/>
                                        <p:tgtEl>
                                          <p:spTgt spid="3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9" fill="hold">
                      <p:stCondLst>
                        <p:cond delay="indefinite"/>
                      </p:stCondLst>
                      <p:childTnLst>
                        <p:par>
                          <p:cTn id="990" fill="hold">
                            <p:stCondLst>
                              <p:cond delay="0"/>
                            </p:stCondLst>
                            <p:childTnLst>
                              <p:par>
                                <p:cTn id="99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3" dur="500"/>
                                        <p:tgtEl>
                                          <p:spTgt spid="3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998" dur="500"/>
                                        <p:tgtEl>
                                          <p:spTgt spid="3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3" dur="500"/>
                                        <p:tgtEl>
                                          <p:spTgt spid="3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4" fill="hold">
                      <p:stCondLst>
                        <p:cond delay="indefinite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08" dur="500"/>
                                        <p:tgtEl>
                                          <p:spTgt spid="34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13" dur="500"/>
                                        <p:tgtEl>
                                          <p:spTgt spid="34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أسئلة مساعدة لتقيم الافكار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يمكن تنفيذ هزة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حل المشكل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زيد الانتاجي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تأثيرها على التكلف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ما هو الوقت الذى يستغرقه تنفيذ الفك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ستجد القبول من المسئولين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متطلبات التنفيذ متوافرة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r" rtl="1">
              <a:lnSpc>
                <a:spcPct val="90000"/>
              </a:lnSpc>
              <a:spcBef>
                <a:spcPts val="700"/>
              </a:spcBef>
              <a:buSzPct val="105842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545472"/>
                </a:solidFill>
                <a:latin typeface="Tahoma"/>
              </a:rPr>
              <a:t>هل تطبيق الفكرة يمثل حل مؤقت ام حل دائم.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4" dur="indefinite" restart="never" nodeType="tmRoot">
          <p:childTnLst>
            <p:seq>
              <p:cTn id="1015" dur="indefinite" nodeType="mainSeq">
                <p:childTnLst>
                  <p:par>
                    <p:cTn id="1016" fill="hold">
                      <p:stCondLst>
                        <p:cond delay="indefinite"/>
                      </p:stCondLst>
                      <p:childTnLst>
                        <p:par>
                          <p:cTn id="1017" fill="hold">
                            <p:stCondLst>
                              <p:cond delay="0"/>
                            </p:stCondLst>
                            <p:childTnLst>
                              <p:par>
                                <p:cTn id="101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0" dur="500"/>
                                        <p:tgtEl>
                                          <p:spTgt spid="3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25" dur="500"/>
                                        <p:tgtEl>
                                          <p:spTgt spid="3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0" dur="500"/>
                                        <p:tgtEl>
                                          <p:spTgt spid="3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1" fill="hold">
                      <p:stCondLst>
                        <p:cond delay="indefinite"/>
                      </p:stCondLst>
                      <p:childTnLst>
                        <p:par>
                          <p:cTn id="1032" fill="hold">
                            <p:stCondLst>
                              <p:cond delay="0"/>
                            </p:stCondLst>
                            <p:childTnLst>
                              <p:par>
                                <p:cTn id="103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35" dur="500"/>
                                        <p:tgtEl>
                                          <p:spTgt spid="34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0" dur="500"/>
                                        <p:tgtEl>
                                          <p:spTgt spid="34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1" fill="hold">
                      <p:stCondLst>
                        <p:cond delay="indefinite"/>
                      </p:stCondLst>
                      <p:childTnLst>
                        <p:par>
                          <p:cTn id="1042" fill="hold">
                            <p:stCondLst>
                              <p:cond delay="0"/>
                            </p:stCondLst>
                            <p:childTnLst>
                              <p:par>
                                <p:cTn id="104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45" dur="500"/>
                                        <p:tgtEl>
                                          <p:spTgt spid="34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6" fill="hold">
                      <p:stCondLst>
                        <p:cond delay="indefinite"/>
                      </p:stCondLst>
                      <p:childTnLst>
                        <p:par>
                          <p:cTn id="1047" fill="hold">
                            <p:stCondLst>
                              <p:cond delay="0"/>
                            </p:stCondLst>
                            <p:childTnLst>
                              <p:par>
                                <p:cTn id="104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0" dur="500"/>
                                        <p:tgtEl>
                                          <p:spTgt spid="34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1" fill="hold">
                      <p:stCondLst>
                        <p:cond delay="indefinite"/>
                      </p:stCondLst>
                      <p:childTnLst>
                        <p:par>
                          <p:cTn id="1052" fill="hold">
                            <p:stCondLst>
                              <p:cond delay="0"/>
                            </p:stCondLst>
                            <p:childTnLst>
                              <p:par>
                                <p:cTn id="1053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55" dur="500"/>
                                        <p:tgtEl>
                                          <p:spTgt spid="34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6" fill="hold">
                      <p:stCondLst>
                        <p:cond delay="indefinite"/>
                      </p:stCondLst>
                      <p:childTnLst>
                        <p:par>
                          <p:cTn id="1057" fill="hold">
                            <p:stCondLst>
                              <p:cond delay="0"/>
                            </p:stCondLst>
                            <p:childTnLst>
                              <p:par>
                                <p:cTn id="1058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0" dur="500"/>
                                        <p:tgtEl>
                                          <p:spTgt spid="34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7c7df"/>
                </a:solidFill>
                <a:latin typeface="Tahoma"/>
              </a:rPr>
              <a:t>عملية بناء الأفكار أو العصف الذهني </a:t>
            </a:r>
            <a:r>
              <a:rPr b="0" lang="en-US" sz="2800" spc="-1" strike="noStrike">
                <a:solidFill>
                  <a:srgbClr val="ff5050"/>
                </a:solidFill>
                <a:latin typeface="Tahoma"/>
              </a:rPr>
              <a:t>Brainst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هـ - الاعداد لوضع الافكار موضع التنفيذ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43080"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545472"/>
                </a:solidFill>
                <a:latin typeface="Tahoma"/>
              </a:rPr>
              <a:t>ر- متابعة التنفيذ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1" dur="indefinite" restart="never" nodeType="tmRoot">
          <p:childTnLst>
            <p:seq>
              <p:cTn id="1062" dur="indefinite" nodeType="mainSeq">
                <p:childTnLst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67" dur="500"/>
                                        <p:tgtEl>
                                          <p:spTgt spid="3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072" dur="500"/>
                                        <p:tgtEl>
                                          <p:spTgt spid="3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 algn="just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أسلوب إبداعي بسيط وأكثرها إثارة وخاصة عندما يكون الغرض هو تطوير أفكار أساسية بالنسبة لمنتج معين .ويمكن أن يكون هذا الأسلوب أكثر ملائما بالنسبة للأشياء المادية منها .للأشياء غير المادية .</a:t>
            </a:r>
            <a:r>
              <a:rPr b="1" lang="en-US" sz="3200" spc="-1" strike="noStrike">
                <a:solidFill>
                  <a:srgbClr val="531c03"/>
                </a:solidFill>
                <a:latin typeface="Tahoma"/>
                <a:ea typeface="Arial Unicode MS"/>
              </a:rPr>
              <a:t>  </a:t>
            </a:r>
            <a:r>
              <a:rPr b="1" lang="ar-SA" sz="3200" spc="-1" strike="noStrike">
                <a:solidFill>
                  <a:srgbClr val="531c03"/>
                </a:solidFill>
                <a:latin typeface="Tahoma"/>
                <a:cs typeface="Arial Unicode MS"/>
              </a:rPr>
              <a:t>لذا فإذا كان الهدف تطوير منتج أو خدمة أو إجراء أو عملية فإن أفضل وسيلة هو القيام بتحديد خصائص أو مكونات هذا الشيء ، ثم تدوينها بعد ذلك تقوم الجماعة أو الشخص بمراجعة هذه الخصائص والعمل على تطويرها .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73" dur="indefinite" restart="never" nodeType="tmRoot">
          <p:childTnLst>
            <p:seq>
              <p:cTn id="1074" dur="indefinite" nodeType="mainSeq">
                <p:childTnLst>
                  <p:par>
                    <p:cTn id="1075" fill="hold">
                      <p:stCondLst>
                        <p:cond delay="indefinite"/>
                      </p:stCondLst>
                      <p:childTnLst>
                        <p:par>
                          <p:cTn id="1076" fill="hold">
                            <p:stCondLst>
                              <p:cond delay="0"/>
                            </p:stCondLst>
                            <p:childTnLst>
                              <p:par>
                                <p:cTn id="10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3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4" dur="500" fill="hold"/>
                                        <p:tgtEl>
                                          <p:spTgt spid="3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762120" y="762120"/>
            <a:ext cx="7391160" cy="5410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1752480" y="1066680"/>
            <a:ext cx="5721480" cy="825480"/>
            <a:chOff x="1752480" y="1066680"/>
            <a:chExt cx="5721480" cy="825480"/>
          </a:xfrm>
        </p:grpSpPr>
        <p:sp>
          <p:nvSpPr>
            <p:cNvPr id="153" name=""/>
            <p:cNvSpPr/>
            <p:nvPr/>
          </p:nvSpPr>
          <p:spPr>
            <a:xfrm>
              <a:off x="1752480" y="1066680"/>
              <a:ext cx="57214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The creative thinking process looks like this</a:t>
              </a:r>
              <a:r>
                <a:rPr b="0" lang="en-US" sz="2400" spc="-1" strike="noStrike">
                  <a:solidFill>
                    <a:srgbClr val="545472"/>
                  </a:solidFill>
                  <a:latin typeface="Times New Roman"/>
                </a:rPr>
                <a:t>: </a:t>
              </a: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752480" y="1888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pic>
        <p:nvPicPr>
          <p:cNvPr id="155" name="" descr="This shows the creative process"/>
          <p:cNvPicPr/>
          <p:nvPr/>
        </p:nvPicPr>
        <p:blipFill>
          <a:blip r:embed="rId2"/>
          <a:stretch/>
        </p:blipFill>
        <p:spPr>
          <a:xfrm>
            <a:off x="1600200" y="1854360"/>
            <a:ext cx="4419720" cy="32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قائمة الخصائص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838080" y="21337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 algn="ct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329040" indent="-329040" algn="ct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da125"/>
                </a:solidFill>
                <a:latin typeface="Tahoma"/>
                <a:cs typeface="Times New Roman"/>
              </a:rPr>
              <a:t>وكمثال على استخدام قائمة الخصائص ، فإن بإمكاننا أن نفكر في التحسينات التي تم إجراءها على الكثير من الأشياء على سبيل المثال لا الحصر :الحاسب الآلي ، الهاتف ، دواليب الحفظ 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000</a:t>
            </a:r>
            <a:r>
              <a:rPr b="1" lang="ar-SA" sz="3200" spc="-1" strike="noStrike">
                <a:solidFill>
                  <a:srgbClr val="3da125"/>
                </a:solidFill>
                <a:latin typeface="Tahoma"/>
                <a:ea typeface="Times New Roman"/>
              </a:rPr>
              <a:t> الخ </a:t>
            </a:r>
            <a:br>
              <a:rPr sz="3200"/>
            </a:br>
            <a:br>
              <a:rPr sz="3200"/>
            </a:br>
            <a:r>
              <a:rPr b="1" lang="ar-SA" sz="3200" spc="-1" strike="noStrike">
                <a:solidFill>
                  <a:srgbClr val="531c03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85" dur="indefinite" restart="never" nodeType="tmRoot">
          <p:childTnLst>
            <p:seq>
              <p:cTn id="1086" dur="indefinite" nodeType="mainSeq">
                <p:childTnLst>
                  <p:par>
                    <p:cTn id="1087" fill="hold">
                      <p:stCondLst>
                        <p:cond delay="indefinite"/>
                      </p:stCondLst>
                      <p:childTnLst>
                        <p:par>
                          <p:cTn id="1088" fill="hold">
                            <p:stCondLst>
                              <p:cond delay="0"/>
                            </p:stCondLst>
                            <p:childTnLst>
                              <p:par>
                                <p:cTn id="10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5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6" dur="500" fill="hold"/>
                                        <p:tgtEl>
                                          <p:spTgt spid="3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تداعي المعاني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3" name=""/>
          <p:cNvSpPr/>
          <p:nvPr/>
        </p:nvSpPr>
        <p:spPr>
          <a:xfrm>
            <a:off x="0" y="2286000"/>
            <a:ext cx="914400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000" spc="-1" strike="noStrike">
                <a:solidFill>
                  <a:srgbClr val="0000cc"/>
                </a:solidFill>
                <a:latin typeface="Times New Roman"/>
                <a:cs typeface="Times New Roman"/>
              </a:rPr>
              <a:t>وفقا لهذا الأسلوب يتم توظيف قوة العقل غير المحدودة في الربط بين الأشياء أو المعاني بصورة غير متناهية .</a:t>
            </a:r>
            <a:r>
              <a:rPr b="0" lang="en-US" sz="4000" spc="-1" strike="noStrike">
                <a:solidFill>
                  <a:srgbClr val="0000cc"/>
                </a:solidFill>
                <a:latin typeface="Times New Roman"/>
                <a:ea typeface="Times New Roman"/>
              </a:rPr>
              <a:t>  </a:t>
            </a:r>
            <a:r>
              <a:rPr b="0" lang="ar-SA" sz="4000" spc="-1" strike="noStrike">
                <a:solidFill>
                  <a:srgbClr val="ff3399"/>
                </a:solidFill>
                <a:latin typeface="Times New Roman"/>
                <a:cs typeface="Times New Roman"/>
              </a:rPr>
              <a:t>والغرض منها الخروج بنتاج جديد يضم مخرجات مادية وأفكار وتصميمات.</a:t>
            </a:r>
            <a:r>
              <a:rPr b="0" lang="en-US" sz="4000" spc="-1" strike="noStrike">
                <a:solidFill>
                  <a:srgbClr val="ff3399"/>
                </a:solidFill>
                <a:latin typeface="Times New Roman"/>
                <a:ea typeface="Times New Roman"/>
              </a:rPr>
              <a:t>  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p:transition spd="med">
    <p:random/>
  </p:transition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660066"/>
                </a:solidFill>
                <a:latin typeface="Tahoma"/>
                <a:cs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5000"/>
          </a:bodyPr>
          <a:p>
            <a:pPr marL="257040" indent="-257040" algn="r" rtl="1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0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marL="257040" indent="-257040" algn="r" rtl="1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45472"/>
                </a:solidFill>
                <a:latin typeface="Tahoma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timing>
    <p:tnLst>
      <p:par>
        <p:cTn id="1097" dur="indefinite" restart="never" nodeType="tmRoot">
          <p:childTnLst>
            <p:seq>
              <p:cTn id="1098" dur="indefinite" nodeType="mainSeq">
                <p:childTnLst>
                  <p:par>
                    <p:cTn id="1099" fill="hold">
                      <p:stCondLst>
                        <p:cond delay="indefinite"/>
                      </p:stCondLst>
                      <p:childTnLst>
                        <p:par>
                          <p:cTn id="1100" fill="hold">
                            <p:stCondLst>
                              <p:cond delay="0"/>
                            </p:stCondLst>
                            <p:childTnLst>
                              <p:par>
                                <p:cTn id="1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7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8" dur="500" fill="hold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3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4" dur="500" fill="hold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5" fill="hold">
                      <p:stCondLst>
                        <p:cond delay="indefinite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9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0" dur="500" fill="hold"/>
                                        <p:tgtEl>
                                          <p:spTgt spid="3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1" fill="hold">
                      <p:stCondLst>
                        <p:cond delay="indefinite"/>
                      </p:stCondLst>
                      <p:childTnLst>
                        <p:par>
                          <p:cTn id="1122" fill="hold">
                            <p:stCondLst>
                              <p:cond delay="0"/>
                            </p:stCondLst>
                            <p:childTnLst>
                              <p:par>
                                <p:cTn id="1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5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6" dur="500" fill="hold"/>
                                        <p:tgtEl>
                                          <p:spTgt spid="3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7" fill="hold">
                      <p:stCondLst>
                        <p:cond delay="indefinite"/>
                      </p:stCondLst>
                      <p:childTnLst>
                        <p:par>
                          <p:cTn id="1128" fill="hold">
                            <p:stCondLst>
                              <p:cond delay="0"/>
                            </p:stCondLst>
                            <p:childTnLst>
                              <p:par>
                                <p:cTn id="1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1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2" dur="500" fill="hold"/>
                                        <p:tgtEl>
                                          <p:spTgt spid="3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3" fill="hold">
                      <p:stCondLst>
                        <p:cond delay="indefinite"/>
                      </p:stCondLst>
                      <p:childTnLst>
                        <p:par>
                          <p:cTn id="1134" fill="hold">
                            <p:stCondLst>
                              <p:cond delay="0"/>
                            </p:stCondLst>
                            <p:childTnLst>
                              <p:par>
                                <p:cTn id="1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7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8" dur="500" fill="hold"/>
                                        <p:tgtEl>
                                          <p:spTgt spid="3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"/>
          <p:cNvSpPr/>
          <p:nvPr/>
        </p:nvSpPr>
        <p:spPr>
          <a:xfrm>
            <a:off x="4724280" y="1295280"/>
            <a:ext cx="3733920" cy="6858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إنجاز والانتهاء من العمل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4724280" y="21337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تحقيق الأهداف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533520" y="12952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جود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33520" y="21337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حل مشكل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4724280" y="31240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عمل إبداعي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33520" y="3124080"/>
            <a:ext cx="3886200" cy="76212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سعادة وسرور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724280" y="3962520"/>
            <a:ext cx="3733920" cy="914400"/>
          </a:xfrm>
          <a:prstGeom prst="rect">
            <a:avLst/>
          </a:prstGeom>
          <a:solidFill>
            <a:srgbClr val="ffe1ab"/>
          </a:solidFill>
          <a:ln w="38160">
            <a:solidFill>
              <a:srgbClr val="a5002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2800" spc="-1" strike="noStrike">
                <a:solidFill>
                  <a:srgbClr val="a50021"/>
                </a:solidFill>
                <a:latin typeface="Times New Roman"/>
                <a:cs typeface="PT Bold Heading"/>
              </a:rPr>
              <a:t>القيم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666880" y="4952880"/>
            <a:ext cx="3733920" cy="76212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الاستمرارية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33520" y="3962520"/>
            <a:ext cx="3886200" cy="914400"/>
          </a:xfrm>
          <a:prstGeom prst="rect">
            <a:avLst/>
          </a:prstGeom>
          <a:solidFill>
            <a:srgbClr val="ccffcc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PT Bold Heading"/>
              </a:rPr>
              <a:t>تحقيق الذات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65" name=""/>
          <p:cNvSpPr txBox="1"/>
          <p:nvPr/>
        </p:nvSpPr>
        <p:spPr>
          <a:xfrm>
            <a:off x="632880" y="291960"/>
            <a:ext cx="7733160" cy="80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-1" strike="noStrike">
                <a:solidFill>
                  <a:srgbClr val="660066"/>
                </a:solidFill>
                <a:latin typeface="Tahoma"/>
              </a:rPr>
              <a:t>مخرجات الإبداع ( </a:t>
            </a:r>
            <a:r>
              <a:rPr b="0" lang="hi-IN" sz="4000" spc="-1" strike="noStrike">
                <a:solidFill>
                  <a:srgbClr val="ff66cc"/>
                </a:solidFill>
                <a:latin typeface="Tahoma"/>
              </a:rPr>
              <a:t>الإبداع كواقع عملي</a:t>
            </a: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 )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324000" y="5734080"/>
            <a:ext cx="768240" cy="836640"/>
          </a:xfrm>
          <a:prstGeom prst="rect">
            <a:avLst/>
          </a:prstGeom>
          <a:ln w="1908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transition spd="med">
    <p:random/>
  </p:transition>
  <p:timing>
    <p:tnLst>
      <p:par>
        <p:cTn id="1139" dur="indefinite" restart="never" nodeType="tmRoot">
          <p:childTnLst>
            <p:seq>
              <p:cTn id="1140" dur="indefinite" nodeType="mainSeq">
                <p:childTnLst>
                  <p:par>
                    <p:cTn id="1141" fill="hold">
                      <p:stCondLst>
                        <p:cond delay="indefinite"/>
                      </p:stCondLst>
                      <p:childTnLst>
                        <p:par>
                          <p:cTn id="1142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45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6" dur="5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7" fill="hold">
                      <p:stCondLst>
                        <p:cond delay="indefinite"/>
                      </p:stCondLst>
                      <p:childTnLst>
                        <p:par>
                          <p:cTn id="1148" fill="hold">
                            <p:stCondLst>
                              <p:cond delay="0"/>
                            </p:stCondLst>
                            <p:childTnLst>
                              <p:par>
                                <p:cTn id="114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1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2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3" fill="hold">
                      <p:stCondLst>
                        <p:cond delay="indefinite"/>
                      </p:stCondLst>
                      <p:childTnLst>
                        <p:par>
                          <p:cTn id="1154" fill="hold">
                            <p:stCondLst>
                              <p:cond delay="0"/>
                            </p:stCondLst>
                            <p:childTnLst>
                              <p:par>
                                <p:cTn id="115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7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58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9" fill="hold">
                      <p:stCondLst>
                        <p:cond delay="indefinite"/>
                      </p:stCondLst>
                      <p:childTnLst>
                        <p:par>
                          <p:cTn id="1160" fill="hold">
                            <p:stCondLst>
                              <p:cond delay="0"/>
                            </p:stCondLst>
                            <p:childTnLst>
                              <p:par>
                                <p:cTn id="116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3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4" dur="5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1" fill="hold">
                      <p:stCondLst>
                        <p:cond delay="indefinite"/>
                      </p:stCondLst>
                      <p:childTnLst>
                        <p:par>
                          <p:cTn id="1172" fill="hold">
                            <p:stCondLst>
                              <p:cond delay="0"/>
                            </p:stCondLst>
                            <p:childTnLst>
                              <p:par>
                                <p:cTn id="11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5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6" dur="5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7" fill="hold">
                      <p:stCondLst>
                        <p:cond delay="indefinite"/>
                      </p:stCondLst>
                      <p:childTnLst>
                        <p:par>
                          <p:cTn id="1178" fill="hold">
                            <p:stCondLst>
                              <p:cond delay="0"/>
                            </p:stCondLst>
                            <p:childTnLst>
                              <p:par>
                                <p:cTn id="11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3" fill="hold">
                      <p:stCondLst>
                        <p:cond delay="indefinite"/>
                      </p:stCondLst>
                      <p:childTnLst>
                        <p:par>
                          <p:cTn id="1184" fill="hold">
                            <p:stCondLst>
                              <p:cond delay="0"/>
                            </p:stCondLst>
                            <p:childTnLst>
                              <p:par>
                                <p:cTn id="118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7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9" fill="hold">
                      <p:stCondLst>
                        <p:cond delay="indefinite"/>
                      </p:stCondLst>
                      <p:childTnLst>
                        <p:par>
                          <p:cTn id="1190" fill="hold">
                            <p:stCondLst>
                              <p:cond delay="0"/>
                            </p:stCondLst>
                            <p:childTnLst>
                              <p:par>
                                <p:cTn id="1191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3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4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500"/>
                            </p:stCondLst>
                            <p:childTnLst>
                              <p:par>
                                <p:cTn id="1196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8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9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0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1" dur="10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6840" y="533160"/>
            <a:ext cx="792468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  <a:cs typeface="AdvertisingBold"/>
              </a:rPr>
              <a:t>تخيل المنظمة التي تعمل بها  وكيف ستكون في عام 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1470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  <a:ea typeface="AdvertisingBold"/>
              </a:rPr>
              <a:t> هـ ؟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368" name="" descr=""/>
          <p:cNvPicPr/>
          <p:nvPr/>
        </p:nvPicPr>
        <p:blipFill>
          <a:blip r:embed="rId2"/>
          <a:stretch/>
        </p:blipFill>
        <p:spPr>
          <a:xfrm>
            <a:off x="533520" y="2057400"/>
            <a:ext cx="777240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2057040" y="-360"/>
            <a:ext cx="5715000" cy="1523880"/>
          </a:xfrm>
          <a:prstGeom prst="rect">
            <a:avLst/>
          </a:prstGeom>
          <a:solidFill>
            <a:srgbClr val="9595ff"/>
          </a:solidFill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التفكير الابداعى</a:t>
            </a:r>
            <a:r>
              <a:rPr b="0" lang="ar-SA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3"/>
          <a:stretch/>
        </p:blipFill>
        <p:spPr>
          <a:xfrm>
            <a:off x="5638680" y="1905120"/>
            <a:ext cx="3048120" cy="1428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685800" y="3352680"/>
            <a:ext cx="8153280" cy="312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spcBef>
                <a:spcPts val="700"/>
              </a:spcBef>
              <a:buClr>
                <a:srgbClr val="545472"/>
              </a:buClr>
              <a:buSzPct val="9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28600" y="3429000"/>
            <a:ext cx="8686800" cy="23623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أسلوب الذي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يستخدمه الفرد في إنتاج أكبر عدد ممكن من الأفك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حول المشكلة التي يتعرض لها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(الطلاقة الفكرية)،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     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وتتصف هذه الأفكار بالتنوع والاختلاف (المرونة) وعدم التكرار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أو</a:t>
            </a:r>
            <a:r>
              <a:rPr b="1" lang="en-US" sz="28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1" lang="ar-SA" sz="2800" spc="-1" strike="noStrike">
                <a:solidFill>
                  <a:srgbClr val="531c03"/>
                </a:solidFill>
                <a:latin typeface="Times New Roman"/>
                <a:cs typeface="Times New Roman"/>
              </a:rPr>
              <a:t>الشيوع (الأصالة) 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685800" y="990720"/>
            <a:ext cx="746748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 rtl="1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قدرة عق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تظهر على مستوى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الفرد أو الجماعة أو المنظم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, وهو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عملي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ذات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مراحل متعددة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ينتج عنها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فكر أو عمل جديد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يتميز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بأكبر قدر من الطلاقة والمرونة والأصالة والحساسية للمشكلات والاحتفاظ بالاتجاه ومواصلته, كما يتميز بالقدرة على التركيز لفترات طويلة في مجال الاهتمام , والقدرة على تكوين ترابطات واكتشافات وعلاقات  جديدة. </a:t>
            </a:r>
            <a:r>
              <a:rPr b="1" lang="ar-SA" sz="3200" spc="-1" strike="noStrike" u="sng">
                <a:solidFill>
                  <a:srgbClr val="545472"/>
                </a:solidFill>
                <a:uFillTx/>
                <a:latin typeface="PT Bold Heading"/>
                <a:cs typeface="Times New Roman"/>
              </a:rPr>
              <a:t>وهذه القدرة يمكن تنميتها وتطويرها</a:t>
            </a:r>
            <a:r>
              <a:rPr b="1" lang="ar-SA" sz="3200" spc="-1" strike="noStrike">
                <a:solidFill>
                  <a:srgbClr val="545472"/>
                </a:solidFill>
                <a:latin typeface="PT Bold Heading"/>
                <a:ea typeface="Times New Roman"/>
              </a:rPr>
              <a:t> حسب قدرات وإمكانات الأفراد والجماعات والمنظمات.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838080" y="228600"/>
            <a:ext cx="7162920" cy="762120"/>
          </a:xfrm>
          <a:prstGeom prst="rect">
            <a:avLst/>
          </a:prstGeom>
          <a:gradFill rotWithShape="0">
            <a:gsLst>
              <a:gs pos="0">
                <a:srgbClr val="ffefd1"/>
              </a:gs>
              <a:gs pos="100000">
                <a:srgbClr val="d1c39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000" spc="-1" strike="noStrike">
                <a:solidFill>
                  <a:srgbClr val="ff0066"/>
                </a:solidFill>
                <a:latin typeface="Times New Roman"/>
                <a:cs typeface="PT Bold Heading"/>
              </a:rPr>
              <a:t>تعريف الإبداع</a:t>
            </a:r>
            <a:endParaRPr b="0" lang="en-US" sz="4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380880" y="1143000"/>
            <a:ext cx="8229600" cy="472428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057400" y="1066680"/>
            <a:ext cx="487692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ابداع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90720" y="2286000"/>
            <a:ext cx="670536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ffff66"/>
                </a:solidFill>
                <a:latin typeface="Times New Roman"/>
                <a:cs typeface="AdvertisingBold"/>
              </a:rPr>
              <a:t>تحرر الفعل ( القدرة على الفعل الحر )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600200" y="3581280"/>
            <a:ext cx="6019920" cy="11430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800" spc="-1" strike="noStrike">
                <a:solidFill>
                  <a:srgbClr val="ffffff"/>
                </a:solidFill>
                <a:latin typeface="Times New Roman"/>
                <a:cs typeface="AdvertisingBold"/>
              </a:rPr>
              <a:t>حرية الفكر  ( التجاوز عن ما هو سائد )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62120" y="4876920"/>
            <a:ext cx="7238880" cy="838080"/>
          </a:xfrm>
          <a:prstGeom prst="rect">
            <a:avLst/>
          </a:prstGeom>
          <a:solidFill>
            <a:srgbClr val="9966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a7ccd9"/>
                </a:solidFill>
                <a:latin typeface="Times New Roman"/>
                <a:cs typeface="AdvertisingBold"/>
              </a:rPr>
              <a:t>اخضاع كل القيم الثقافية والنظم  لجدل الاثبات والنفى</a:t>
            </a: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0" y="1295280"/>
            <a:ext cx="9144000" cy="5334120"/>
          </a:xfrm>
          <a:prstGeom prst="rect">
            <a:avLst/>
          </a:prstGeom>
          <a:noFill/>
          <a:ln w="57240">
            <a:solidFill>
              <a:srgbClr val="545472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133720" y="228600"/>
            <a:ext cx="4876560" cy="914400"/>
          </a:xfrm>
          <a:prstGeom prst="rect">
            <a:avLst/>
          </a:prstGeom>
          <a:solidFill>
            <a:srgbClr val="9595ff"/>
          </a:solidFill>
          <a:ln w="5724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عوامل التي تكون القدرة على 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-1" strike="noStrike">
                <a:solidFill>
                  <a:srgbClr val="99ffcc"/>
                </a:solidFill>
                <a:latin typeface="Times New Roman"/>
                <a:cs typeface="AdvertisingBold"/>
              </a:rPr>
              <a:t>التفكير الابداعي</a:t>
            </a: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-228600" y="1600200"/>
            <a:ext cx="9144000" cy="539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31c03"/>
                </a:solidFill>
                <a:latin typeface="Times New Roman"/>
                <a:ea typeface="Times New Roman"/>
              </a:rPr>
              <a:t>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 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طلاقة وتطوير التفسيرات والقدرة على التنبؤ بالنتائج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إسها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والحساسية تجاه المشاكل والتفكير المنطقي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مرونة والقدرة على التعرف على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r>
              <a:rPr b="0" lang="ar-SA" sz="3200" spc="-1" strike="noStrike">
                <a:solidFill>
                  <a:srgbClr val="b80eb8"/>
                </a:solidFill>
                <a:latin typeface="Times New Roman"/>
                <a:cs typeface="Times New Roman"/>
              </a:rPr>
              <a:t>المشاكل والقدرة على التراجع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أصالة والتفكير المقارن والمجازي والتحليل( التفكير المتشعب ) 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حويل والتقييم والتركيب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.</a:t>
            </a:r>
            <a:br>
              <a:rPr sz="3200"/>
            </a:br>
            <a:r>
              <a:rPr b="0" lang="ar-SA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-التصور، والتخيل والحدس.</a:t>
            </a:r>
            <a:r>
              <a:rPr b="0" lang="en-US" sz="3200" spc="-1" strike="noStrike">
                <a:solidFill>
                  <a:srgbClr val="b80eb8"/>
                </a:solidFill>
                <a:latin typeface="Times New Roman"/>
                <a:ea typeface="Times New Roman"/>
              </a:rPr>
              <a:t> </a:t>
            </a:r>
            <a:br>
              <a:rPr sz="3200"/>
            </a:br>
            <a:br>
              <a:rPr sz="1400"/>
            </a:br>
            <a:endParaRPr b="0" lang="en-US" sz="32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2-29T18:06:42Z</dcterms:created>
  <dc:creator> فاتن</dc:creator>
  <dc:description/>
  <dc:language>en-US</dc:language>
  <cp:lastModifiedBy>..</cp:lastModifiedBy>
  <dcterms:modified xsi:type="dcterms:W3CDTF">2007-02-18T09:28:00Z</dcterms:modified>
  <cp:revision>100</cp:revision>
  <dc:subject/>
  <dc:title>عرض تقديمي من PowerPoint</dc:title>
</cp:coreProperties>
</file>