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907588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906120" cy="533520"/>
            <a:chOff x="0" y="0"/>
            <a:chExt cx="9906120" cy="5335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906120" cy="53352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906120" cy="53352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0" y="6248520"/>
            <a:ext cx="9906120" cy="609480"/>
            <a:chOff x="0" y="6248520"/>
            <a:chExt cx="9906120" cy="609480"/>
          </a:xfrm>
        </p:grpSpPr>
        <p:sp>
          <p:nvSpPr>
            <p:cNvPr id="4" name=""/>
            <p:cNvSpPr/>
            <p:nvPr/>
          </p:nvSpPr>
          <p:spPr>
            <a:xfrm>
              <a:off x="0" y="6248520"/>
              <a:ext cx="9906120" cy="6094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6248520"/>
              <a:ext cx="9906120" cy="60948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752480" y="647712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304920" y="64771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457200" y="64771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1600200" y="647712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237960" y="6400800"/>
            <a:ext cx="172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800000"/>
                </a:solidFill>
                <a:latin typeface="Tahoma"/>
                <a:cs typeface="MCS Jeddah S_U normal."/>
              </a:rPr>
              <a:t>م/ فاضل السادا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2133720"/>
            <a:ext cx="9410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800000"/>
                </a:solidFill>
                <a:latin typeface="MCS Basmalah normal."/>
                <a:cs typeface="Kufi02 Zukhruf Italic"/>
              </a:rPr>
              <a:t>التفكير الإبداعي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76320"/>
            <a:ext cx="314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  <a:cs typeface="MCS Jeddah S_U normal."/>
              </a:rPr>
              <a:t>بِسْمِ اللّهِ الرَّحْمـَنِ الرَّحِيم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4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0" fill="hold">
                                          <p:stCondLst>
                                            <p:cond delay="12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0" fill="hold">
                                          <p:stCondLst>
                                            <p:cond delay="37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" nodeType="afterEffect" fill="hold" presetClass="emph" presetID="3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" dur="2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14" dur="2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15" dur="2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" nodeType="afterEffect" fill="remove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" dur="25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1,1)"/>
                                      </p:to>
                                    </p:set>
                                    <p:set>
                                      <p:cBhvr>
                                        <p:cTn id="24" dur="25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1,1)"/>
                                      </p:to>
                                    </p:set>
                                    <p:set>
                                      <p:cBhvr>
                                        <p:cTn id="25" dur="25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1995480"/>
            <a:ext cx="899172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10199"/>
                </a:solidFill>
                <a:latin typeface="MCS Basmalah normal."/>
                <a:cs typeface="Kufi02 Zukhruf Italic"/>
              </a:rPr>
              <a:t>كل شخص له طريقته المميزة و المحببة في طريقة التفكي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00"/>
                </a:solidFill>
                <a:latin typeface="MCS Basmalah normal."/>
                <a:cs typeface="Kufi02 Zukhruf Italic"/>
              </a:rPr>
              <a:t>تعرف على طريقتك المناسبة و تمسك بها و حفز عقلك على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10199"/>
                </a:solidFill>
                <a:latin typeface="MCS Basmalah normal."/>
                <a:cs typeface="Kufi02 Zukhruf Italic"/>
              </a:rPr>
              <a:t>أن يفكر من خلاله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743200" y="1752480"/>
            <a:ext cx="662940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r" rtl="1">
              <a:lnSpc>
                <a:spcPct val="100000"/>
              </a:lnSpc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10199"/>
                </a:solidFill>
                <a:latin typeface="MCS Basmalah normal."/>
                <a:cs typeface="Kufi02 Zukhruf Italic"/>
              </a:rPr>
              <a:t>التفكير كمهار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 algn="r" rtl="1">
              <a:lnSpc>
                <a:spcPct val="100000"/>
              </a:lnSpc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00"/>
                </a:solidFill>
                <a:latin typeface="MCS Basmalah normal."/>
                <a:cs typeface="Kufi02 Zukhruf Italic"/>
              </a:rPr>
              <a:t>ممارسة رياضة التفكي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 algn="r" rtl="1">
              <a:lnSpc>
                <a:spcPct val="100000"/>
              </a:lnSpc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10199"/>
                </a:solidFill>
                <a:latin typeface="MCS Basmalah normal."/>
                <a:cs typeface="Kufi02 Zukhruf Italic"/>
              </a:rPr>
              <a:t>لماذا يجب أن نفك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 algn="r" rtl="1">
              <a:lnSpc>
                <a:spcPct val="100000"/>
              </a:lnSpc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00"/>
                </a:solidFill>
                <a:latin typeface="MCS Basmalah normal."/>
                <a:cs typeface="Kufi02 Zukhruf Italic"/>
              </a:rPr>
              <a:t>مستويات التفكي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 algn="r" rtl="1">
              <a:lnSpc>
                <a:spcPct val="100000"/>
              </a:lnSpc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10199"/>
                </a:solidFill>
                <a:latin typeface="MCS Basmalah normal."/>
                <a:cs typeface="Kufi02 Zukhruf Italic"/>
              </a:rPr>
              <a:t>أنواع التفكي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 algn="r" rtl="1">
              <a:lnSpc>
                <a:spcPct val="100000"/>
              </a:lnSpc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00"/>
                </a:solidFill>
                <a:latin typeface="MCS Basmalah normal."/>
                <a:cs typeface="Kufi02 Zukhruf Italic"/>
              </a:rPr>
              <a:t>طرق التفكي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 algn="r" rtl="1">
              <a:lnSpc>
                <a:spcPct val="100000"/>
              </a:lnSpc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10199"/>
                </a:solidFill>
                <a:latin typeface="MCS Basmalah normal."/>
                <a:cs typeface="Kufi02 Zukhruf Italic"/>
              </a:rPr>
              <a:t>الفرق بين العلم و التفكي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57600" y="533520"/>
            <a:ext cx="6172200" cy="777600"/>
          </a:xfrm>
          <a:prstGeom prst="rect">
            <a:avLst/>
          </a:prstGeom>
          <a:solidFill>
            <a:srgbClr val="00c600">
              <a:alpha val="30000"/>
            </a:srgbClr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533520"/>
            <a:ext cx="5257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r" rtl="1">
              <a:lnSpc>
                <a:spcPct val="100000"/>
              </a:lnSpc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0000"/>
                </a:solidFill>
                <a:latin typeface="MCS Basmalah normal."/>
                <a:cs typeface="Kufi02 Zukhruf Italic"/>
              </a:rPr>
              <a:t>مهارات إبداعي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05320" y="609480"/>
            <a:ext cx="6172200" cy="777960"/>
          </a:xfrm>
          <a:prstGeom prst="rect">
            <a:avLst/>
          </a:prstGeom>
          <a:solidFill>
            <a:srgbClr val="00ff00">
              <a:alpha val="30000"/>
            </a:srgbClr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43200" y="669960"/>
            <a:ext cx="6629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r" rtl="1">
              <a:lnSpc>
                <a:spcPct val="100000"/>
              </a:lnSpc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0000"/>
                </a:solidFill>
                <a:latin typeface="MCS Basmalah normal."/>
                <a:cs typeface="Kufi02 Zukhruf Italic"/>
              </a:rPr>
              <a:t>التفكير كمهار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2209680"/>
            <a:ext cx="7086600" cy="478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r" rtl="1">
              <a:lnSpc>
                <a:spcPct val="100000"/>
              </a:lnSpc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10199"/>
                </a:solidFill>
                <a:latin typeface="MCS Basmalah normal."/>
                <a:cs typeface="Kufi02 Zukhruf Italic"/>
              </a:rPr>
              <a:t>تعلم كيف تفكر كما تتعلم لعبة كرة القدم أو التنس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 algn="r" rtl="1">
              <a:lnSpc>
                <a:spcPct val="100000"/>
              </a:lnSpc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 algn="r" rtl="1">
              <a:lnSpc>
                <a:spcPct val="100000"/>
              </a:lnSpc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00"/>
                </a:solidFill>
                <a:latin typeface="MCS Basmalah normal."/>
                <a:cs typeface="Kufi02 Zukhruf Italic"/>
              </a:rPr>
              <a:t>و تعامل مع التفكير بالبساطة التي تتعامل بها مع الك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 algn="r" rtl="1">
              <a:lnSpc>
                <a:spcPct val="100000"/>
              </a:lnSpc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 algn="r" rtl="1">
              <a:lnSpc>
                <a:spcPct val="100000"/>
              </a:lnSpc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10199"/>
                </a:solidFill>
                <a:latin typeface="MCS Basmalah normal."/>
                <a:cs typeface="Kufi02 Zukhruf Italic"/>
              </a:rPr>
              <a:t>و مشاهدة لعبة ما فقط دون ممارسة لن  تجعل منك لاعب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 algn="r" rtl="1">
              <a:lnSpc>
                <a:spcPct val="100000"/>
              </a:lnSpc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 algn="r" rtl="1">
              <a:lnSpc>
                <a:spcPct val="100000"/>
              </a:lnSpc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00"/>
                </a:solidFill>
                <a:latin typeface="MCS Basmalah normal."/>
                <a:cs typeface="Kufi02 Zukhruf Italic"/>
              </a:rPr>
              <a:t>و كذلك هو التفكير لعبة لن تتقنها إلا إذا مارست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05320" y="609480"/>
            <a:ext cx="6172200" cy="777960"/>
          </a:xfrm>
          <a:prstGeom prst="rect">
            <a:avLst/>
          </a:prstGeom>
          <a:solidFill>
            <a:srgbClr val="00ff00">
              <a:alpha val="30000"/>
            </a:srgbClr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669960"/>
            <a:ext cx="6629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r" rtl="1">
              <a:lnSpc>
                <a:spcPct val="100000"/>
              </a:lnSpc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0000"/>
                </a:solidFill>
                <a:latin typeface="MCS Basmalah normal."/>
                <a:cs typeface="Kufi02 Zukhruf Italic"/>
              </a:rPr>
              <a:t>ممارسة رياضة التفكي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1600200"/>
            <a:ext cx="941076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00"/>
                </a:solidFill>
                <a:latin typeface="MCS Basmalah normal."/>
                <a:cs typeface="Kufi02 Zukhruf Italic"/>
              </a:rPr>
              <a:t>تعريف التفكير :</a:t>
            </a:r>
            <a:r>
              <a:rPr b="1" lang="ar-SA" sz="3200" spc="-1" strike="noStrike">
                <a:solidFill>
                  <a:srgbClr val="010199"/>
                </a:solidFill>
                <a:latin typeface="MCS Basmalah normal."/>
                <a:ea typeface="Kufi02 Zukhruf Italic"/>
              </a:rPr>
              <a:t> هو جولان الفكر بحسب نظر العق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10199"/>
                </a:solidFill>
                <a:latin typeface="MCS Basmalah normal."/>
                <a:ea typeface="Kufi02 Zukhruf Italic"/>
              </a:rPr>
              <a:t>    و قيل هو اصطلاح عام يشمل كل أنواع النشاط الرمز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10199"/>
                </a:solidFill>
                <a:latin typeface="MCS Basmalah normal."/>
                <a:cs typeface="Kufi02 Zukhruf Italic"/>
              </a:rPr>
              <a:t>مثل التخيل و الابتكار و الاستدلال و تكوين المعان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4129200"/>
            <a:ext cx="941076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10199"/>
                </a:solidFill>
                <a:latin typeface="MCS Basmalah normal."/>
                <a:cs typeface="Kufi02 Zukhruf Italic"/>
              </a:rPr>
              <a:t>و يعرف ” دي بونو</a:t>
            </a:r>
            <a:r>
              <a:rPr b="1" lang="ar-SA" sz="3200" spc="-1" strike="noStrike">
                <a:solidFill>
                  <a:srgbClr val="800000"/>
                </a:solidFill>
                <a:latin typeface="MCS Basmalah normal."/>
                <a:ea typeface="Kufi02 Zukhruf Italic"/>
              </a:rPr>
              <a:t> ” التفكير بأنه التقصي المدروس للتجرب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00"/>
                </a:solidFill>
                <a:latin typeface="MCS Basmalah normal."/>
                <a:cs typeface="Kufi02 Zukhruf Italic"/>
              </a:rPr>
              <a:t>لتحقيق غرض ما و الغرض قد يكون هو الفهم و قد يكون ه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00"/>
                </a:solidFill>
                <a:latin typeface="MCS Basmalah normal."/>
                <a:cs typeface="Kufi02 Zukhruf Italic"/>
              </a:rPr>
              <a:t>اتخاذ القرار أو التخطيط أو حل المشكلات أو غير ذل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05320" y="609480"/>
            <a:ext cx="6172200" cy="777960"/>
          </a:xfrm>
          <a:prstGeom prst="rect">
            <a:avLst/>
          </a:prstGeom>
          <a:solidFill>
            <a:srgbClr val="00ff00">
              <a:alpha val="30000"/>
            </a:srgbClr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43200" y="669960"/>
            <a:ext cx="6629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r" rtl="1">
              <a:lnSpc>
                <a:spcPct val="100000"/>
              </a:lnSpc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0000"/>
                </a:solidFill>
                <a:latin typeface="MCS Basmalah normal."/>
                <a:cs typeface="Kufi02 Zukhruf Italic"/>
              </a:rPr>
              <a:t>لماذا يجب أن نفكر  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38360" y="4572000"/>
            <a:ext cx="9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10199"/>
                </a:solidFill>
                <a:latin typeface="MCS Basmalah normal."/>
                <a:cs typeface="Kufi02 Zukhruf Italic"/>
              </a:rPr>
              <a:t>و لأن التفكير هو طريق الوعي و البصير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600200"/>
            <a:ext cx="941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10199"/>
                </a:solidFill>
                <a:latin typeface="MCS Basmalah normal."/>
                <a:cs typeface="Kufi02 Zukhruf Italic"/>
              </a:rPr>
              <a:t>لكي يكون الإنسان قادرا على التعاطي مع ما يقوم به من أعمال و أدوا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76320" y="2697120"/>
            <a:ext cx="941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00"/>
                </a:solidFill>
                <a:latin typeface="MCS Basmalah normal."/>
                <a:cs typeface="Kufi02 Zukhruf Italic"/>
              </a:rPr>
              <a:t>و لأن التفكير هو مولد الإبداع و الابتكار فإذا أردت أن تكون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00"/>
                </a:solidFill>
                <a:latin typeface="MCS Basmalah normal."/>
                <a:cs typeface="Kufi02 Zukhruf Italic"/>
              </a:rPr>
              <a:t>مبدعا فما عليك إلا ممارسة التفكير المرك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505320" y="609480"/>
            <a:ext cx="6172200" cy="777960"/>
          </a:xfrm>
          <a:prstGeom prst="rect">
            <a:avLst/>
          </a:prstGeom>
          <a:solidFill>
            <a:srgbClr val="00ff00">
              <a:alpha val="30000"/>
            </a:srgbClr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6397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00"/>
                </a:solidFill>
                <a:latin typeface="MCS Basmalah normal."/>
                <a:cs typeface="Kufi02 Zukhruf Italic"/>
              </a:rPr>
              <a:t>مستويات التفكي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76320" y="1447920"/>
            <a:ext cx="9753840" cy="62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00"/>
                </a:solidFill>
                <a:latin typeface="MCS Basmalah normal."/>
                <a:cs typeface="Kufi02 Zukhruf Italic"/>
              </a:rPr>
              <a:t>هناك ثلاثة مستويات من التفكير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00"/>
                </a:solidFill>
                <a:latin typeface="MCS Basmalah normal."/>
                <a:cs typeface="Kufi02 Zukhruf Italic"/>
              </a:rPr>
              <a:t>المستوى الواعي</a:t>
            </a:r>
            <a:r>
              <a:rPr b="1" lang="ar-SA" sz="3200" spc="-1" strike="noStrike">
                <a:solidFill>
                  <a:srgbClr val="010199"/>
                </a:solidFill>
                <a:latin typeface="MCS Basmalah normal."/>
                <a:ea typeface="Kufi02 Zukhruf Italic"/>
              </a:rPr>
              <a:t> : </a:t>
            </a:r>
            <a:r>
              <a:rPr b="1" lang="ar-SA" sz="2800" spc="-1" strike="noStrike">
                <a:solidFill>
                  <a:srgbClr val="010199"/>
                </a:solidFill>
                <a:latin typeface="MCS Basmalah normal."/>
                <a:cs typeface="Kufi02 Zukhruf Italic"/>
              </a:rPr>
              <a:t>مستوى تجميع المعلوم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00"/>
                </a:solidFill>
                <a:latin typeface="MCS Basmalah normal."/>
                <a:cs typeface="Kufi02 Zukhruf Italic"/>
              </a:rPr>
              <a:t>المستوى اللاواعي</a:t>
            </a:r>
            <a:r>
              <a:rPr b="1" lang="ar-SA" sz="3200" spc="-1" strike="noStrike">
                <a:solidFill>
                  <a:srgbClr val="010199"/>
                </a:solidFill>
                <a:latin typeface="MCS Basmalah normal."/>
                <a:ea typeface="Kufi02 Zukhruf Italic"/>
              </a:rPr>
              <a:t> : </a:t>
            </a:r>
            <a:r>
              <a:rPr b="1" lang="ar-SA" sz="2800" spc="-1" strike="noStrike">
                <a:solidFill>
                  <a:srgbClr val="010199"/>
                </a:solidFill>
                <a:latin typeface="MCS Basmalah normal."/>
                <a:cs typeface="Kufi02 Zukhruf Italic"/>
              </a:rPr>
              <a:t>مستوى تخزين المعلوم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00"/>
                </a:solidFill>
                <a:latin typeface="MCS Basmalah normal."/>
                <a:cs typeface="Kufi02 Zukhruf Italic"/>
              </a:rPr>
              <a:t>المستوى المبدع و الخلاق</a:t>
            </a:r>
            <a:r>
              <a:rPr b="1" lang="ar-SA" sz="3200" spc="-1" strike="noStrike">
                <a:solidFill>
                  <a:srgbClr val="010199"/>
                </a:solidFill>
                <a:latin typeface="MCS Basmalah normal."/>
                <a:ea typeface="Kufi02 Zukhruf Italic"/>
              </a:rPr>
              <a:t> : </a:t>
            </a:r>
            <a:r>
              <a:rPr b="1" lang="ar-SA" sz="2800" spc="-1" strike="noStrike">
                <a:solidFill>
                  <a:srgbClr val="010199"/>
                </a:solidFill>
                <a:latin typeface="MCS Basmalah normal."/>
                <a:cs typeface="Kufi02 Zukhruf Italic"/>
              </a:rPr>
              <a:t>مستوى وضع بذور قوة الحدس لدي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10199"/>
                </a:solidFill>
                <a:latin typeface="MCS Basmalah normal."/>
                <a:cs typeface="Kufi02 Zukhruf Italic"/>
              </a:rPr>
              <a:t>و عندما تمارس تمارين الاسترخاء و تحفيز اللاواعي بالاتصا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10199"/>
                </a:solidFill>
                <a:latin typeface="MCS Basmalah normal."/>
                <a:cs typeface="Kufi02 Zukhruf Italic"/>
              </a:rPr>
              <a:t>سوف تجذب نحوك الأفكار المميزة و التي تقطن داخلك و فيمن هم حول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05320" y="609480"/>
            <a:ext cx="6172200" cy="777960"/>
          </a:xfrm>
          <a:prstGeom prst="rect">
            <a:avLst/>
          </a:prstGeom>
          <a:solidFill>
            <a:srgbClr val="00ff00">
              <a:alpha val="30000"/>
            </a:srgbClr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6397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00"/>
                </a:solidFill>
                <a:latin typeface="MCS Basmalah normal."/>
                <a:cs typeface="Kufi02 Zukhruf Italic"/>
              </a:rPr>
              <a:t>أنواع التفكي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2436840"/>
            <a:ext cx="419112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10199"/>
                </a:solidFill>
                <a:latin typeface="MCS Basmalah normal."/>
                <a:cs typeface="Kufi02 Zukhruf Italic"/>
              </a:rPr>
              <a:t>أبيض وأسود و لا يوجد ب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10199"/>
                </a:solidFill>
                <a:latin typeface="MCS Basmalah normal."/>
                <a:cs typeface="Kufi02 Zukhruf Italic"/>
              </a:rPr>
              <a:t>جام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10199"/>
                </a:solidFill>
                <a:latin typeface="MCS Basmalah normal."/>
                <a:cs typeface="Kufi02 Zukhruf Italic"/>
              </a:rPr>
              <a:t>مقاو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10199"/>
                </a:solidFill>
                <a:latin typeface="MCS Basmalah normal."/>
                <a:cs typeface="Kufi02 Zukhruf Italic"/>
              </a:rPr>
              <a:t>غير مبد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10199"/>
                </a:solidFill>
                <a:latin typeface="MCS Basmalah normal."/>
                <a:cs typeface="Kufi02 Zukhruf Italic"/>
              </a:rPr>
              <a:t>يستخدم كلمة لا دائم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2436840"/>
            <a:ext cx="41907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10199"/>
                </a:solidFill>
                <a:latin typeface="MCS Basmalah normal."/>
                <a:cs typeface="Kufi02 Zukhruf Italic"/>
              </a:rPr>
              <a:t>منفتح للأفكار الجديد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10199"/>
                </a:solidFill>
                <a:latin typeface="MCS Basmalah normal."/>
                <a:cs typeface="Kufi02 Zukhruf Italic"/>
              </a:rPr>
              <a:t>مر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10199"/>
                </a:solidFill>
                <a:latin typeface="MCS Basmalah normal."/>
                <a:cs typeface="Kufi02 Zukhruf Italic"/>
              </a:rPr>
              <a:t>متفاء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10199"/>
                </a:solidFill>
                <a:latin typeface="MCS Basmalah normal."/>
                <a:cs typeface="Kufi02 Zukhruf Italic"/>
              </a:rPr>
              <a:t>مبدع و تخيل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10199"/>
                </a:solidFill>
                <a:latin typeface="MCS Basmalah normal."/>
                <a:cs typeface="Kufi02 Zukhruf Italic"/>
              </a:rPr>
              <a:t>يستخدم كلمة نعم دائم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80480" y="1630440"/>
            <a:ext cx="3420720" cy="58140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00"/>
                </a:solidFill>
                <a:latin typeface="MCS Basmalah normal."/>
                <a:cs typeface="Kufi02 Zukhruf Italic"/>
              </a:rPr>
              <a:t>التفكير التقليد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00560" y="1620720"/>
            <a:ext cx="3388680" cy="58140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00"/>
                </a:solidFill>
                <a:latin typeface="MCS Basmalah normal."/>
                <a:cs typeface="Kufi02 Zukhruf Italic"/>
              </a:rPr>
              <a:t>التفكير الإبداع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05320" y="609480"/>
            <a:ext cx="6172200" cy="777960"/>
          </a:xfrm>
          <a:prstGeom prst="rect">
            <a:avLst/>
          </a:prstGeom>
          <a:solidFill>
            <a:srgbClr val="00ff00">
              <a:alpha val="30000"/>
            </a:srgbClr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669960"/>
            <a:ext cx="6629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r" rtl="1">
              <a:lnSpc>
                <a:spcPct val="100000"/>
              </a:lnSpc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0000"/>
                </a:solidFill>
                <a:latin typeface="MCS Basmalah normal."/>
                <a:cs typeface="Kufi02 Zukhruf Italic"/>
              </a:rPr>
              <a:t>طرق التفكي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-380880" y="1523880"/>
            <a:ext cx="9905760" cy="57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10199"/>
                </a:solidFill>
                <a:latin typeface="MCS Basmalah normal."/>
                <a:cs typeface="Kufi02 Zukhruf Italic"/>
              </a:rPr>
              <a:t>هناك ثلاثة طرق للتفكير كالتال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00"/>
                </a:solidFill>
                <a:latin typeface="MCS Basmalah normal."/>
                <a:ea typeface="Kufi02 Zukhruf Italic"/>
              </a:rPr>
              <a:t>1</a:t>
            </a:r>
            <a:r>
              <a:rPr b="1" lang="ar-SA" sz="3200" spc="-1" strike="noStrike">
                <a:solidFill>
                  <a:srgbClr val="800000"/>
                </a:solidFill>
                <a:latin typeface="MCS Basmalah normal."/>
                <a:ea typeface="Kufi02 Zukhruf Italic"/>
              </a:rPr>
              <a:t> )  التفكير المرئي :  </a:t>
            </a:r>
            <a:r>
              <a:rPr b="1" lang="ar-SA" sz="2800" spc="-1" strike="noStrike">
                <a:solidFill>
                  <a:srgbClr val="010199"/>
                </a:solidFill>
                <a:latin typeface="MCS Basmalah normal."/>
                <a:cs typeface="Kufi02 Zukhruf Italic"/>
              </a:rPr>
              <a:t>من خلال رؤية الأشياء حولك الجميلة مثل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10199"/>
                </a:solidFill>
                <a:latin typeface="MCS Basmalah normal."/>
                <a:ea typeface="Kufi02 Zukhruf Italic"/>
              </a:rPr>
              <a:t>                               البحر و الخضرة و غير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00"/>
                </a:solidFill>
                <a:latin typeface="MCS Basmalah normal."/>
                <a:ea typeface="Kufi02 Zukhruf Italic"/>
              </a:rPr>
              <a:t>2</a:t>
            </a:r>
            <a:r>
              <a:rPr b="1" lang="ar-SA" sz="3200" spc="-1" strike="noStrike">
                <a:solidFill>
                  <a:srgbClr val="800000"/>
                </a:solidFill>
                <a:latin typeface="MCS Basmalah normal."/>
                <a:ea typeface="Kufi02 Zukhruf Italic"/>
              </a:rPr>
              <a:t> )  التفكير السمعي :  </a:t>
            </a:r>
            <a:r>
              <a:rPr b="1" lang="ar-SA" sz="2800" spc="-1" strike="noStrike">
                <a:solidFill>
                  <a:srgbClr val="010199"/>
                </a:solidFill>
                <a:latin typeface="MCS Basmalah normal."/>
                <a:cs typeface="Kufi02 Zukhruf Italic"/>
              </a:rPr>
              <a:t>من خلال حديثك مع شخص ما أو سماع أمر م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00"/>
                </a:solidFill>
                <a:latin typeface="MCS Basmalah normal."/>
                <a:ea typeface="Kufi02 Zukhruf Italic"/>
              </a:rPr>
              <a:t>3</a:t>
            </a:r>
            <a:r>
              <a:rPr b="1" lang="ar-SA" sz="3200" spc="-1" strike="noStrike">
                <a:solidFill>
                  <a:srgbClr val="800000"/>
                </a:solidFill>
                <a:latin typeface="MCS Basmalah normal."/>
                <a:ea typeface="Kufi02 Zukhruf Italic"/>
              </a:rPr>
              <a:t> )  التفكير الحسي :  </a:t>
            </a:r>
            <a:r>
              <a:rPr b="1" lang="ar-SA" sz="2800" spc="-1" strike="noStrike">
                <a:solidFill>
                  <a:srgbClr val="010199"/>
                </a:solidFill>
                <a:latin typeface="MCS Basmalah normal."/>
                <a:cs typeface="Kufi02 Zukhruf Italic"/>
              </a:rPr>
              <a:t>عندما تتحرك تفكر و عندما تشعر تفكر و عندم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10199"/>
                </a:solidFill>
                <a:latin typeface="MCS Basmalah normal."/>
                <a:ea typeface="Kufi02 Zukhruf Italic"/>
              </a:rPr>
              <a:t>                                تجيش لديك العاطفة تفك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505320" y="609480"/>
            <a:ext cx="6172200" cy="777960"/>
          </a:xfrm>
          <a:prstGeom prst="rect">
            <a:avLst/>
          </a:prstGeom>
          <a:solidFill>
            <a:srgbClr val="00ff00">
              <a:alpha val="30000"/>
            </a:srgbClr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762120"/>
            <a:ext cx="55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00"/>
                </a:solidFill>
                <a:latin typeface="MCS Basmalah normal."/>
                <a:cs typeface="Kufi02 Zukhruf Italic"/>
              </a:rPr>
              <a:t>ما الفرق بين العلم و التفكير  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4952880"/>
            <a:ext cx="941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00"/>
                </a:solidFill>
                <a:latin typeface="MCS Basmalah normal."/>
                <a:cs typeface="Kufi02 Zukhruf Italic"/>
              </a:rPr>
              <a:t>لذا يجب أولا تحديد الهدف المراد الوصول إليه ثم ممارسة التفكي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1600200"/>
            <a:ext cx="941076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10199"/>
                </a:solidFill>
                <a:latin typeface="MCS Basmalah normal."/>
                <a:cs typeface="Kufi02 Zukhruf Italic"/>
              </a:rPr>
              <a:t>العلم هو معلومات و معرفة  يكتسبها الإنسان بحواس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10199"/>
                </a:solidFill>
                <a:latin typeface="MCS Basmalah normal."/>
                <a:cs typeface="Kufi02 Zukhruf Italic"/>
              </a:rPr>
              <a:t>أما التفكير فهو بلورة هذه المعلومات و استنتاج معلومات جديد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10199"/>
                </a:solidFill>
                <a:latin typeface="MCS Basmalah normal."/>
                <a:cs typeface="Kufi02 Zukhruf Italic"/>
              </a:rPr>
              <a:t>فلا يتوقف التفكير عند حد معرفة أمر ما بل يقوم بتحليله و ترتيب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10199"/>
                </a:solidFill>
                <a:latin typeface="MCS Basmalah normal."/>
                <a:cs typeface="Kufi02 Zukhruf Italic"/>
              </a:rPr>
              <a:t>و معرفة خلفياته ثم يقوم بعملية الاستنتاج محاولا الوصول إلى الحقيق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8T07:43:29Z</dcterms:created>
  <dc:creator>Blue</dc:creator>
  <dc:description/>
  <dc:language>en-US</dc:language>
  <cp:lastModifiedBy>edoo</cp:lastModifiedBy>
  <dcterms:modified xsi:type="dcterms:W3CDTF">2007-08-26T05:36:10Z</dcterms:modified>
  <cp:revision>1788</cp:revision>
  <dc:subject/>
  <dc:title>هذه كلمات جميلة، كتبها لك الشيخ عائض القرني في كتابه الجميل لا تحزن ، فاقرأها و لا تحزن  إن كنت فقيرا فغيرك محبوس في دين ، و إن كنت لا تملك وسيلة نقل فسواك مبتور القدمين ، و ان كنت تشكوا من آلام فغيرك يرقدون على الاسرة البيضاء و من سنوات ، و ان فقدت ولدا فغيرك فقد عددا من الأولاد و في حادث واحد  لأنك مسلم آمنت بالله و رسله و ملائكته و اليوم الآخر و القضاء خيره و شره لا تحزن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