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D461D-D2C9-47E8-8D96-A72ACAB48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9198F-90B8-4383-AAAD-9F4797C70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3784C-0C90-45D7-8DEF-8C250471A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5E9A9-7571-4FFC-86D3-29916B5E3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0301B-C1B3-40A8-87F9-3E59677B6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F3DCC-3495-416D-8539-2D6FE7FE4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65752-1AAD-4FEB-BA7F-FBA5CFAC0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2FA58-30FC-496E-9279-5EB34C0FC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C6F24-E1A1-42E5-9DA9-3D0CC2D22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AEC6A-C6BC-4AA2-9C9C-207DCBC6B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02EF5-2536-4649-8145-478F31C78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9818E-2FA3-461D-99C6-ED5C1B271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7D9B2-D04B-4055-8769-4ED7744A1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4FFD3-BAFD-4375-B5ED-CFE384F48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7170B-A874-4954-9CC0-01FCE9D75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E66E0-A06F-40ED-9E8F-EB09BDF6B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23DEB-02ED-4757-A07D-1E3452530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2C333-59D2-4662-9A9A-986A6422A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AB01F-2CCA-44D8-BDD4-641726ECF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77B5E-BAD9-427A-AA3C-960F76407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1843F-4D9F-4FA8-BF69-9FEBED396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3313D-11BD-413B-B5D9-444D557DA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0EA51-70E0-4274-843B-F2DEC8858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13A0F-E428-4754-9040-9DB1238D2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4052F-D9E9-4F63-BD33-85F911C528F3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8A097-76B7-44C4-93E6-57E5BFD4A0EE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8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67" dur="indefinite" restart="never" nodeType="tmRoot">
          <p:childTnLst>
            <p:seq>
              <p:cTn id="668" dur="indefinite" nodeType="mainSeq">
                <p:childTnLst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3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4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35" dur="indefinite" restart="never" nodeType="tmRoot">
          <p:childTnLst>
            <p:seq>
              <p:cTn id="736" dur="indefinite" nodeType="mainSeq">
                <p:childTnLst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1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2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7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8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3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4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9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0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5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6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1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2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9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0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5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6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797" dur="indefinite" restart="never" nodeType="tmRoot">
          <p:childTnLst>
            <p:seq>
              <p:cTn id="798" dur="indefinite" nodeType="mainSeq">
                <p:childTnLst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3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4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11" dur="indefinite" restart="never" nodeType="tmRoot">
          <p:childTnLst>
            <p:seq>
              <p:cTn id="812" dur="indefinite" nodeType="mainSeq">
                <p:childTnLst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3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4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9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0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7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8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3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4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55" dur="indefinite" restart="never" nodeType="tmRoot">
          <p:childTnLst>
            <p:seq>
              <p:cTn id="856" dur="indefinite" nodeType="mainSeq">
                <p:childTnLst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7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8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3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4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9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0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81" dur="indefinite" restart="never" nodeType="tmRoot">
          <p:childTnLst>
            <p:seq>
              <p:cTn id="882" dur="indefinite" nodeType="mainSeq">
                <p:childTnLst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4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41" dur="indefinite" restart="never" nodeType="tmRoot">
          <p:childTnLst>
            <p:seq>
              <p:cTn id="942" dur="indefinite" nodeType="mainSeq">
                <p:childTnLst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2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3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8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9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4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5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0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1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6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7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fill="hold">
                      <p:stCondLst>
                        <p:cond delay="indefinite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2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3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84" dur="indefinite" restart="never" nodeType="tmRoot">
          <p:childTnLst>
            <p:seq>
              <p:cTn id="985" dur="indefinite" nodeType="mainSeq">
                <p:childTnLst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0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1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6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7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2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3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8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9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4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5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0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1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6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7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fill="hold">
                      <p:stCondLst>
                        <p:cond delay="indefinite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2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3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8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9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fill="hold">
                      <p:stCondLst>
                        <p:cond delay="indefinite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4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5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0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1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fill="hold">
                      <p:stCondLst>
                        <p:cond delay="indefinite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6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7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63" dur="indefinite" restart="never" nodeType="tmRoot">
          <p:childTnLst>
            <p:seq>
              <p:cTn id="1064" dur="indefinite" nodeType="mainSeq">
                <p:childTnLst>
                  <p:par>
                    <p:cTn id="1065" fill="hold">
                      <p:stCondLst>
                        <p:cond delay="indefinite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3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4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9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0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" fill="hold">
                      <p:stCondLst>
                        <p:cond delay="indefinite"/>
                      </p:stCondLst>
                      <p:childTnLst>
                        <p:par>
                          <p:cTn id="1082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5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6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1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2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7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8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3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4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000"/>
                            </p:stCondLst>
                            <p:childTnLst>
                              <p:par>
                                <p:cTn id="107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2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