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428E-F74B-4202-A7A2-9AA48A470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392E-DF40-40BE-82F1-D07E8294B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CA00-87AC-4EA6-8557-5CD9407C7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E60B-3E3B-41BF-AABF-273CC3D69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44109-4264-454A-989C-5C3C81046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40487-5BAA-498A-8550-DC5632B1B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5956E-6F9C-4188-AB32-865309B94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47DFA-512A-4876-B824-594009F91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85C44-B636-4127-8AD4-6DA3A79EE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B9611-F285-43E7-B71C-60F164E4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EFDE3-AC0F-4A53-BFDD-5E4372CD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E14F-92F8-47FF-871B-976049D1A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E2560-3D6C-4E4C-864F-8E963D7F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308EA-F8DC-44E2-9F68-88A63932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C21BD-437F-4405-9A77-655D348CC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4370E-B9B3-4310-A855-E7C62DC40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695B9-FF58-4BC5-A203-B4AF4CD45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658C-1383-4E2F-853D-15BAE4CA9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1096-FF43-4FAB-830C-C275DBCD7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73F5-8307-478A-949A-AFD7A4267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C8FA-C10F-4EF6-AE21-D27A153EF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8F7A-7137-46A8-A3AC-EF9FFBB9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9F9A-D51C-4C7D-AE9C-D9658341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3160-8276-434F-BB57-6A10821E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E0085-BC7F-479B-98ED-7429F8DCB46E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F56B8-9740-4516-94B7-C8A8110E674B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70" dur="indefinite" restart="never" nodeType="tmRoot">
          <p:childTnLst>
            <p:seq>
              <p:cTn id="1071" dur="indefinite" nodeType="mainSeq">
                <p:childTnLst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