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gif" ContentType="image/gif"/>
  <Override PartName="/ppt/media/image7.wmf" ContentType="image/x-wmf"/>
  <Override PartName="/ppt/media/image5.png" ContentType="image/png"/>
  <Override PartName="/ppt/media/image6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7D3F1-1F13-463B-A76E-9D547203C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1A132-5629-4670-B636-0CC33062B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C3059-2637-4E01-A056-AE7C8BCC1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76930-99D1-4B03-8CE9-7CF0C33AF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F5DA3-064B-46E7-8B5C-A81A93CC3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296F1-055C-44B5-BD06-9D6E9AAB7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00B82-CECE-4AEA-AF27-2E55AB7E7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1909B-C712-4913-ADAD-980B839E4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0EF1D-78FE-4D3B-A37B-140FA09C2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9035F-1893-4E2C-B5C9-36AA510EC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AC31C-48A9-48AE-B52E-0AF5FAEFD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48711-6915-4E2E-BC35-7F5F23CA0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4CBB8-89EB-4E37-A101-D3BE069F52E0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رابع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طفل عنيد يرفض رفضا باتا حل واجباته المنزلية باتقان ، يمضي معظم وقته في الرسم ، و الفنون الجميلة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6520" y="4267080"/>
            <a:ext cx="4038480" cy="642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لفنان بيكاس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172200" y="3886200"/>
            <a:ext cx="188604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600"/>
                            </p:stCondLst>
                            <p:childTnLst>
                              <p:par>
                                <p:cTn id="1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100"/>
                            </p:stCondLst>
                            <p:childTnLst>
                              <p:par>
                                <p:cTn id="15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225"/>
                            </p:stCondLst>
                            <p:childTnLst>
                              <p:par>
                                <p:cTn id="2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95280" y="2209680"/>
            <a:ext cx="6629400" cy="28371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 الله أخرجكم من بطون أمهاتكم لا تعلمون شيئا و جعل لكم السمع و الأبصار و الأفئدة لعلكم تشكرو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حل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00200" y="1905120"/>
            <a:ext cx="6629400" cy="41907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فضل الله الناس بعضهم على بعض في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سال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ز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كان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كل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حك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عرف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7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ح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8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هدا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9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 أخر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5280" y="2209680"/>
            <a:ext cx="6629400" cy="13737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قال تعالى : فوجدا عبدا من عبادنا آتيناه رحمة من عندنا و علمناه من لدنا علم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35053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كهف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962520"/>
            <a:ext cx="6553080" cy="20437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قال تعالى : وعد الله الذين آمنوا منكم وعملوا الصالحات ليستخلفنهم في الأرض كما استخلف الذين من قبلهم .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66680" y="5715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ور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81080" y="2057400"/>
            <a:ext cx="6629400" cy="202572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قال صلى الله عليه وسلم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خير القرون قرني ثم الذين يلونهم ثم الذين يلونهم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43000" y="4648320"/>
            <a:ext cx="6858000" cy="1739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صلى الله عليه وسلم ينتقى من صحابته لمهام محددة حسب القدرات الفردية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336760" y="1835280"/>
            <a:ext cx="6629400" cy="338580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الصحابة رضوان الله عليهم يحرصون على تعلم عشر آيات ، يحفظونها ، يفهمونها، يطبقونها في حياتهم ، ثم ينتقلون الى أخرى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1040" y="4267080"/>
            <a:ext cx="7467840" cy="28371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يوم فتح مكة ، خشي غلمان مكة على حياتهم من محمد</a:t>
            </a:r>
            <a:r>
              <a:rPr b="1" lang="ar-SA" sz="3600" spc="-1" strike="noStrike">
                <a:solidFill>
                  <a:srgbClr val="ffff00"/>
                </a:solidFill>
                <a:latin typeface="AGA Arabesque"/>
                <a:ea typeface="AGA Arabesque"/>
              </a:rPr>
              <a:t></a:t>
            </a:r>
            <a:r>
              <a:rPr b="1" lang="ar-SA" sz="3600" spc="-1" strike="noStrike">
                <a:solidFill>
                  <a:srgbClr val="ffff00"/>
                </a:solidFill>
                <a:latin typeface="Tahoma"/>
                <a:ea typeface="Andalus"/>
              </a:rPr>
              <a:t> ، فلما شاهدهم رسول الله عليه أفضل الصلاة و أزكى التسليم ، دعى برئيسهم ليعلمه الأذان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2895480"/>
            <a:ext cx="7467840" cy="340884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كان الحرص على التزود بالمعرفة ثم تطبيقه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وتطويع العمل (السلوك) لما يخدم المجتم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تحسبا للخلافة على هذه الأر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سلوك الموهو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- مستوى فوق المتوس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- مهارات ابداعي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- الاجتهاد و الالتزام بالعم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- السلوك الموهو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29400" y="2286000"/>
            <a:ext cx="1600200" cy="1752480"/>
          </a:xfrm>
          <a:prstGeom prst="ellipse">
            <a:avLst/>
          </a:prstGeom>
          <a:noFill/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38680" y="2514600"/>
            <a:ext cx="1676520" cy="1828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400800" y="3505320"/>
            <a:ext cx="1676520" cy="1676160"/>
          </a:xfrm>
          <a:prstGeom prst="ellipse">
            <a:avLst/>
          </a:prstGeom>
          <a:noFill/>
          <a:ln w="38160">
            <a:solidFill>
              <a:srgbClr val="0058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362320"/>
            <a:ext cx="2590920" cy="152280"/>
          </a:xfrm>
          <a:prstGeom prst="line">
            <a:avLst/>
          </a:prstGeom>
          <a:ln w="93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876920" y="2971800"/>
            <a:ext cx="1218960" cy="4572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24280" y="4267080"/>
            <a:ext cx="2438640" cy="7632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3733560"/>
            <a:ext cx="2133360" cy="1523880"/>
          </a:xfrm>
          <a:prstGeom prst="line">
            <a:avLst/>
          </a:prstGeom>
          <a:ln w="93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975"/>
                            </p:stCondLst>
                            <p:childTnLst>
                              <p:par>
                                <p:cTn id="2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3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175"/>
                            </p:stCondLst>
                            <p:childTnLst>
                              <p:par>
                                <p:cTn id="2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3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75"/>
                            </p:stCondLst>
                            <p:childTnLst>
                              <p:par>
                                <p:cTn id="2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3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575"/>
                            </p:stCondLst>
                            <p:childTnLst>
                              <p:par>
                                <p:cTn id="2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3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475"/>
                            </p:stCondLst>
                            <p:childTnLst>
                              <p:par>
                                <p:cTn id="2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975"/>
                            </p:stCondLst>
                            <p:childTnLst>
                              <p:par>
                                <p:cTn id="2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6475"/>
                            </p:stCondLst>
                            <p:childTnLst>
                              <p:par>
                                <p:cTn id="2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6975"/>
                            </p:stCondLst>
                            <p:childTnLst>
                              <p:par>
                                <p:cTn id="2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7475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7975"/>
                            </p:stCondLst>
                            <p:childTnLst>
                              <p:par>
                                <p:cTn id="2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8475"/>
                            </p:stCondLst>
                            <p:childTnLst>
                              <p:par>
                                <p:cTn id="2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موضوع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ذكاء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ابداع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قدرات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تقدير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قوائم الصفات السلو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الملاحظ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أسلوب المحكمات المتعدد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قُمع / التصف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جدول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1981080"/>
            <a:ext cx="35812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2362320"/>
            <a:ext cx="175248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438280" y="2362320"/>
            <a:ext cx="182880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43000" y="32004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12800" y="41274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70000" y="5029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0" y="54100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80000" y="4221000"/>
            <a:ext cx="1439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أسلوب (القُمع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التصف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720"/>
                            </p:stCondLst>
                            <p:childTnLst>
                              <p:par>
                                <p:cTn id="3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240"/>
                            </p:stCondLst>
                            <p:childTnLst>
                              <p:par>
                                <p:cTn id="3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3800"/>
                            </p:stCondLst>
                            <p:childTnLst>
                              <p:par>
                                <p:cTn id="3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4360"/>
                            </p:stCondLst>
                            <p:childTnLst>
                              <p:par>
                                <p:cTn id="3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80"/>
                            </p:stCondLst>
                            <p:childTnLst>
                              <p:par>
                                <p:cTn id="3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880"/>
                            </p:stCondLst>
                            <p:childTnLst>
                              <p:par>
                                <p:cTn id="3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6240"/>
                            </p:stCondLst>
                            <p:childTnLst>
                              <p:par>
                                <p:cTn id="3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7120"/>
                            </p:stCondLst>
                            <p:childTnLst>
                              <p:par>
                                <p:cTn id="3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7920"/>
                            </p:stCondLst>
                            <p:childTnLst>
                              <p:par>
                                <p:cTn id="3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(أسلوب الجدول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  <a:gridCol w="863640"/>
                <a:gridCol w="863640"/>
                <a:gridCol w="863640"/>
                <a:gridCol w="863280"/>
                <a:gridCol w="863640"/>
                <a:gridCol w="863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أخر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كشاف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بد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رياضيا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لو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رب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دي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طال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عبد الل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عبد الرحم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سليم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اض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أمج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صال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ري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63640" y="549000"/>
            <a:ext cx="5562720" cy="23619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Times New Roman"/>
                <a:cs typeface="Italic Outline Art"/>
              </a:rPr>
              <a:t>شكرا لاصغائكم وحسن مشاركتكم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1611360" cy="1852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238880" y="1752480"/>
            <a:ext cx="1524240" cy="1676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61800" y="3162240"/>
            <a:ext cx="2667240" cy="2040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24360" y="4365720"/>
            <a:ext cx="3100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عبد الرحمن نور الدين كلنت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05052195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ahoma"/>
              </a:rPr>
              <a:t>cluntun@hotmail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500"/>
                            </p:stCondLst>
                            <p:childTnLst>
                              <p:par>
                                <p:cTn id="50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4000"/>
                            </p:stCondLst>
                            <p:childTnLst>
                              <p:par>
                                <p:cTn id="51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خامس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لم يستطع التحدث الا في سن الرابعة ، و القراءة في سن السابعة ، تم تصنيفه ضمن الطلبة الضعفاء وذلك حسب قول والديه و أساتذت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4343400"/>
            <a:ext cx="1905120" cy="1739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نشتاي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90920" y="3429000"/>
            <a:ext cx="279072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975"/>
                            </p:stCondLst>
                            <p:childTnLst>
                              <p:par>
                                <p:cTn id="3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475"/>
                            </p:stCondLst>
                            <p:childTnLst>
                              <p:par>
                                <p:cTn id="38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75"/>
                            </p:stCondLst>
                            <p:childTnLst>
                              <p:par>
                                <p:cTn id="4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90720" y="457200"/>
            <a:ext cx="7391160" cy="6150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ahoma"/>
                <a:cs typeface="DecoType Naskh Special"/>
              </a:rPr>
              <a:t>لم تتمكن المقاييس من التعرف على المخترعين والموهوبين</a:t>
            </a:r>
            <a:r>
              <a:rPr b="0" lang="en-US" sz="3200" spc="-1" strike="noStrike">
                <a:solidFill>
                  <a:srgbClr val="ccff66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Tahoma"/>
                <a:cs typeface="Hesham Bold"/>
              </a:rPr>
              <a:t>لقد أكد المخترعون على أن معظم اختراعاتهم ومساهماتهم كانت صدفة ، و أن معظمها لم تكن من الأهداف الموضوعة للدراسة أصلا ،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00"/>
                </a:solidFill>
                <a:latin typeface="Tahoma"/>
                <a:cs typeface="Monotype Koufi"/>
              </a:rPr>
              <a:t>لا يستطيع أي مخترع تحديد زمن لاكتشاف موهبته أو انهاء عمله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من هو الموهوب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التعاريف الرسم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6000"/>
                            </p:stCondLst>
                            <p:childTnLst>
                              <p:par>
                                <p:cTn id="66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تعريف مكتب التربية و التعليم الأمريك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هم الطلبة الذين يتم اختيارهم و التعرف عليهم من قبل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أفراد متخصصين و مؤهلين علمي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وهم طلبة من ذوي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القدرات و المهارات العالية الأدا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و </a:t>
            </a:r>
            <a:r>
              <a:rPr b="0" lang="hi-IN" sz="2800" spc="-1" strike="noStrike">
                <a:solidFill>
                  <a:srgbClr val="006666"/>
                </a:solidFill>
                <a:latin typeface="Times New Roman"/>
              </a:rPr>
              <a:t>بحاجة الى خدمات تعليمية مختلفة عن أقرانهم في الصفوف الدراسية العادي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، وذلك لاتاحة الفرصة لهم لخدمة أنفسهم و مجتمعهم ، و تشمل القدرات المجالات التالية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b2b2b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قدرات العقلية العام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ميول العلمية المتخصص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cc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ابداع و الاعمال الابداعي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مهارات القياد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0066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اعمال و الفنون الجميل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مهارات الحر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00000" y="4941720"/>
            <a:ext cx="165600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80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30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737064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057400" y="2514600"/>
            <a:ext cx="4876920" cy="228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esham Bold"/>
              </a:rPr>
              <a:t>الموهبة و التفوق والابدا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esham Bold"/>
              <a:ea typeface="Hesham Bold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106668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800000"/>
                </a:solidFill>
                <a:latin typeface="Tahoma"/>
                <a:cs typeface="Hesham Cortoba"/>
              </a:rPr>
              <a:t>تنظر المجتمعات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43000" y="3797280"/>
            <a:ext cx="6781680" cy="2239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3300"/>
                </a:solidFill>
                <a:latin typeface="Tahoma"/>
                <a:cs typeface="Hesham Ghorn Italic"/>
              </a:rPr>
              <a:t>من الزاوية التي تناسبها ،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Hesham Ghorn Ital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800000"/>
                </a:solidFill>
                <a:latin typeface="Tahoma"/>
                <a:cs typeface="Hesham Bold"/>
              </a:rPr>
              <a:t>فهل لنا ان ننظر الى الزاوية التي تناسبن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990720"/>
            <a:ext cx="175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ahoma"/>
                <a:cs typeface="Kufi Extended Outline"/>
              </a:rPr>
              <a:t>ال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975"/>
                            </p:stCondLst>
                            <p:childTnLst>
                              <p:par>
                                <p:cTn id="1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475"/>
                            </p:stCondLst>
                            <p:childTnLst>
                              <p:par>
                                <p:cTn id="1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حتى لا تختلط الأمو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11829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أسرة و المدرس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1563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مؤسسات / الشركات المتخصص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05320" y="3581280"/>
            <a:ext cx="472428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ا نوعية الموهبة المنشودة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24080" y="4495680"/>
            <a:ext cx="510552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ن هم الأفراد المنشودين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00200" y="3581280"/>
            <a:ext cx="1295280" cy="192276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الى أية مستوى نرغب التوصل الي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352680" y="5410080"/>
            <a:ext cx="4876920" cy="4597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ما مقدار الميزانية المرصود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5486400"/>
            <a:ext cx="1219320" cy="1008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333cc"/>
                </a:solidFill>
                <a:latin typeface="Tahoma"/>
              </a:rPr>
              <a:t>هل الامكانات متوافرة</a:t>
            </a: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200"/>
                            </p:stCondLst>
                            <p:childTnLst>
                              <p:par>
                                <p:cTn id="13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600"/>
                            </p:stCondLst>
                            <p:childTnLst>
                              <p:par>
                                <p:cTn id="142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700"/>
                            </p:stCondLst>
                            <p:childTnLst>
                              <p:par>
                                <p:cTn id="14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7200"/>
                            </p:stCondLst>
                            <p:childTnLst>
                              <p:par>
                                <p:cTn id="152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8700"/>
                            </p:stCondLst>
                            <p:childTnLst>
                              <p:par>
                                <p:cTn id="15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95280" y="2209680"/>
            <a:ext cx="6629400" cy="448308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اذ قال ربك للملائكة اني جاعل في الارض خليفة ، قالوا  أتجعل فيها من يفسد فيها و يسفك الدماء و نحن نسبح بحمدك و نقدس لك ، قال اني أعلم مالا تعلمون . وعلم آدم الأسماء كلها 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بقرة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8-05-01T20:49:02Z</dcterms:modified>
  <cp:revision>2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