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96A1-C17B-43F9-BF9D-84C3C380C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AC5A-541E-4CFB-A34C-F7078C52B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6189-1D62-4AA1-985E-D1854AA54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CC80-C94C-487F-9473-F8A50E859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21C0A-D86C-4667-BDE5-6F8F5333D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C806C-2921-4946-852B-F16DD3FF8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34243-CAEB-45A0-9AC5-8D7000CFB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C840B-2CE3-4328-8978-25CAD769D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85437-87BF-4442-B369-672761013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ADBAE-8694-479F-9EF6-1B6C27F29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25666-9D4E-4444-B804-CF80ED56B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E875-5810-4AA6-97C0-084FBAF07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703AD-F380-484A-ADF5-22CA8B8C1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6D34B-9F3F-4E15-85EA-B09A3923E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5D72A-0483-412E-B8B3-F23D5D7C9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067D8-8989-4371-B079-F39154673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55C85-3897-4200-A7B8-AB54F3291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A48D-5755-4005-8FCC-C9FA3D738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311B-FB52-4FA2-8A6D-300D3D40E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E754-85F1-43FD-BFA0-87330810E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E471-180B-4176-AA16-A32FC53CC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39FB-06B1-4675-BF49-4D3DA8972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7BE4-16DB-4DF3-BA56-8ABB83B0D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0C1F-0052-4F17-AE3E-562CE7224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1480D-E749-444D-B62A-FDFF225ED32F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8F618-5A74-44E9-A6B3-F63412A5EE0F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8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5" dur="indefinite" restart="never" nodeType="tmRoot">
          <p:childTnLst>
            <p:seq>
              <p:cTn id="856" dur="indefinite" nodeType="mainSeq">
                <p:childTnLst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1" dur="indefinite" restart="never" nodeType="tmRoot">
          <p:childTnLst>
            <p:seq>
              <p:cTn id="942" dur="indefinite" nodeType="mainSeq">
                <p:childTnLst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8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9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6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7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2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3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4" dur="indefinite" restart="never" nodeType="tmRoot">
          <p:childTnLst>
            <p:seq>
              <p:cTn id="985" dur="indefinite" nodeType="mainSeq">
                <p:childTnLst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6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7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2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4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5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6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7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6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7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3" dur="indefinite" restart="never" nodeType="tmRoot">
          <p:childTnLst>
            <p:seq>
              <p:cTn id="1064" dur="indefinite" nodeType="mainSeq">
                <p:childTnLst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0"/>
                            </p:stCondLst>
                            <p:childTnLst>
                              <p:par>
                                <p:cTn id="10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2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