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applause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9F4F-F63E-43EF-B90A-6A07354AE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A94C-5174-4110-83B5-18E8721AA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90A9-7C22-4CE5-BC12-2F998FCAF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8C29-BE52-4C26-BF69-3FDCC551C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247F0-F37C-4C90-9EBF-D9B477E5E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40395-F6E6-4080-84D8-1328828DE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09C9F-2C07-473A-88A3-9B7B1A063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BB44C-0821-4066-8972-D6B2500D8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27A8D-84BD-4488-B19C-E1CC5A629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C5540-172F-4BB0-B602-218BAD08A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B1F38-4D39-461E-94AD-D119E49A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C9E9-BEF0-4062-9EF8-59D13B497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92527-4799-4E69-92A7-85319399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85308-38BA-4DAF-B1CA-AD040980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84B81-3D81-448E-8662-DCC48BAC2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C4209-3E21-4CC9-8E05-4BABB60EB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71035-E97B-4CE2-A9EF-D0B0A988E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D3A1-9A01-4AD9-869A-20B208554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1C94-3A2A-4383-A212-796B5476C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E4C4-23D0-49BA-AC83-60274059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43C4-4501-46BC-AC85-C111AF96B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8867-7F3D-44DA-80CA-B74A1C82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108D-EB4B-492D-9C51-CB2289BD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2A89-E8E5-42F6-A550-1EA690C7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76F1C-299C-42F9-9905-12169E66A968}" type="slidenum"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5D1BC-95B0-4CCF-9656-11046F057D8B}" type="slidenum"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 rtl="1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 rtl="1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 rtl="1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.il/imgres?imgurl=http://www.yardbirds.org.il/album/album-3/sm_DSCN4663.jpg&amp;imgrefurl=http://www.yardbirds.org.il/album/album-3/album-3.htm&amp;h=375&amp;w=500&amp;sz=57&amp;tbnid=6Ow1K6Lotj4J:&amp;tbnh=95&amp;tbnw=127&amp;start=31&amp;prev=/images%3Fq%3D%25D7%25A1%25D7%25A0%25D7%2595%25D7%25A0%25D7%2599%25D7%25AA%26start%3D20%26hl%3Diw%26lr%3D%26sa%3DN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769608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omic Sans MS"/>
              </a:rPr>
              <a:t>موقع كلمات وعبارات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ww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alimat1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ar-SY" sz="4400" spc="-1" strike="noStrike">
                <a:solidFill>
                  <a:srgbClr val="00b200"/>
                </a:solidFill>
                <a:latin typeface="Comic Sans MS"/>
              </a:rPr>
              <a:t>ممتاز – تابع الى السؤال التالي</a:t>
            </a:r>
            <a:r>
              <a:rPr b="0" lang="ar-SY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1403280" y="5877000"/>
            <a:ext cx="1079640" cy="792000"/>
          </a:xfrm>
          <a:custGeom>
            <a:avLst/>
            <a:gdLst>
              <a:gd name="textAreaLeft" fmla="*/ 51120 w 1079640"/>
              <a:gd name="textAreaRight" fmla="*/ 1028520 w 1079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9441" h="21600">
                <a:moveTo>
                  <a:pt x="0" y="0"/>
                </a:moveTo>
                <a:lnTo>
                  <a:pt x="29441" y="0"/>
                </a:lnTo>
                <a:lnTo>
                  <a:pt x="29441" y="21600"/>
                </a:lnTo>
                <a:lnTo>
                  <a:pt x="0" y="21600"/>
                </a:lnTo>
                <a:close/>
              </a:path>
              <a:path fill="lightenLess" w="29441" h="21600">
                <a:moveTo>
                  <a:pt x="0" y="0"/>
                </a:moveTo>
                <a:lnTo>
                  <a:pt x="29441" y="0"/>
                </a:lnTo>
                <a:lnTo>
                  <a:pt x="28041" y="1400"/>
                </a:lnTo>
                <a:lnTo>
                  <a:pt x="1400" y="1400"/>
                </a:lnTo>
                <a:close/>
              </a:path>
              <a:path fill="darken" w="29441" h="21600">
                <a:moveTo>
                  <a:pt x="29441" y="0"/>
                </a:moveTo>
                <a:lnTo>
                  <a:pt x="29441" y="21600"/>
                </a:lnTo>
                <a:lnTo>
                  <a:pt x="28041" y="20200"/>
                </a:lnTo>
                <a:lnTo>
                  <a:pt x="28041" y="1400"/>
                </a:lnTo>
                <a:close/>
              </a:path>
              <a:path fill="darkenLess" w="29441" h="21600">
                <a:moveTo>
                  <a:pt x="29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1" y="20200"/>
                </a:lnTo>
                <a:close/>
              </a:path>
              <a:path fill="lighten" w="29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1" h="21600">
                <a:moveTo>
                  <a:pt x="7714" y="10800"/>
                </a:moveTo>
                <a:lnTo>
                  <a:pt x="21727" y="3794"/>
                </a:lnTo>
                <a:lnTo>
                  <a:pt x="21727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771640" y="2492280"/>
            <a:ext cx="3149640" cy="269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b200"/>
                </a:solidFill>
                <a:latin typeface="Comic Sans MS"/>
              </a:rPr>
              <a:t>هجرة الطيور</a:t>
            </a:r>
            <a:r>
              <a:rPr b="0" lang="ar-SY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هجرة الطيور ليست ميزه خاصه بفصل الربيع ولكننا نلاحظها اكثر في هذا الفصل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تهاجر الطيور مواطنها او تعود اليها لعدة اسباب منها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* كثرة الغذاء والحبوب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* التبشير بتغيير المواسم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ar-SY" sz="4000" spc="-1" strike="noStrike">
                <a:solidFill>
                  <a:srgbClr val="00b200"/>
                </a:solidFill>
                <a:latin typeface="Comic Sans MS"/>
              </a:rPr>
              <a:t>هجرة الطيور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1189080" y="1557360"/>
            <a:ext cx="96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هجرة الطيور ترمز الى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تغير في حالة الطقس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جفاف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قحل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2276640"/>
            <a:ext cx="280836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ar-SY" sz="4400" spc="-1" strike="noStrike">
                <a:solidFill>
                  <a:srgbClr val="00b200"/>
                </a:solidFill>
                <a:latin typeface="Comic Sans MS"/>
              </a:rPr>
              <a:t>خطأ – حاول مره اخر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>
            <a:hlinkClick r:id="" action="ppaction://hlinkshowjump?jump=previousslide"/>
          </p:cNvPr>
          <p:cNvSpPr/>
          <p:nvPr/>
        </p:nvSpPr>
        <p:spPr>
          <a:xfrm>
            <a:off x="1547640" y="5877000"/>
            <a:ext cx="1008360" cy="792000"/>
          </a:xfrm>
          <a:custGeom>
            <a:avLst/>
            <a:gdLst>
              <a:gd name="textAreaLeft" fmla="*/ 51120 w 1008360"/>
              <a:gd name="textAreaRight" fmla="*/ 957240 w 1008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6743" y="3794"/>
                </a:moveTo>
                <a:lnTo>
                  <a:pt x="20756" y="10800"/>
                </a:lnTo>
                <a:lnTo>
                  <a:pt x="674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700360" y="2708280"/>
            <a:ext cx="316692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i="1" lang="ar-SY" sz="4400" spc="-1" strike="noStrike">
                <a:solidFill>
                  <a:srgbClr val="00b200"/>
                </a:solidFill>
                <a:latin typeface="Comic Sans MS"/>
              </a:rPr>
              <a:t>كل الاحترام </a:t>
            </a:r>
            <a:br>
              <a:rPr sz="4400"/>
            </a:br>
            <a:r>
              <a:rPr b="1" i="1" lang="ar-SY" sz="4400" spc="-1" strike="noStrike">
                <a:solidFill>
                  <a:srgbClr val="00b200"/>
                </a:solidFill>
                <a:latin typeface="Comic Sans MS"/>
              </a:rPr>
              <a:t>لقد اجبت جيداً على جميع الاسئلة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>
            <a:hlinkClick r:id="" action="ppaction://hlinkshowjump?jump=nextslide"/>
          </p:cNvPr>
          <p:cNvSpPr/>
          <p:nvPr/>
        </p:nvSpPr>
        <p:spPr>
          <a:xfrm>
            <a:off x="1547640" y="5950080"/>
            <a:ext cx="938520" cy="720720"/>
          </a:xfrm>
          <a:custGeom>
            <a:avLst/>
            <a:gdLst>
              <a:gd name="textAreaLeft" fmla="*/ 46440 w 938520"/>
              <a:gd name="textAreaRight" fmla="*/ 892080 w 9385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8124" h="21600">
                <a:moveTo>
                  <a:pt x="0" y="0"/>
                </a:moveTo>
                <a:lnTo>
                  <a:pt x="28124" y="0"/>
                </a:lnTo>
                <a:lnTo>
                  <a:pt x="28124" y="21600"/>
                </a:lnTo>
                <a:lnTo>
                  <a:pt x="0" y="21600"/>
                </a:lnTo>
                <a:close/>
              </a:path>
              <a:path fill="lightenLess" w="28124" h="21600">
                <a:moveTo>
                  <a:pt x="0" y="0"/>
                </a:moveTo>
                <a:lnTo>
                  <a:pt x="28124" y="0"/>
                </a:lnTo>
                <a:lnTo>
                  <a:pt x="26724" y="1400"/>
                </a:lnTo>
                <a:lnTo>
                  <a:pt x="1400" y="1400"/>
                </a:lnTo>
                <a:close/>
              </a:path>
              <a:path fill="darken" w="28124" h="21600">
                <a:moveTo>
                  <a:pt x="28124" y="0"/>
                </a:moveTo>
                <a:lnTo>
                  <a:pt x="28124" y="21600"/>
                </a:lnTo>
                <a:lnTo>
                  <a:pt x="26724" y="20200"/>
                </a:lnTo>
                <a:lnTo>
                  <a:pt x="26724" y="1400"/>
                </a:lnTo>
                <a:close/>
              </a:path>
              <a:path fill="darkenLess" w="28124" h="21600">
                <a:moveTo>
                  <a:pt x="281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24" y="20200"/>
                </a:lnTo>
                <a:close/>
              </a:path>
              <a:path fill="lighten" w="281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24" h="21600">
                <a:moveTo>
                  <a:pt x="7056" y="10800"/>
                </a:moveTo>
                <a:lnTo>
                  <a:pt x="21069" y="3794"/>
                </a:lnTo>
                <a:lnTo>
                  <a:pt x="21069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916360" y="2637000"/>
            <a:ext cx="287964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40072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440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800" spc="-1" strike="noStrike">
                <a:solidFill>
                  <a:srgbClr val="00b200"/>
                </a:solidFill>
                <a:latin typeface="Comic Sans MS"/>
              </a:rPr>
              <a:t>ظواهر فصل الربيع</a:t>
            </a:r>
            <a:r>
              <a:rPr b="0" lang="ar-SY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1773000"/>
            <a:ext cx="6400800" cy="38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فصل الربيع يعتبر من اجمل الفصول ، فيه</a:t>
            </a: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الطقس يكون معتدلا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السماء تكون صافي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تفتح اوراق الاشجا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تفتح الازها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ينمو العشب الاخض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زهر الاشجار</a:t>
            </a:r>
            <a:r>
              <a:rPr b="0" lang="ar-SY" sz="24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936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ظواهر فصل الربيع</a:t>
            </a:r>
            <a:r>
              <a:rPr b="0" lang="ar-SY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1484280"/>
            <a:ext cx="64008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Comic Sans MS"/>
              </a:rPr>
              <a:t>اي من التالي غير تابع لفصل الربيع ، اضغط على الاجابه الخاطئه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1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السماء صافيه وزرقاء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2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تتساقط الثلوج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3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تتفتح الازهار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خطأ – انا تابع لفصل الربيع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649600" y="1967040"/>
            <a:ext cx="3779640" cy="2541600"/>
          </a:xfrm>
          <a:prstGeom prst="rect">
            <a:avLst/>
          </a:prstGeom>
          <a:ln w="0">
            <a:noFill/>
          </a:ln>
        </p:spPr>
      </p:pic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1476360" y="5950080"/>
            <a:ext cx="934920" cy="647640"/>
          </a:xfrm>
          <a:custGeom>
            <a:avLst/>
            <a:gdLst>
              <a:gd name="textAreaLeft" fmla="*/ 41760 w 934920"/>
              <a:gd name="textAreaRight" fmla="*/ 893160 w 934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1176" h="21600">
                <a:moveTo>
                  <a:pt x="0" y="0"/>
                </a:moveTo>
                <a:lnTo>
                  <a:pt x="31176" y="0"/>
                </a:lnTo>
                <a:lnTo>
                  <a:pt x="31176" y="21600"/>
                </a:lnTo>
                <a:lnTo>
                  <a:pt x="0" y="21600"/>
                </a:lnTo>
                <a:close/>
              </a:path>
              <a:path fill="lightenLess" w="31176" h="21600">
                <a:moveTo>
                  <a:pt x="0" y="0"/>
                </a:moveTo>
                <a:lnTo>
                  <a:pt x="31176" y="0"/>
                </a:lnTo>
                <a:lnTo>
                  <a:pt x="29776" y="1400"/>
                </a:lnTo>
                <a:lnTo>
                  <a:pt x="1400" y="1400"/>
                </a:lnTo>
                <a:close/>
              </a:path>
              <a:path fill="darken" w="31176" h="21600">
                <a:moveTo>
                  <a:pt x="31176" y="0"/>
                </a:moveTo>
                <a:lnTo>
                  <a:pt x="31176" y="21600"/>
                </a:lnTo>
                <a:lnTo>
                  <a:pt x="29776" y="20200"/>
                </a:lnTo>
                <a:lnTo>
                  <a:pt x="29776" y="1400"/>
                </a:lnTo>
                <a:close/>
              </a:path>
              <a:path fill="darkenLess" w="31176" h="21600">
                <a:moveTo>
                  <a:pt x="31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76" y="20200"/>
                </a:lnTo>
                <a:close/>
              </a:path>
              <a:path fill="lighten" w="31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76" h="21600">
                <a:moveTo>
                  <a:pt x="8582" y="3794"/>
                </a:moveTo>
                <a:lnTo>
                  <a:pt x="22594" y="10800"/>
                </a:lnTo>
                <a:lnTo>
                  <a:pt x="858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خطأ – انا تابع لفصل الربي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627280" y="2200320"/>
            <a:ext cx="3321000" cy="2449440"/>
          </a:xfrm>
          <a:prstGeom prst="rect">
            <a:avLst/>
          </a:prstGeom>
          <a:ln w="0">
            <a:noFill/>
          </a:ln>
        </p:spPr>
      </p:pic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1547640" y="5877000"/>
            <a:ext cx="1008360" cy="792000"/>
          </a:xfrm>
          <a:custGeom>
            <a:avLst/>
            <a:gdLst>
              <a:gd name="textAreaLeft" fmla="*/ 51120 w 1008360"/>
              <a:gd name="textAreaRight" fmla="*/ 957240 w 1008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6743" y="3794"/>
                </a:moveTo>
                <a:lnTo>
                  <a:pt x="20756" y="10800"/>
                </a:lnTo>
                <a:lnTo>
                  <a:pt x="674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ممتاز – انا غير تابع لفصل الربيع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484360" y="2060640"/>
            <a:ext cx="3854520" cy="2663640"/>
          </a:xfrm>
          <a:prstGeom prst="rect">
            <a:avLst/>
          </a:prstGeom>
          <a:ln w="0">
            <a:noFill/>
          </a:ln>
        </p:spPr>
      </p:pic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1476360" y="5877000"/>
            <a:ext cx="1008000" cy="792000"/>
          </a:xfrm>
          <a:custGeom>
            <a:avLst/>
            <a:gdLst>
              <a:gd name="textAreaLeft" fmla="*/ 51120 w 1008000"/>
              <a:gd name="textAreaRight" fmla="*/ 956880 w 1008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88" h="21600">
                <a:moveTo>
                  <a:pt x="0" y="0"/>
                </a:moveTo>
                <a:lnTo>
                  <a:pt x="27488" y="0"/>
                </a:lnTo>
                <a:lnTo>
                  <a:pt x="27488" y="21600"/>
                </a:lnTo>
                <a:lnTo>
                  <a:pt x="0" y="21600"/>
                </a:lnTo>
                <a:close/>
              </a:path>
              <a:path fill="lightenLess" w="27488" h="21600">
                <a:moveTo>
                  <a:pt x="0" y="0"/>
                </a:moveTo>
                <a:lnTo>
                  <a:pt x="27488" y="0"/>
                </a:lnTo>
                <a:lnTo>
                  <a:pt x="26088" y="1400"/>
                </a:lnTo>
                <a:lnTo>
                  <a:pt x="1400" y="1400"/>
                </a:lnTo>
                <a:close/>
              </a:path>
              <a:path fill="darken" w="27488" h="21600">
                <a:moveTo>
                  <a:pt x="27488" y="0"/>
                </a:moveTo>
                <a:lnTo>
                  <a:pt x="27488" y="21600"/>
                </a:lnTo>
                <a:lnTo>
                  <a:pt x="26088" y="20200"/>
                </a:lnTo>
                <a:lnTo>
                  <a:pt x="26088" y="1400"/>
                </a:lnTo>
                <a:close/>
              </a:path>
              <a:path fill="darkenLess" w="27488" h="21600">
                <a:moveTo>
                  <a:pt x="274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8" y="20200"/>
                </a:lnTo>
                <a:close/>
              </a:path>
              <a:path fill="lighten" w="274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8" h="21600">
                <a:moveTo>
                  <a:pt x="6738" y="10800"/>
                </a:moveTo>
                <a:lnTo>
                  <a:pt x="20751" y="3794"/>
                </a:lnTo>
                <a:lnTo>
                  <a:pt x="20751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b200"/>
                </a:solidFill>
                <a:latin typeface="Comic Sans MS"/>
              </a:rPr>
              <a:t>تفتح الازهار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أحد ميزات فصل الربيع وأجملها هو ظارة تفتح الازهار ، فبعد ان مضى فصل الشتاء بحلته العابسه وامطاره الغزيره ورياحه وعواصفه المخيفه أقبل فصل الربيع ليعوضنا عن كل تلك ، ففيه الازهار المزينه بحلتها الرائعه وألوانها الزهيه والنضره ، ففي فصل الربيع تزهر ازهارا خاصه لا تزهر في باقي الفصول كزهرة شقائق النعمان .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ar-SY" sz="4000" spc="-1" strike="noStrike">
                <a:solidFill>
                  <a:srgbClr val="00b200"/>
                </a:solidFill>
                <a:latin typeface="Comic Sans MS"/>
              </a:rPr>
              <a:t>تفتح الازهار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16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ما اسم الزهرة التالية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703dff"/>
                </a:solidFill>
                <a:latin typeface="Comic Sans MS"/>
              </a:rPr>
              <a:t>1</a:t>
            </a:r>
            <a:r>
              <a:rPr b="0" lang="he-IL" sz="2800" spc="-1" strike="noStrike">
                <a:solidFill>
                  <a:srgbClr val="703dff"/>
                </a:solidFill>
                <a:latin typeface="Comic Sans MS"/>
              </a:rPr>
              <a:t>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الصفير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2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- شقائق النعمان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3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- الجوري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706400" y="2317680"/>
            <a:ext cx="2894040" cy="240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2T16:58:47Z</dcterms:created>
  <dc:creator>student</dc:creator>
  <dc:description/>
  <dc:language>en-US</dc:language>
  <cp:lastModifiedBy>abdallah</cp:lastModifiedBy>
  <dcterms:modified xsi:type="dcterms:W3CDTF">2018-02-12T14:34:59Z</dcterms:modified>
  <cp:revision>5</cp:revision>
  <dc:subject/>
  <dc:title>ظواهر فصل الربيع </dc:title>
</cp:coreProperties>
</file>