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1021-3ABA-403C-A447-A63B9F8C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0A16-A80D-437C-93E8-A2C69EE8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CD96-7FB9-4850-BDA6-073C14055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BF8E-58F4-47A4-B0C2-D9D66C356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26F8-DA1A-4280-A078-32B6F287B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D5F5-9CD5-48A6-8147-EFF09355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670F-F249-4CC9-85A9-091BF7DC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79D4-073F-43EA-982A-34183A82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21D9-B09A-4912-BA77-3A5B9D7F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4AF1-42FD-42EF-8D85-B0A3E57F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BB36-5659-472A-8546-46D1D60B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8016-AA64-4D57-B377-69EFAA0B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93B8-D46E-4F33-B1E1-7A442E9D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268A-63F2-4CD8-84E7-85FCB2CE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521A-E7EA-4D31-BACB-DD439EA7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B014-BF8F-4AA1-BF8D-A6EDF4CAC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A655-8E63-46F0-A512-EEF0F0516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BB9F-3BA2-4164-96C7-0FAC0276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B37D-749D-46C6-8C4E-281F35CA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07FD-B603-4D5A-AFD7-BF27CB7D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DBC3-AF65-4EBD-855C-EA5B20E9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6F12-6458-4E59-B80A-129616AA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15DA-C16D-456B-A3DE-B7207D42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3653-533B-4B6C-981B-0DB791BF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37F1-02E6-4284-B498-B4947E051BE4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80A0-193E-45AF-8C82-376AD7DF90E2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yardbirds.org.il/album/album-3/sm_DSCN4663.jpg&amp;imgrefurl=http://www.yardbirds.org.il/album/album-3/album-3.htm&amp;h=375&amp;w=500&amp;sz=57&amp;tbnid=6Ow1K6Lotj4J:&amp;tbnh=95&amp;tbnw=127&amp;start=31&amp;prev=/images%3Fq%3D%25D7%25A1%25D7%25A0%25D7%2595%25D7%25A0%25D7%2599%25D7%25AA%26start%3D20%26hl%3Diw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omic Sans MS"/>
              </a:rPr>
              <a:t>موقع كلمات وعبارا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limat1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ممتاز – تابع الى السؤال التالي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1403280" y="587700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496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هجرة الطيور ليست ميزه خاصه بفصل الربيع ولكننا نلاحظها اكثر في هذا الفصل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تهاجر الطيور مواطنها او تعود اليها لعدة اسباب منها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كثرة الغذاء والحبوب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التبشير بتغيير المواسم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1189080" y="1557360"/>
            <a:ext cx="96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هجرة الطيور ترمز الى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تغير في حالة الطق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جفاف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قحل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خطأ – حاول مره اخر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166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كل الاحترام </a:t>
            </a: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لقد اجبت جيداً على جميع الاسئل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1547640" y="5950080"/>
            <a:ext cx="938520" cy="720720"/>
          </a:xfrm>
          <a:custGeom>
            <a:avLst/>
            <a:gdLst>
              <a:gd name="textAreaLeft" fmla="*/ 46440 w 938520"/>
              <a:gd name="textAreaRight" fmla="*/ 892080 w 938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124" h="21600">
                <a:moveTo>
                  <a:pt x="0" y="0"/>
                </a:moveTo>
                <a:lnTo>
                  <a:pt x="28124" y="0"/>
                </a:lnTo>
                <a:lnTo>
                  <a:pt x="28124" y="21600"/>
                </a:lnTo>
                <a:lnTo>
                  <a:pt x="0" y="21600"/>
                </a:lnTo>
                <a:close/>
              </a:path>
              <a:path fill="lightenLess" w="28124" h="21600">
                <a:moveTo>
                  <a:pt x="0" y="0"/>
                </a:moveTo>
                <a:lnTo>
                  <a:pt x="28124" y="0"/>
                </a:lnTo>
                <a:lnTo>
                  <a:pt x="26724" y="1400"/>
                </a:lnTo>
                <a:lnTo>
                  <a:pt x="1400" y="1400"/>
                </a:lnTo>
                <a:close/>
              </a:path>
              <a:path fill="darken" w="28124" h="21600">
                <a:moveTo>
                  <a:pt x="28124" y="0"/>
                </a:moveTo>
                <a:lnTo>
                  <a:pt x="28124" y="21600"/>
                </a:lnTo>
                <a:lnTo>
                  <a:pt x="26724" y="20200"/>
                </a:lnTo>
                <a:lnTo>
                  <a:pt x="26724" y="1400"/>
                </a:lnTo>
                <a:close/>
              </a:path>
              <a:path fill="darkenLess" w="28124" h="21600">
                <a:moveTo>
                  <a:pt x="2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4" y="20200"/>
                </a:lnTo>
                <a:close/>
              </a:path>
              <a:path fill="lighten" w="2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4" h="21600">
                <a:moveTo>
                  <a:pt x="7056" y="10800"/>
                </a:moveTo>
                <a:lnTo>
                  <a:pt x="21069" y="3794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87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فصل الربيع يعتبر من اجمل الفصول ، فيه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طقس يكون معتدلا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سماء تكون صاف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وراق الاشج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لازه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ينمو العشب الاخض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زهر الاشجار</a:t>
            </a:r>
            <a:r>
              <a:rPr b="0" lang="ar-SY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mic Sans MS"/>
              </a:rPr>
              <a:t>اي من التالي غير تابع لفصل الربيع ، اضغط على الاجابه الخاطئه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1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السماء صافيه وزرقاء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ساقط الثلوج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فتح الازهار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49600" y="1967040"/>
            <a:ext cx="3779640" cy="25416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147636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22594" y="10800"/>
                </a:lnTo>
                <a:lnTo>
                  <a:pt x="8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2200320"/>
            <a:ext cx="3321000" cy="24494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ممتاز – انا غير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5452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4763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أحد ميزات فصل الربيع وأجملها هو ظارة تفتح الازهار ، فبعد ان مضى فصل الشتاء بحلته العابسه وامطاره الغزيره ورياحه وعواصفه المخيفه أقبل فصل الربيع ليعوضنا عن كل تلك ، ففيه الازهار المزينه بحلتها الرائعه وألوانها الزهيه والنضره ، ففي فصل الربيع تزهر ازهارا خاصه لا تزهر في باقي الفصول كزهرة شقائق النعمان .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6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ما اسم الزهرة التال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الصفي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شقائق النعمان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الجوري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06400" y="2317680"/>
            <a:ext cx="28940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6:58:47Z</dcterms:created>
  <dc:creator>student</dc:creator>
  <dc:description/>
  <dc:language>en-US</dc:language>
  <cp:lastModifiedBy>abdallah</cp:lastModifiedBy>
  <dcterms:modified xsi:type="dcterms:W3CDTF">2018-02-12T14:34:59Z</dcterms:modified>
  <cp:revision>5</cp:revision>
  <dc:subject/>
  <dc:title>ظواهر فصل الربيع </dc:title>
</cp:coreProperties>
</file>