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applause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0559-B4B8-40C3-BFFE-A3A933538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18D1-5AB4-4600-8BE3-A553F908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4509-3ABB-446E-B4B8-5AFE26837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D104-84B8-455A-8B52-AE5A0AAAB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1A50-1B46-470A-B15C-0465E0799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5EBD-EC1C-4900-B0CC-6EAE25DA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4842-5A8A-44F7-B11C-5F9350FC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8E7F-1412-493A-BA7D-ECF6A13A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2D1B-D528-4E1D-8109-91D88E75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9A8C-F31C-4694-9E96-E9459D38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2762-E1D5-443B-AA2C-EBEBEF22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5241-CE90-4B68-B0B4-8E4AAF11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BBE1-481E-4F31-B45E-2129C208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52E9-F915-4E76-8A04-CED80243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BE36-E498-46FF-A8F3-ECCCC6BF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E660-F0CA-4517-927C-A2D423AFA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C8521-7B50-4F04-8A95-DBFE008DD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975A-1544-4477-B7FF-B711112C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975A-3B8A-4366-BC6B-11BD1D7D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F401-E386-4948-8957-C458D6DD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7047-B05D-4232-8680-A3CEF3E7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BCE3-263B-4146-A8DB-4F09E3E8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719A-8328-4373-A840-ACCEFD81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43A8-56BD-4C59-9F7F-70BB1539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82EA-7E9F-4799-B658-759283FA4308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ACA4-DCEB-4511-926B-E0A988BDF412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 rtl="1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yardbirds.org.il/album/album-3/sm_DSCN4663.jpg&amp;imgrefurl=http://www.yardbirds.org.il/album/album-3/album-3.htm&amp;h=375&amp;w=500&amp;sz=57&amp;tbnid=6Ow1K6Lotj4J:&amp;tbnh=95&amp;tbnw=127&amp;start=31&amp;prev=/images%3Fq%3D%25D7%25A1%25D7%25A0%25D7%2595%25D7%25A0%25D7%2599%25D7%25AA%26start%3D20%26hl%3Diw%26lr%3D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6960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omic Sans MS"/>
              </a:rPr>
              <a:t>موقع كلمات وعبارات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ww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limat1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ممتاز – تابع الى السؤال التالي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1403280" y="5877000"/>
            <a:ext cx="1079640" cy="792000"/>
          </a:xfrm>
          <a:custGeom>
            <a:avLst/>
            <a:gdLst>
              <a:gd name="textAreaLeft" fmla="*/ 51120 w 1079640"/>
              <a:gd name="textAreaRight" fmla="*/ 1028520 w 1079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41" h="21600">
                <a:moveTo>
                  <a:pt x="0" y="0"/>
                </a:moveTo>
                <a:lnTo>
                  <a:pt x="29441" y="0"/>
                </a:lnTo>
                <a:lnTo>
                  <a:pt x="29441" y="21600"/>
                </a:lnTo>
                <a:lnTo>
                  <a:pt x="0" y="21600"/>
                </a:lnTo>
                <a:close/>
              </a:path>
              <a:path fill="lightenLess" w="29441" h="21600">
                <a:moveTo>
                  <a:pt x="0" y="0"/>
                </a:moveTo>
                <a:lnTo>
                  <a:pt x="29441" y="0"/>
                </a:lnTo>
                <a:lnTo>
                  <a:pt x="28041" y="1400"/>
                </a:lnTo>
                <a:lnTo>
                  <a:pt x="1400" y="1400"/>
                </a:lnTo>
                <a:close/>
              </a:path>
              <a:path fill="darken" w="29441" h="21600">
                <a:moveTo>
                  <a:pt x="29441" y="0"/>
                </a:moveTo>
                <a:lnTo>
                  <a:pt x="29441" y="21600"/>
                </a:lnTo>
                <a:lnTo>
                  <a:pt x="28041" y="20200"/>
                </a:lnTo>
                <a:lnTo>
                  <a:pt x="28041" y="1400"/>
                </a:lnTo>
                <a:close/>
              </a:path>
              <a:path fill="darkenLess" w="29441" h="21600">
                <a:moveTo>
                  <a:pt x="29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1" y="20200"/>
                </a:lnTo>
                <a:close/>
              </a:path>
              <a:path fill="lighten" w="29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1" h="21600">
                <a:moveTo>
                  <a:pt x="7714" y="10800"/>
                </a:moveTo>
                <a:lnTo>
                  <a:pt x="21727" y="3794"/>
                </a:lnTo>
                <a:lnTo>
                  <a:pt x="2172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314964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هجرة الطيور ليست ميزه خاصه بفصل الربيع ولكننا نلاحظها اكثر في هذا الفصل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تهاجر الطيور مواطنها او تعود اليها لعدة اسباب منها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كثرة الغذاء والحبوب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التبشير بتغيير المواسم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1189080" y="1557360"/>
            <a:ext cx="96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هجرة الطيور ترمز الى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تغير في حالة الطقس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جفاف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قحل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2276640"/>
            <a:ext cx="280836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خطأ – حاول مره اخر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700360" y="2708280"/>
            <a:ext cx="316692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كل الاحترام </a:t>
            </a: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لقد اجبت جيداً على جميع الاسئلة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1547640" y="5950080"/>
            <a:ext cx="938520" cy="720720"/>
          </a:xfrm>
          <a:custGeom>
            <a:avLst/>
            <a:gdLst>
              <a:gd name="textAreaLeft" fmla="*/ 46440 w 938520"/>
              <a:gd name="textAreaRight" fmla="*/ 892080 w 9385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124" h="21600">
                <a:moveTo>
                  <a:pt x="0" y="0"/>
                </a:moveTo>
                <a:lnTo>
                  <a:pt x="28124" y="0"/>
                </a:lnTo>
                <a:lnTo>
                  <a:pt x="28124" y="21600"/>
                </a:lnTo>
                <a:lnTo>
                  <a:pt x="0" y="21600"/>
                </a:lnTo>
                <a:close/>
              </a:path>
              <a:path fill="lightenLess" w="28124" h="21600">
                <a:moveTo>
                  <a:pt x="0" y="0"/>
                </a:moveTo>
                <a:lnTo>
                  <a:pt x="28124" y="0"/>
                </a:lnTo>
                <a:lnTo>
                  <a:pt x="26724" y="1400"/>
                </a:lnTo>
                <a:lnTo>
                  <a:pt x="1400" y="1400"/>
                </a:lnTo>
                <a:close/>
              </a:path>
              <a:path fill="darken" w="28124" h="21600">
                <a:moveTo>
                  <a:pt x="28124" y="0"/>
                </a:moveTo>
                <a:lnTo>
                  <a:pt x="28124" y="21600"/>
                </a:lnTo>
                <a:lnTo>
                  <a:pt x="26724" y="20200"/>
                </a:lnTo>
                <a:lnTo>
                  <a:pt x="26724" y="1400"/>
                </a:lnTo>
                <a:close/>
              </a:path>
              <a:path fill="darkenLess" w="28124" h="21600">
                <a:moveTo>
                  <a:pt x="28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4" y="20200"/>
                </a:lnTo>
                <a:close/>
              </a:path>
              <a:path fill="lighten" w="28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24" h="21600">
                <a:moveTo>
                  <a:pt x="7056" y="10800"/>
                </a:moveTo>
                <a:lnTo>
                  <a:pt x="21069" y="3794"/>
                </a:lnTo>
                <a:lnTo>
                  <a:pt x="21069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916360" y="2637000"/>
            <a:ext cx="287964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8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فصل الربيع يعتبر من اجمل الفصول ، فيه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طقس يكون معتدلا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سماء تكون صاف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وراق الاشج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لازه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ينمو العشب الاخض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زهر الاشجار</a:t>
            </a:r>
            <a:r>
              <a:rPr b="0" lang="ar-SY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1484280"/>
            <a:ext cx="64008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omic Sans MS"/>
              </a:rPr>
              <a:t>اي من التالي غير تابع لفصل الربيع ، اضغط على الاجابه الخاطئه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1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السماء صافيه وزرقاء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ساقط الثلوج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فتح الازهار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649600" y="1967040"/>
            <a:ext cx="3779640" cy="254160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147636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22594" y="10800"/>
                </a:lnTo>
                <a:lnTo>
                  <a:pt x="85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627280" y="2200320"/>
            <a:ext cx="3321000" cy="244944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ممتاز – انا غير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3854520" cy="266364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1476360" y="58770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6738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أحد ميزات فصل الربيع وأجملها هو ظارة تفتح الازهار ، فبعد ان مضى فصل الشتاء بحلته العابسه وامطاره الغزيره ورياحه وعواصفه المخيفه أقبل فصل الربيع ليعوضنا عن كل تلك ، ففيه الازهار المزينه بحلتها الرائعه وألوانها الزهيه والنضره ، ففي فصل الربيع تزهر ازهارا خاصه لا تزهر في باقي الفصول كزهرة شقائق النعمان .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16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ما اسم الزهرة التالية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1</a:t>
            </a: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الصفير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شقائق النعمان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الجوري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06400" y="2317680"/>
            <a:ext cx="2894040" cy="24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6:58:47Z</dcterms:created>
  <dc:creator>student</dc:creator>
  <dc:description/>
  <dc:language>en-US</dc:language>
  <cp:lastModifiedBy>abdallah</cp:lastModifiedBy>
  <dcterms:modified xsi:type="dcterms:W3CDTF">2018-02-12T14:34:59Z</dcterms:modified>
  <cp:revision>5</cp:revision>
  <dc:subject/>
  <dc:title>ظواهر فصل الربيع </dc:title>
</cp:coreProperties>
</file>