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applause.wav" ContentType="audio/x-wav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24C2-60F1-45B7-9C07-193A9532A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08BE-C1F5-43C7-BEE9-90F72B9E1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D291-181F-45CD-BD88-36E320193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95D9-C441-4136-91CA-C88D110E0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8659D-AF2F-43EE-B9E0-47FE33BDB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3089C-D04F-48F8-9C22-7CDB1E1B6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D752B-2572-495D-94A9-F6A8B71FD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CBAE2-1653-46C5-A271-4154C8EFE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B4F8E-7FFC-45C6-8050-E1E62C678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196B8-B876-4A73-A2FD-42A1D7EC1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7D18A-0C5A-4B0C-99F4-E112DD2B8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096B-F953-428B-BA8F-C38DAF70C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D37CD-5D62-4698-A8D4-EDA878A40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C76E3-B0E8-401D-A471-258874013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EF730-1DE9-4E4C-A6AA-034F0E56D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998EE-7CD9-4007-BB8A-61F4A2C38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43309-4F93-4BCF-9786-EF0F2F709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DDF6-176F-466B-B549-C0AED29DD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65FC-0AD3-45C2-B917-3897F017C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0039-4C6E-4785-872A-023DF4E27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8F44-3D66-4C3F-ACF2-7970BAA97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A597-F376-472B-AF40-99022EA9E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F1AE-71F9-421A-93C7-ADA468CD3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4FFA-1BE0-41BD-946B-13A70E056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56E60-4DD4-41EE-9807-28F455B942D4}" type="slidenum"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5D9FD-C58D-42B3-B18D-04CBFB8CA530}" type="slidenum"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 rtl="1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 rtl="1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 rtl="1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.il/imgres?imgurl=http://www.yardbirds.org.il/album/album-3/sm_DSCN4663.jpg&amp;imgrefurl=http://www.yardbirds.org.il/album/album-3/album-3.htm&amp;h=375&amp;w=500&amp;sz=57&amp;tbnid=6Ow1K6Lotj4J:&amp;tbnh=95&amp;tbnw=127&amp;start=31&amp;prev=/images%3Fq%3D%25D7%25A1%25D7%25A0%25D7%2595%25D7%25A0%25D7%2599%25D7%25AA%26start%3D20%26hl%3Diw%26lr%3D%26sa%3DN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533520" y="1371600"/>
            <a:ext cx="769608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omic Sans MS"/>
              </a:rPr>
              <a:t>موقع كلمات وعبارات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ww</a:t>
            </a:r>
            <a:r>
              <a:rPr b="0" lang="he-IL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alimat1</a:t>
            </a:r>
            <a:r>
              <a:rPr b="0" lang="he-IL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ar-SY" sz="4400" spc="-1" strike="noStrike">
                <a:solidFill>
                  <a:srgbClr val="00b200"/>
                </a:solidFill>
                <a:latin typeface="Comic Sans MS"/>
              </a:rPr>
              <a:t>ممتاز – تابع الى السؤال التالي</a:t>
            </a:r>
            <a:r>
              <a:rPr b="0" lang="ar-SY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>
            <a:hlinkClick r:id="" action="ppaction://hlinkshowjump?jump=nextslide"/>
          </p:cNvPr>
          <p:cNvSpPr/>
          <p:nvPr/>
        </p:nvSpPr>
        <p:spPr>
          <a:xfrm>
            <a:off x="1403280" y="5877000"/>
            <a:ext cx="1079640" cy="792000"/>
          </a:xfrm>
          <a:custGeom>
            <a:avLst/>
            <a:gdLst>
              <a:gd name="textAreaLeft" fmla="*/ 51120 w 1079640"/>
              <a:gd name="textAreaRight" fmla="*/ 1028520 w 107964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9441" h="21600">
                <a:moveTo>
                  <a:pt x="0" y="0"/>
                </a:moveTo>
                <a:lnTo>
                  <a:pt x="29441" y="0"/>
                </a:lnTo>
                <a:lnTo>
                  <a:pt x="29441" y="21600"/>
                </a:lnTo>
                <a:lnTo>
                  <a:pt x="0" y="21600"/>
                </a:lnTo>
                <a:close/>
              </a:path>
              <a:path fill="lightenLess" w="29441" h="21600">
                <a:moveTo>
                  <a:pt x="0" y="0"/>
                </a:moveTo>
                <a:lnTo>
                  <a:pt x="29441" y="0"/>
                </a:lnTo>
                <a:lnTo>
                  <a:pt x="28041" y="1400"/>
                </a:lnTo>
                <a:lnTo>
                  <a:pt x="1400" y="1400"/>
                </a:lnTo>
                <a:close/>
              </a:path>
              <a:path fill="darken" w="29441" h="21600">
                <a:moveTo>
                  <a:pt x="29441" y="0"/>
                </a:moveTo>
                <a:lnTo>
                  <a:pt x="29441" y="21600"/>
                </a:lnTo>
                <a:lnTo>
                  <a:pt x="28041" y="20200"/>
                </a:lnTo>
                <a:lnTo>
                  <a:pt x="28041" y="1400"/>
                </a:lnTo>
                <a:close/>
              </a:path>
              <a:path fill="darkenLess" w="29441" h="21600">
                <a:moveTo>
                  <a:pt x="29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41" y="20200"/>
                </a:lnTo>
                <a:close/>
              </a:path>
              <a:path fill="lighten" w="29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41" h="21600">
                <a:moveTo>
                  <a:pt x="7714" y="10800"/>
                </a:moveTo>
                <a:lnTo>
                  <a:pt x="21727" y="3794"/>
                </a:lnTo>
                <a:lnTo>
                  <a:pt x="21727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771640" y="2492280"/>
            <a:ext cx="3149640" cy="269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00b200"/>
                </a:solidFill>
                <a:latin typeface="Comic Sans MS"/>
              </a:rPr>
              <a:t>هجرة الطيور</a:t>
            </a:r>
            <a:r>
              <a:rPr b="0" lang="ar-SY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هجرة الطيور ليست ميزه خاصه بفصل الربيع ولكننا نلاحظها اكثر في هذا الفصل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تهاجر الطيور مواطنها او تعود اليها لعدة اسباب منها 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* كثرة الغذاء والحبوب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* التبشير بتغيير المواسم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ar-SY" sz="4000" spc="-1" strike="noStrike">
                <a:solidFill>
                  <a:srgbClr val="00b200"/>
                </a:solidFill>
                <a:latin typeface="Comic Sans MS"/>
              </a:rPr>
              <a:t>هجرة الطيور</a:t>
            </a:r>
            <a:r>
              <a:rPr b="0" lang="ar-SY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-1189080" y="1557360"/>
            <a:ext cx="96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هجرة الطيور ترمز الى 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- تغير في حالة الطقس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- جفاف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- قحل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47640" y="2276640"/>
            <a:ext cx="2808360" cy="25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ar-SY" sz="4400" spc="-1" strike="noStrike">
                <a:solidFill>
                  <a:srgbClr val="00b200"/>
                </a:solidFill>
                <a:latin typeface="Comic Sans MS"/>
              </a:rPr>
              <a:t>خطأ – حاول مره اخر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>
            <a:hlinkClick r:id="" action="ppaction://hlinkshowjump?jump=previousslide"/>
          </p:cNvPr>
          <p:cNvSpPr/>
          <p:nvPr/>
        </p:nvSpPr>
        <p:spPr>
          <a:xfrm>
            <a:off x="1547640" y="5877000"/>
            <a:ext cx="1008360" cy="792000"/>
          </a:xfrm>
          <a:custGeom>
            <a:avLst/>
            <a:gdLst>
              <a:gd name="textAreaLeft" fmla="*/ 51120 w 1008360"/>
              <a:gd name="textAreaRight" fmla="*/ 957240 w 1008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6743" y="3794"/>
                </a:moveTo>
                <a:lnTo>
                  <a:pt x="20756" y="10800"/>
                </a:lnTo>
                <a:lnTo>
                  <a:pt x="6743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700360" y="2708280"/>
            <a:ext cx="3166920" cy="27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i="1" lang="ar-SY" sz="4400" spc="-1" strike="noStrike">
                <a:solidFill>
                  <a:srgbClr val="00b200"/>
                </a:solidFill>
                <a:latin typeface="Comic Sans MS"/>
              </a:rPr>
              <a:t>كل الاحترام </a:t>
            </a:r>
            <a:br>
              <a:rPr sz="4400"/>
            </a:br>
            <a:r>
              <a:rPr b="1" i="1" lang="ar-SY" sz="4400" spc="-1" strike="noStrike">
                <a:solidFill>
                  <a:srgbClr val="00b200"/>
                </a:solidFill>
                <a:latin typeface="Comic Sans MS"/>
              </a:rPr>
              <a:t>لقد اجبت جيداً على جميع الاسئلة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>
            <a:hlinkClick r:id="" action="ppaction://hlinkshowjump?jump=nextslide"/>
          </p:cNvPr>
          <p:cNvSpPr/>
          <p:nvPr/>
        </p:nvSpPr>
        <p:spPr>
          <a:xfrm>
            <a:off x="1547640" y="5950080"/>
            <a:ext cx="938520" cy="720720"/>
          </a:xfrm>
          <a:custGeom>
            <a:avLst/>
            <a:gdLst>
              <a:gd name="textAreaLeft" fmla="*/ 46440 w 938520"/>
              <a:gd name="textAreaRight" fmla="*/ 892080 w 9385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8124" h="21600">
                <a:moveTo>
                  <a:pt x="0" y="0"/>
                </a:moveTo>
                <a:lnTo>
                  <a:pt x="28124" y="0"/>
                </a:lnTo>
                <a:lnTo>
                  <a:pt x="28124" y="21600"/>
                </a:lnTo>
                <a:lnTo>
                  <a:pt x="0" y="21600"/>
                </a:lnTo>
                <a:close/>
              </a:path>
              <a:path fill="lightenLess" w="28124" h="21600">
                <a:moveTo>
                  <a:pt x="0" y="0"/>
                </a:moveTo>
                <a:lnTo>
                  <a:pt x="28124" y="0"/>
                </a:lnTo>
                <a:lnTo>
                  <a:pt x="26724" y="1400"/>
                </a:lnTo>
                <a:lnTo>
                  <a:pt x="1400" y="1400"/>
                </a:lnTo>
                <a:close/>
              </a:path>
              <a:path fill="darken" w="28124" h="21600">
                <a:moveTo>
                  <a:pt x="28124" y="0"/>
                </a:moveTo>
                <a:lnTo>
                  <a:pt x="28124" y="21600"/>
                </a:lnTo>
                <a:lnTo>
                  <a:pt x="26724" y="20200"/>
                </a:lnTo>
                <a:lnTo>
                  <a:pt x="26724" y="1400"/>
                </a:lnTo>
                <a:close/>
              </a:path>
              <a:path fill="darkenLess" w="28124" h="21600">
                <a:moveTo>
                  <a:pt x="281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24" y="20200"/>
                </a:lnTo>
                <a:close/>
              </a:path>
              <a:path fill="lighten" w="281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124" h="21600">
                <a:moveTo>
                  <a:pt x="7056" y="10800"/>
                </a:moveTo>
                <a:lnTo>
                  <a:pt x="21069" y="3794"/>
                </a:lnTo>
                <a:lnTo>
                  <a:pt x="21069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916360" y="2637000"/>
            <a:ext cx="2879640" cy="25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40072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440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4800" spc="-1" strike="noStrike">
                <a:solidFill>
                  <a:srgbClr val="00b200"/>
                </a:solidFill>
                <a:latin typeface="Comic Sans MS"/>
              </a:rPr>
              <a:t>ظواهر فصل الربيع</a:t>
            </a:r>
            <a:r>
              <a:rPr b="0" lang="ar-SY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1773000"/>
            <a:ext cx="6400800" cy="38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703dff"/>
                </a:solidFill>
                <a:latin typeface="Comic Sans MS"/>
              </a:rPr>
              <a:t>فصل الربيع يعتبر من اجمل الفصول ، فيه</a:t>
            </a:r>
            <a:r>
              <a:rPr b="1" lang="ar-SY" sz="32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ar-SY" sz="3200" spc="-1" strike="noStrike">
                <a:solidFill>
                  <a:srgbClr val="703d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الطقس يكون معتدلا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السماء تكون صافي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تتفتح اوراق الاشجا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تتفتح الازها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ينمو العشب الاخض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تزهر الاشجار</a:t>
            </a:r>
            <a:r>
              <a:rPr b="0" lang="ar-SY" sz="24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936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ظواهر فصل الربيع</a:t>
            </a:r>
            <a:r>
              <a:rPr b="0" lang="ar-SY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1484280"/>
            <a:ext cx="64008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Comic Sans MS"/>
              </a:rPr>
              <a:t>اي من التالي غير تابع لفصل الربيع ، اضغط على الاجابه الخاطئه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1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في فصل الربيع السماء صافيه وزرقاء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2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في فصل الربيع تتساقط الثلوج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3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في فصل الربيع تتفتح الازهار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خطأ – انا تابع لفصل الربيع</a:t>
            </a:r>
            <a:r>
              <a:rPr b="0" lang="ar-SY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649600" y="1967040"/>
            <a:ext cx="3779640" cy="2541600"/>
          </a:xfrm>
          <a:prstGeom prst="rect">
            <a:avLst/>
          </a:prstGeom>
          <a:ln w="0">
            <a:noFill/>
          </a:ln>
        </p:spPr>
      </p:pic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1476360" y="5950080"/>
            <a:ext cx="934920" cy="647640"/>
          </a:xfrm>
          <a:custGeom>
            <a:avLst/>
            <a:gdLst>
              <a:gd name="textAreaLeft" fmla="*/ 41760 w 934920"/>
              <a:gd name="textAreaRight" fmla="*/ 893160 w 934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1176" h="21600">
                <a:moveTo>
                  <a:pt x="0" y="0"/>
                </a:moveTo>
                <a:lnTo>
                  <a:pt x="31176" y="0"/>
                </a:lnTo>
                <a:lnTo>
                  <a:pt x="31176" y="21600"/>
                </a:lnTo>
                <a:lnTo>
                  <a:pt x="0" y="21600"/>
                </a:lnTo>
                <a:close/>
              </a:path>
              <a:path fill="lightenLess" w="31176" h="21600">
                <a:moveTo>
                  <a:pt x="0" y="0"/>
                </a:moveTo>
                <a:lnTo>
                  <a:pt x="31176" y="0"/>
                </a:lnTo>
                <a:lnTo>
                  <a:pt x="29776" y="1400"/>
                </a:lnTo>
                <a:lnTo>
                  <a:pt x="1400" y="1400"/>
                </a:lnTo>
                <a:close/>
              </a:path>
              <a:path fill="darken" w="31176" h="21600">
                <a:moveTo>
                  <a:pt x="31176" y="0"/>
                </a:moveTo>
                <a:lnTo>
                  <a:pt x="31176" y="21600"/>
                </a:lnTo>
                <a:lnTo>
                  <a:pt x="29776" y="20200"/>
                </a:lnTo>
                <a:lnTo>
                  <a:pt x="29776" y="1400"/>
                </a:lnTo>
                <a:close/>
              </a:path>
              <a:path fill="darkenLess" w="31176" h="21600">
                <a:moveTo>
                  <a:pt x="31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76" y="20200"/>
                </a:lnTo>
                <a:close/>
              </a:path>
              <a:path fill="lighten" w="31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76" h="21600">
                <a:moveTo>
                  <a:pt x="8582" y="3794"/>
                </a:moveTo>
                <a:lnTo>
                  <a:pt x="22594" y="10800"/>
                </a:lnTo>
                <a:lnTo>
                  <a:pt x="8582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خطأ – انا تابع لفصل الربيع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627280" y="2200320"/>
            <a:ext cx="3321000" cy="2449440"/>
          </a:xfrm>
          <a:prstGeom prst="rect">
            <a:avLst/>
          </a:prstGeom>
          <a:ln w="0">
            <a:noFill/>
          </a:ln>
        </p:spPr>
      </p:pic>
      <p:sp>
        <p:nvSpPr>
          <p:cNvPr id="161" name="">
            <a:hlinkClick r:id="" action="ppaction://hlinkshowjump?jump=previousslide"/>
          </p:cNvPr>
          <p:cNvSpPr/>
          <p:nvPr/>
        </p:nvSpPr>
        <p:spPr>
          <a:xfrm>
            <a:off x="1547640" y="5877000"/>
            <a:ext cx="1008360" cy="792000"/>
          </a:xfrm>
          <a:custGeom>
            <a:avLst/>
            <a:gdLst>
              <a:gd name="textAreaLeft" fmla="*/ 51120 w 1008360"/>
              <a:gd name="textAreaRight" fmla="*/ 957240 w 1008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6743" y="3794"/>
                </a:moveTo>
                <a:lnTo>
                  <a:pt x="20756" y="10800"/>
                </a:lnTo>
                <a:lnTo>
                  <a:pt x="6743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ممتاز – انا غير تابع لفصل الربيع</a:t>
            </a:r>
            <a:r>
              <a:rPr b="0" lang="ar-SY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484360" y="2060640"/>
            <a:ext cx="3854520" cy="2663640"/>
          </a:xfrm>
          <a:prstGeom prst="rect">
            <a:avLst/>
          </a:prstGeom>
          <a:ln w="0">
            <a:noFill/>
          </a:ln>
        </p:spPr>
      </p:pic>
      <p:sp>
        <p:nvSpPr>
          <p:cNvPr id="164" name="">
            <a:hlinkClick r:id="" action="ppaction://hlinkshowjump?jump=nextslide"/>
          </p:cNvPr>
          <p:cNvSpPr/>
          <p:nvPr/>
        </p:nvSpPr>
        <p:spPr>
          <a:xfrm>
            <a:off x="1476360" y="5877000"/>
            <a:ext cx="1008000" cy="792000"/>
          </a:xfrm>
          <a:custGeom>
            <a:avLst/>
            <a:gdLst>
              <a:gd name="textAreaLeft" fmla="*/ 51120 w 1008000"/>
              <a:gd name="textAreaRight" fmla="*/ 956880 w 10080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88" h="21600">
                <a:moveTo>
                  <a:pt x="0" y="0"/>
                </a:moveTo>
                <a:lnTo>
                  <a:pt x="27488" y="0"/>
                </a:lnTo>
                <a:lnTo>
                  <a:pt x="27488" y="21600"/>
                </a:lnTo>
                <a:lnTo>
                  <a:pt x="0" y="21600"/>
                </a:lnTo>
                <a:close/>
              </a:path>
              <a:path fill="lightenLess" w="27488" h="21600">
                <a:moveTo>
                  <a:pt x="0" y="0"/>
                </a:moveTo>
                <a:lnTo>
                  <a:pt x="27488" y="0"/>
                </a:lnTo>
                <a:lnTo>
                  <a:pt x="26088" y="1400"/>
                </a:lnTo>
                <a:lnTo>
                  <a:pt x="1400" y="1400"/>
                </a:lnTo>
                <a:close/>
              </a:path>
              <a:path fill="darken" w="27488" h="21600">
                <a:moveTo>
                  <a:pt x="27488" y="0"/>
                </a:moveTo>
                <a:lnTo>
                  <a:pt x="27488" y="21600"/>
                </a:lnTo>
                <a:lnTo>
                  <a:pt x="26088" y="20200"/>
                </a:lnTo>
                <a:lnTo>
                  <a:pt x="26088" y="1400"/>
                </a:lnTo>
                <a:close/>
              </a:path>
              <a:path fill="darkenLess" w="27488" h="21600">
                <a:moveTo>
                  <a:pt x="274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88" y="20200"/>
                </a:lnTo>
                <a:close/>
              </a:path>
              <a:path fill="lighten" w="274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88" h="21600">
                <a:moveTo>
                  <a:pt x="6738" y="10800"/>
                </a:moveTo>
                <a:lnTo>
                  <a:pt x="20751" y="3794"/>
                </a:lnTo>
                <a:lnTo>
                  <a:pt x="20751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00b200"/>
                </a:solidFill>
                <a:latin typeface="Comic Sans MS"/>
              </a:rPr>
              <a:t>تفتح الازهار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أحد ميزات فصل الربيع وأجملها هو ظارة تفتح الازهار ، فبعد ان مضى فصل الشتاء بحلته العابسه وامطاره الغزيره ورياحه وعواصفه المخيفه أقبل فصل الربيع ليعوضنا عن كل تلك ، ففيه الازهار المزينه بحلتها الرائعه وألوانها الزهيه والنضره ، ففي فصل الربيع تزهر ازهارا خاصه لا تزهر في باقي الفصول كزهرة شقائق النعمان .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ar-SY" sz="4000" spc="-1" strike="noStrike">
                <a:solidFill>
                  <a:srgbClr val="00b200"/>
                </a:solidFill>
                <a:latin typeface="Comic Sans MS"/>
              </a:rPr>
              <a:t>تفتح الازهار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16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ما اسم الزهرة التالية 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703dff"/>
                </a:solidFill>
                <a:latin typeface="Comic Sans MS"/>
              </a:rPr>
              <a:t>1</a:t>
            </a:r>
            <a:r>
              <a:rPr b="0" lang="he-IL" sz="2800" spc="-1" strike="noStrike">
                <a:solidFill>
                  <a:srgbClr val="703dff"/>
                </a:solidFill>
                <a:latin typeface="Comic Sans MS"/>
              </a:rPr>
              <a:t>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الصفير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2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- شقائق النعمان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3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- الجوري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706400" y="2317680"/>
            <a:ext cx="2894040" cy="240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2T16:58:47Z</dcterms:created>
  <dc:creator>student</dc:creator>
  <dc:description/>
  <dc:language>en-US</dc:language>
  <cp:lastModifiedBy>abdallah</cp:lastModifiedBy>
  <dcterms:modified xsi:type="dcterms:W3CDTF">2018-02-12T14:34:59Z</dcterms:modified>
  <cp:revision>5</cp:revision>
  <dc:subject/>
  <dc:title>ظواهر فصل الربيع </dc:title>
</cp:coreProperties>
</file>