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333F-866A-4B95-9C80-F3153443D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B0E6-6217-438D-9F1E-ABB67E10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8A71-2813-458A-A2EA-76992F637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DA02-A9AB-4CE4-A560-14F39A354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DE49-7965-466D-A45B-9EBA32AD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8678-4601-4CE4-B68D-5FF68F38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820A-D488-40AE-ACF8-8897C822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B4C9-4C3B-478A-A799-BBB61CAC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A973-0642-4056-99D3-D1C07883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AA55-CDC4-4B9A-BD47-BF679C9C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D723-4A32-4701-BDC2-023D54B9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A04C-5F7F-4A91-B1A9-4CA8DBDA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61D6-9121-407A-B519-AF904BAD874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9"/>
          <p:cNvSpPr/>
          <p:nvPr/>
        </p:nvSpPr>
        <p:spPr>
          <a:xfrm>
            <a:off x="2071800" y="464328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ounded Rectangle 18"/>
          <p:cNvSpPr/>
          <p:nvPr/>
        </p:nvSpPr>
        <p:spPr>
          <a:xfrm>
            <a:off x="2071800" y="292896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ounded Rectangle 17"/>
          <p:cNvSpPr/>
          <p:nvPr/>
        </p:nvSpPr>
        <p:spPr>
          <a:xfrm>
            <a:off x="3000240" y="1500120"/>
            <a:ext cx="585792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57120" y="4857840"/>
            <a:ext cx="1714680" cy="91908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3"/>
          <p:cNvSpPr/>
          <p:nvPr/>
        </p:nvSpPr>
        <p:spPr>
          <a:xfrm>
            <a:off x="428760" y="3143160"/>
            <a:ext cx="1638000" cy="9954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1"/>
          <p:cNvSpPr/>
          <p:nvPr/>
        </p:nvSpPr>
        <p:spPr>
          <a:xfrm>
            <a:off x="642960" y="1500120"/>
            <a:ext cx="1781280" cy="9270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120" y="344880"/>
            <a:ext cx="807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cs typeface="Tahoma"/>
              </a:rPr>
              <a:t>عزيزي المتعلم, تأمل الأحاديث النبوية الشريفة التالية, ثم استخرج منها مادة كيميائية مذكورة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500200" y="1646640"/>
            <a:ext cx="64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من قال سبحان الله وبحمده في يوم مائة مرة, حطت خطاياه ولو كانت مثل زبد البحر ). رواه مسل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4572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857240" y="3096000"/>
            <a:ext cx="72867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 لا تسبي الحمى فإنـها تذهب خطايا  بني آدم كما يذهب الكير خبث الحديد). صحيح مسلم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.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071720" y="4789080"/>
            <a:ext cx="8072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الحمى من فور جهنم فأبردوها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 عنكم بالماء). صحيح مسل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.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42960" y="171468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500040" y="357192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428760" y="507204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571680"/>
            <a:ext cx="8786880" cy="78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عناصر</a:t>
            </a:r>
            <a:r>
              <a:rPr b="0" lang="ar-SA" sz="2400" spc="-1" strike="noStrike" u="sng">
                <a:solidFill>
                  <a:srgbClr val="403152"/>
                </a:solidFill>
                <a:uFillTx/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مواد غير قابلة للتفكيك إلى مواد أبسط منها بالوسائل الفيزيائية والكيميائية العادي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ويمتاز كل عنصر بخواص تميزه عن غيره من العناصر ، ويبلغ عدد العناصر المعروفة لدى الإنسان في الأرض أكثر من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109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عنصراً تم اكتشافها حتى الآ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مركبات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المواد التي تتألف من اتحاد كيميائي بين عنصرين أو أكث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خليط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: مادة مكونة من اثنين أو أكثر من المركبات أو العناصر توجد بعضها مع بعض بأي نسبة دون أن تتحد كيميائياً ، ويحتفظ كل منها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بخواصه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المميز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 u="sng">
                <a:solidFill>
                  <a:srgbClr val="403152"/>
                </a:solidFill>
                <a:uFillTx/>
                <a:latin typeface="Tahoma"/>
                <a:cs typeface="Tahoma"/>
              </a:rPr>
              <a:t>من أشهر أنواع المخاليط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المحال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2f08"/>
                </a:solidFill>
                <a:uFillTx/>
                <a:latin typeface="Tahoma"/>
                <a:cs typeface="Tahoma"/>
              </a:rPr>
              <a:t>المحلول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خليط من مادتين, إحداهما مذيب والأخرى مذاب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يمكن أن يكون الخليط جامداً مثل خليط من السكر والملح أو سائلاً كالمحاليل المختلفة مثل القهوة والشاي أو غازا مثل الهواء المؤلف في معظمه من الأكسجين والنيتروجي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0" y="571680"/>
            <a:ext cx="8786880" cy="69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** تتبع النشاط العملي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3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 بالكتاب المدرسي للتمييز بين المركب والمخلوط, ثم أكمل الجدول في تدريب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7"/>
          <p:cNvGrpSpPr/>
          <p:nvPr/>
        </p:nvGrpSpPr>
        <p:grpSpPr>
          <a:xfrm>
            <a:off x="141120" y="609480"/>
            <a:ext cx="8843400" cy="5562360"/>
            <a:chOff x="141120" y="609480"/>
            <a:chExt cx="8843400" cy="5562360"/>
          </a:xfrm>
        </p:grpSpPr>
        <p:sp>
          <p:nvSpPr>
            <p:cNvPr id="110" name="Line 4"/>
            <p:cNvSpPr/>
            <p:nvPr/>
          </p:nvSpPr>
          <p:spPr>
            <a:xfrm>
              <a:off x="4394880" y="609480"/>
              <a:ext cx="0" cy="5562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6"/>
            <p:cNvGrpSpPr/>
            <p:nvPr/>
          </p:nvGrpSpPr>
          <p:grpSpPr>
            <a:xfrm>
              <a:off x="141120" y="643680"/>
              <a:ext cx="8843400" cy="5527440"/>
              <a:chOff x="141120" y="643680"/>
              <a:chExt cx="8843400" cy="5527440"/>
            </a:xfrm>
          </p:grpSpPr>
          <p:graphicFrame>
            <p:nvGraphicFramePr>
              <p:cNvPr id="112" name="Object 3"/>
              <p:cNvGraphicFramePr/>
              <p:nvPr/>
            </p:nvGraphicFramePr>
            <p:xfrm>
              <a:off x="145080" y="643680"/>
              <a:ext cx="8835120" cy="5527440"/>
            </p:xfrm>
            <a:graphic>
              <a:graphicData uri="http://schemas.openxmlformats.org/presentationml/2006/ole">
                <p:oleObj progId="Word.Document.12" r:id="rId2" spid="">
                  <p:embed/>
                  <p:pic>
                    <p:nvPicPr>
                      <p:cNvPr id="113" name="Object 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45080" y="643680"/>
                        <a:ext cx="8835120" cy="5527440"/>
                      </a:xfrm>
                      <a:prstGeom prst="rect">
                        <a:avLst/>
                      </a:prstGeom>
                      <a:ln w="9360">
                        <a:solidFill>
                          <a:srgbClr val="99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14" name="Line 5"/>
              <p:cNvSpPr/>
              <p:nvPr/>
            </p:nvSpPr>
            <p:spPr>
              <a:xfrm>
                <a:off x="141120" y="1645560"/>
                <a:ext cx="884340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Text Box 8"/>
          <p:cNvSpPr/>
          <p:nvPr/>
        </p:nvSpPr>
        <p:spPr>
          <a:xfrm>
            <a:off x="4419720" y="1676520"/>
            <a:ext cx="44956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أن توجد مكوناته ب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مختلف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يوجد اتحاد كيميائي بين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تفقد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خواصها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فصلها بالوسائل الفيز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04920" y="175248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مكونات المركب 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ثابت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وجد دليل على حصول اتحاد كيميائي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تختلف خواص المركب عن خواص مكوناته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فصل بالوسائل الكيم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0" y="357120"/>
            <a:ext cx="885816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32423"/>
                </a:solidFill>
                <a:uFillTx/>
                <a:latin typeface="Times New Roman"/>
                <a:cs typeface="Times New Roman"/>
              </a:rPr>
              <a:t>رابعاً: التقو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صمّم خريطة مفاهيم توضح ما يلي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                         أشكال المادة – تعريفها – أمثلة عليه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اختار الإجابة الصحيحة فيما يأت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قدرتنا على استخلاص الأكسجين خلال عملية التنفس, دلالة على أن الهواء الجو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أ-  مركب        ب-  خليط           ج-  عنصر      د-  الإجابتان أ و 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جميع ما يأتي من أمثلة المخاليط:, في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Calibri"/>
              </a:rPr>
              <a:t>ما عدا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</a:rPr>
              <a:t>   أ-  سبائك الذهب      ب-  صدأ الحديد          ج-  القهوة         د-  الشا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928800" y="96840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32423"/>
                </a:solidFill>
                <a:uFillTx/>
                <a:latin typeface="Arial"/>
                <a:cs typeface="Times New Roman"/>
              </a:rPr>
              <a:t>خامساً: التوسّع والإثر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14200" y="1378800"/>
            <a:ext cx="8731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ابحث في الانترنت أو الكتب عن الموضوع التالي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في الآيات الواردة في سورة الكهف والتي تتحدث عن قصة ذي القرنين مع يأجوج ومأجوج ذُكرت مادتين,  أذكريهما وحددي أنواعهما واستعمالاتهم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214200" y="-776520"/>
            <a:ext cx="8929800" cy="86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03152"/>
                </a:solidFill>
                <a:latin typeface="Arial"/>
                <a:cs typeface="FS_Free"/>
              </a:rPr>
              <a:t>م</a:t>
            </a:r>
            <a:r>
              <a:rPr b="1" lang="ar-SA" sz="3600" spc="-1" strike="noStrike" u="sng">
                <a:solidFill>
                  <a:srgbClr val="17365d"/>
                </a:solidFill>
                <a:uFillTx/>
                <a:latin typeface="Arial"/>
                <a:cs typeface="FS_Free"/>
              </a:rPr>
              <a:t>ن خلال ما سبق, هل يمكننا أن نتساءل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هل لهذه المواد نفس الصفات الظاهرية (الملمس, الرائحة, اللون, .....)؟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برأيك, لماذا تختلف المواد عن بعضها؟ 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هل لإختلاف أشكالها علاقة بإختلاف تركيب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6"/>
          <p:cNvSpPr/>
          <p:nvPr/>
        </p:nvSpPr>
        <p:spPr>
          <a:xfrm>
            <a:off x="5429160" y="2286000"/>
            <a:ext cx="214308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1500120" y="2286000"/>
            <a:ext cx="2143080" cy="64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357120" y="357120"/>
            <a:ext cx="83581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18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3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/ 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أنظر إلى الكؤوس الثلاث أمامك, سمّي هذه الوحدات التي في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4</a:t>
            </a:r>
            <a:r>
              <a:rPr b="0" lang="ar-SA" sz="2000" spc="-1" strike="noStrike">
                <a:solidFill>
                  <a:srgbClr val="403152"/>
                </a:solidFill>
                <a:latin typeface="Tahoma"/>
                <a:ea typeface="Tahoma"/>
              </a:rPr>
              <a:t>/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حاول أن تربط علاقة بين هذه الوحدات وبين المواد الموجودة أمام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28760" y="2124720"/>
            <a:ext cx="814392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ea typeface="Tahoma"/>
              </a:rPr>
              <a:t>                  اسم الوحدة                                    اسم  الماد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ahoma"/>
              </a:rPr>
              <a:t>                        ...............................                                  ............................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.......................                                           ...............................                                   ...............................                                            ...............................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57120" y="433512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/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توقع كم شكلاً للمادة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......................................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8"/>
          <p:cNvSpPr txBox="1"/>
          <p:nvPr/>
        </p:nvSpPr>
        <p:spPr>
          <a:xfrm>
            <a:off x="990720" y="76320"/>
            <a:ext cx="76197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+mn-cs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+mn-cs"/>
              <a:ea typeface="+mn-c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14200" y="2714760"/>
            <a:ext cx="821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604a7b"/>
                </a:solidFill>
                <a:latin typeface="Andalus"/>
                <a:cs typeface="Andalus"/>
              </a:rPr>
              <a:t>أشكال المادة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533520" y="1000080"/>
            <a:ext cx="83055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كون المادة من وحدات متناهية في الصغر تسمى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ذا اتحدت الذرات فإنها تكوّن جزيئ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أن تكون الجزيئات متشابهة الذرات, كما يمكن أن تكون مختلفة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285920" y="304920"/>
            <a:ext cx="671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0000"/>
                </a:solidFill>
                <a:uFillTx/>
                <a:latin typeface="Andalus"/>
                <a:cs typeface="Andalus"/>
              </a:rPr>
              <a:t>مكونات المادة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9"/>
          <p:cNvGrpSpPr/>
          <p:nvPr/>
        </p:nvGrpSpPr>
        <p:grpSpPr>
          <a:xfrm>
            <a:off x="642960" y="2000160"/>
            <a:ext cx="3352680" cy="1713960"/>
            <a:chOff x="642960" y="2000160"/>
            <a:chExt cx="3352680" cy="1713960"/>
          </a:xfrm>
        </p:grpSpPr>
        <p:pic>
          <p:nvPicPr>
            <p:cNvPr id="69" name="Picture 13" descr="الجزيئ "/>
            <p:cNvPicPr/>
            <p:nvPr/>
          </p:nvPicPr>
          <p:blipFill>
            <a:blip r:embed="rId2"/>
            <a:srcRect l="51902" t="21128" r="21315" b="71237"/>
            <a:stretch/>
          </p:blipFill>
          <p:spPr>
            <a:xfrm>
              <a:off x="1176120" y="2000160"/>
              <a:ext cx="2286000" cy="981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0" name="Text Box 16"/>
            <p:cNvSpPr/>
            <p:nvPr/>
          </p:nvSpPr>
          <p:spPr>
            <a:xfrm>
              <a:off x="642960" y="307152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 يمثل ذرة هيدروجين وذرة أكسجين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4286160" y="4500720"/>
            <a:ext cx="3809880" cy="2296440"/>
            <a:chOff x="4286160" y="4500720"/>
            <a:chExt cx="3809880" cy="2296440"/>
          </a:xfrm>
        </p:grpSpPr>
        <p:pic>
          <p:nvPicPr>
            <p:cNvPr id="72" name="Picture 15" descr="الجزيئ "/>
            <p:cNvPicPr/>
            <p:nvPr/>
          </p:nvPicPr>
          <p:blipFill>
            <a:blip r:embed="rId3"/>
            <a:srcRect l="50662" t="38099" r="20379" b="48285"/>
            <a:stretch/>
          </p:blipFill>
          <p:spPr>
            <a:xfrm>
              <a:off x="4895640" y="4500720"/>
              <a:ext cx="2743200" cy="15818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3" name="Text Box 16"/>
            <p:cNvSpPr/>
            <p:nvPr/>
          </p:nvSpPr>
          <p:spPr>
            <a:xfrm>
              <a:off x="4286160" y="6154560"/>
              <a:ext cx="38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لكل من جزيء هيدروجين وجزيء أكسجين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20"/>
          <p:cNvGrpSpPr/>
          <p:nvPr/>
        </p:nvGrpSpPr>
        <p:grpSpPr>
          <a:xfrm>
            <a:off x="1143000" y="4357800"/>
            <a:ext cx="2971800" cy="2009520"/>
            <a:chOff x="1143000" y="4357800"/>
            <a:chExt cx="2971800" cy="2009520"/>
          </a:xfrm>
        </p:grpSpPr>
        <p:pic>
          <p:nvPicPr>
            <p:cNvPr id="75" name="Picture 13" descr="الجزيئ "/>
            <p:cNvPicPr/>
            <p:nvPr/>
          </p:nvPicPr>
          <p:blipFill>
            <a:blip r:embed="rId4"/>
            <a:srcRect l="14291" t="19947" r="61210" b="60323"/>
            <a:stretch/>
          </p:blipFill>
          <p:spPr>
            <a:xfrm>
              <a:off x="1295280" y="4357800"/>
              <a:ext cx="2743200" cy="1641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6" name="Text Box 14"/>
            <p:cNvSpPr/>
            <p:nvPr/>
          </p:nvSpPr>
          <p:spPr>
            <a:xfrm>
              <a:off x="1143000" y="599904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لجزيء الماء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400"/>
                            </p:stCondLst>
                            <p:childTnLst>
                              <p:par>
                                <p:cTn id="2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90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94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28600" y="12952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ا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: هي أصغر جزء من العنصر يمكن أن يدخل في التفاعلات الكيميائية دون أن ينقس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000240" y="38088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ـــــذرة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ndalu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857240" y="271476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جزيء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4200" y="364320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/ هو الجزء المتناهي في الصغر من المادة والذي يحتفظ بالخواص الطبيعية لتلك المادة</a:t>
            </a:r>
            <a:r>
              <a:rPr b="0" lang="en-US" sz="3200" spc="-1" strike="noStrike">
                <a:solidFill>
                  <a:srgbClr val="262626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75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533520"/>
            <a:ext cx="9144000" cy="75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تشابهت الذرات أو الجزيئات فإنها تكوّن </a:t>
            </a:r>
            <a:r>
              <a:rPr b="0" lang="ar-SA" sz="3600" spc="-1" strike="noStrike">
                <a:solidFill>
                  <a:srgbClr val="cc0099"/>
                </a:solidFill>
                <a:latin typeface="Calibri"/>
                <a:cs typeface="Times New Roman"/>
              </a:rPr>
              <a:t>العناصر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اختلفت الذرات فإنها يمكن أن تكوّن </a:t>
            </a:r>
            <a:r>
              <a:rPr b="0" lang="ar-SA" sz="3600" spc="-1" strike="noStrike" u="sng">
                <a:solidFill>
                  <a:srgbClr val="006600"/>
                </a:solidFill>
                <a:uFillTx/>
                <a:latin typeface="Calibri"/>
                <a:cs typeface="Times New Roman"/>
              </a:rPr>
              <a:t>نوعين من المواد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         </a:t>
            </a:r>
            <a:r>
              <a:rPr b="0" lang="ar-SA" sz="3200" spc="-1" strike="noStrike">
                <a:solidFill>
                  <a:srgbClr val="cc0099"/>
                </a:solidFill>
                <a:latin typeface="Calibri"/>
                <a:ea typeface="Times New Roman"/>
              </a:rPr>
              <a:t> المركبات                                     المخالي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cs typeface="Tahoma"/>
              </a:rPr>
              <a:t>ويحدث ذلك عند حدوث تفاعل           ويحدث ذلك إذا امتزجت الذر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كيميائي بين الذرات.                       أو الجزيئات دون اتحاد كيميائ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ight Brace 8"/>
          <p:cNvSpPr/>
          <p:nvPr/>
        </p:nvSpPr>
        <p:spPr>
          <a:xfrm rot="16200000">
            <a:off x="4214520" y="70920"/>
            <a:ext cx="785880" cy="4929120"/>
          </a:xfrm>
          <a:custGeom>
            <a:avLst/>
            <a:gdLst>
              <a:gd name="textAreaLeft" fmla="*/ 0 w 785880"/>
              <a:gd name="textAreaRight" fmla="*/ 283680 w 785880"/>
              <a:gd name="textAreaTop" fmla="*/ 0 h 4929120"/>
              <a:gd name="textAreaBottom" fmla="*/ 4929480 h 492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655"/>
                </a:lnTo>
                <a:cubicBezTo>
                  <a:pt x="10800" y="10655"/>
                  <a:pt x="16200" y="10655"/>
                  <a:pt x="21600" y="10655"/>
                </a:cubicBezTo>
                <a:cubicBezTo>
                  <a:pt x="16200" y="10655"/>
                  <a:pt x="10800" y="10655"/>
                  <a:pt x="10800" y="1065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Down Arrow 9"/>
          <p:cNvSpPr/>
          <p:nvPr/>
        </p:nvSpPr>
        <p:spPr>
          <a:xfrm>
            <a:off x="6858000" y="342900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Down Arrow 10"/>
          <p:cNvSpPr/>
          <p:nvPr/>
        </p:nvSpPr>
        <p:spPr>
          <a:xfrm>
            <a:off x="2071800" y="3429000"/>
            <a:ext cx="428400" cy="7858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7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198108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52480" y="22860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571680" y="2205000"/>
            <a:ext cx="792936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عناصر        المركبات 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  <a:ea typeface="Tahoma"/>
              </a:rPr>
              <a:t>     </a:t>
            </a: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مخالي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3"/>
          <p:cNvGrpSpPr/>
          <p:nvPr/>
        </p:nvGrpSpPr>
        <p:grpSpPr>
          <a:xfrm>
            <a:off x="1857240" y="2857680"/>
            <a:ext cx="6000120" cy="1142640"/>
            <a:chOff x="1857240" y="2857680"/>
            <a:chExt cx="6000120" cy="1142640"/>
          </a:xfrm>
        </p:grpSpPr>
        <p:sp>
          <p:nvSpPr>
            <p:cNvPr id="92" name="Line 7"/>
            <p:cNvSpPr/>
            <p:nvPr/>
          </p:nvSpPr>
          <p:spPr>
            <a:xfrm>
              <a:off x="4771440" y="285768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7714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9"/>
            <p:cNvSpPr/>
            <p:nvPr/>
          </p:nvSpPr>
          <p:spPr>
            <a:xfrm>
              <a:off x="18572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785736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18572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47714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Rectangle 21"/>
          <p:cNvSpPr/>
          <p:nvPr/>
        </p:nvSpPr>
        <p:spPr>
          <a:xfrm>
            <a:off x="2714760" y="1643040"/>
            <a:ext cx="38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Calibri"/>
                <a:cs typeface="Monotype Koufi"/>
              </a:rPr>
              <a:t>أشكال الماد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-21420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143000" y="1600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onotype Kouf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Rectangle 11"/>
          <p:cNvGrpSpPr/>
          <p:nvPr/>
        </p:nvGrpSpPr>
        <p:grpSpPr>
          <a:xfrm>
            <a:off x="596880" y="523800"/>
            <a:ext cx="7950240" cy="6916320"/>
            <a:chOff x="596880" y="523800"/>
            <a:chExt cx="7950240" cy="6916320"/>
          </a:xfrm>
        </p:grpSpPr>
        <p:pic>
          <p:nvPicPr>
            <p:cNvPr id="102" name="Rectangle 11" descr=""/>
            <p:cNvPicPr/>
            <p:nvPr/>
          </p:nvPicPr>
          <p:blipFill>
            <a:blip r:embed="rId2"/>
            <a:stretch/>
          </p:blipFill>
          <p:spPr>
            <a:xfrm>
              <a:off x="596880" y="523800"/>
              <a:ext cx="795024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14240" y="642960"/>
              <a:ext cx="7715520" cy="67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800" spc="-1" strike="noStrike">
                  <a:solidFill>
                    <a:srgbClr val="7030a0"/>
                  </a:solidFill>
                  <a:latin typeface="Microsoft Sans Serif"/>
                  <a:cs typeface="Microsoft Sans Serif"/>
                </a:rPr>
                <a:t>أعط تعريفاً مناسباً لكل من العنصر والمركب والمخلوط.</a:t>
              </a:r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0:40:13Z</dcterms:created>
  <dc:creator>Ahlam</dc:creator>
  <dc:description/>
  <dc:language>en-US</dc:language>
  <cp:lastModifiedBy> 1</cp:lastModifiedBy>
  <dcterms:modified xsi:type="dcterms:W3CDTF">2009-12-13T18:37:28Z</dcterms:modified>
  <cp:revision>114</cp:revision>
  <dc:subject/>
  <dc:title>Slide 1</dc:title>
</cp:coreProperties>
</file>