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7C97-C355-4CF3-B35B-D092B12EF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94E2-B588-46AC-99B2-5E524003D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1594-9AA7-413F-B64F-AC3C1852A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1D1D-9F8E-4B0E-8653-60BC6B634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F0DC-9F05-4A15-8ECB-AC991C683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BF3C-CB5E-424A-B330-68210AEB2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3A74-C2EA-4446-9CA3-0F94E8648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CBC4-429E-433F-95C0-3A3EA88EB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8908-17C1-4ABF-AF5A-7CC7DAD96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B817-BFEA-4A79-B3A9-4F06E73A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5E9E-A78F-4E19-849B-D21CAA96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E0AA-413D-4877-B3E1-B31CE779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9DBDE-0486-4868-87A3-C043AD9277A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19"/>
          <p:cNvSpPr/>
          <p:nvPr/>
        </p:nvSpPr>
        <p:spPr>
          <a:xfrm>
            <a:off x="2071800" y="4643280"/>
            <a:ext cx="707220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ounded Rectangle 18"/>
          <p:cNvSpPr/>
          <p:nvPr/>
        </p:nvSpPr>
        <p:spPr>
          <a:xfrm>
            <a:off x="2071800" y="2928960"/>
            <a:ext cx="707220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ounded Rectangle 17"/>
          <p:cNvSpPr/>
          <p:nvPr/>
        </p:nvSpPr>
        <p:spPr>
          <a:xfrm>
            <a:off x="3000240" y="1500120"/>
            <a:ext cx="585792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Oval 6"/>
          <p:cNvSpPr/>
          <p:nvPr/>
        </p:nvSpPr>
        <p:spPr>
          <a:xfrm>
            <a:off x="357120" y="4857840"/>
            <a:ext cx="1714680" cy="91908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Oval 3"/>
          <p:cNvSpPr/>
          <p:nvPr/>
        </p:nvSpPr>
        <p:spPr>
          <a:xfrm>
            <a:off x="428760" y="3143160"/>
            <a:ext cx="1638000" cy="99540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Oval 1"/>
          <p:cNvSpPr/>
          <p:nvPr/>
        </p:nvSpPr>
        <p:spPr>
          <a:xfrm>
            <a:off x="642960" y="1500120"/>
            <a:ext cx="1781280" cy="92700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357120" y="344880"/>
            <a:ext cx="8072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Tahoma"/>
                <a:cs typeface="Tahoma"/>
              </a:rPr>
              <a:t>عزيزي المتعلم, تأمل الأحاديث النبوية الشريفة التالية, ثم استخرج منها مادة كيميائية مذكورة في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2500200" y="1646640"/>
            <a:ext cx="64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من قال سبحان الله وبحمده في يوم مائة مرة, حطت خطاياه ولو كانت مثل زبد البحر ). رواه مسل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0" y="45720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1857240" y="3096000"/>
            <a:ext cx="72867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 لا تسبي الحمى فإنـها تذهب خطايا  بني آدم كما يذهب الكير خبث الحديد). صحيح مسلم</a:t>
            </a:r>
            <a:r>
              <a:rPr b="1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.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1071720" y="4789080"/>
            <a:ext cx="8072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الحمى من فور جهنم فأبردوها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ea typeface="Tahoma"/>
              </a:rPr>
              <a:t> عنكم بالماء). صحيح مسلم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.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                          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6"/>
          <p:cNvSpPr/>
          <p:nvPr/>
        </p:nvSpPr>
        <p:spPr>
          <a:xfrm>
            <a:off x="642960" y="1714680"/>
            <a:ext cx="22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1"/>
          <p:cNvSpPr/>
          <p:nvPr/>
        </p:nvSpPr>
        <p:spPr>
          <a:xfrm>
            <a:off x="500040" y="3571920"/>
            <a:ext cx="17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3"/>
          <p:cNvSpPr/>
          <p:nvPr/>
        </p:nvSpPr>
        <p:spPr>
          <a:xfrm>
            <a:off x="428760" y="5072040"/>
            <a:ext cx="2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0" y="571680"/>
            <a:ext cx="8786880" cy="78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عناصر</a:t>
            </a:r>
            <a:r>
              <a:rPr b="0" lang="ar-SA" sz="2400" spc="-1" strike="noStrike" u="sng">
                <a:solidFill>
                  <a:srgbClr val="403152"/>
                </a:solidFill>
                <a:uFillTx/>
                <a:latin typeface="Microsoft Sans Serif"/>
                <a:ea typeface="Times New Roman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هي مواد غير قابلة للتفكيك إلى مواد أبسط منها بالوسائل الفيزيائية والكيميائية العادية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ويمتاز كل عنصر بخواص تميزه عن غيره من العناصر ، ويبلغ عدد العناصر المعروفة لدى الإنسان في الأرض أكثر من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109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عنصراً تم اكتشافها حتى الآن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مركبات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Times New Roman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هي المواد التي تتألف من اتحاد كيميائي بين عنصرين أو أكث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خليط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: مادة مكونة من اثنين أو أكثر من المركبات أو العناصر توجد بعضها مع بعض بأي نسبة دون أن تتحد كيميائياً ، ويحتفظ كل منها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بخواصه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المميزة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**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 </a:t>
            </a:r>
            <a:r>
              <a:rPr b="1" lang="ar-SA" sz="2400" spc="-1" strike="noStrike" u="sng">
                <a:solidFill>
                  <a:srgbClr val="403152"/>
                </a:solidFill>
                <a:uFillTx/>
                <a:latin typeface="Tahoma"/>
                <a:cs typeface="Tahoma"/>
              </a:rPr>
              <a:t>من أشهر أنواع المخاليط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: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المحالي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2f08"/>
                </a:solidFill>
                <a:uFillTx/>
                <a:latin typeface="Tahoma"/>
                <a:cs typeface="Tahoma"/>
              </a:rPr>
              <a:t>المحلول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خليط من مادتين, إحداهما مذيب والأخرى مذاب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**يمكن أن يكون الخليط جامداً مثل خليط من السكر والملح أو سائلاً كالمحاليل المختلفة مثل القهوة والشاي أو غازا مثل الهواء المؤلف في معظمه من الأكسجين والنيتروجين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3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0" y="571680"/>
            <a:ext cx="8786880" cy="69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** تتبع النشاط العملي (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2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-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4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) ص 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63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 بالكتاب المدرسي للتمييز بين المركب والمخلوط, ثم أكمل الجدول في تدريب (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2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-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1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) ص 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64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3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4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7"/>
          <p:cNvGrpSpPr/>
          <p:nvPr/>
        </p:nvGrpSpPr>
        <p:grpSpPr>
          <a:xfrm>
            <a:off x="141120" y="609480"/>
            <a:ext cx="8843400" cy="5562360"/>
            <a:chOff x="141120" y="609480"/>
            <a:chExt cx="8843400" cy="5562360"/>
          </a:xfrm>
        </p:grpSpPr>
        <p:sp>
          <p:nvSpPr>
            <p:cNvPr id="110" name="Line 4"/>
            <p:cNvSpPr/>
            <p:nvPr/>
          </p:nvSpPr>
          <p:spPr>
            <a:xfrm>
              <a:off x="4394880" y="609480"/>
              <a:ext cx="0" cy="55623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" name="Group 6"/>
            <p:cNvGrpSpPr/>
            <p:nvPr/>
          </p:nvGrpSpPr>
          <p:grpSpPr>
            <a:xfrm>
              <a:off x="141120" y="643680"/>
              <a:ext cx="8843400" cy="5527440"/>
              <a:chOff x="141120" y="643680"/>
              <a:chExt cx="8843400" cy="5527440"/>
            </a:xfrm>
          </p:grpSpPr>
          <p:graphicFrame>
            <p:nvGraphicFramePr>
              <p:cNvPr id="112" name="Object 3"/>
              <p:cNvGraphicFramePr/>
              <p:nvPr/>
            </p:nvGraphicFramePr>
            <p:xfrm>
              <a:off x="145080" y="643680"/>
              <a:ext cx="8835120" cy="5527440"/>
            </p:xfrm>
            <a:graphic>
              <a:graphicData uri="http://schemas.openxmlformats.org/presentationml/2006/ole">
                <p:oleObj progId="Word.Document.12" r:id="rId2" spid="">
                  <p:embed/>
                  <p:pic>
                    <p:nvPicPr>
                      <p:cNvPr id="113" name="Object 3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45080" y="643680"/>
                        <a:ext cx="8835120" cy="5527440"/>
                      </a:xfrm>
                      <a:prstGeom prst="rect">
                        <a:avLst/>
                      </a:prstGeom>
                      <a:ln w="9360">
                        <a:solidFill>
                          <a:srgbClr val="9900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sp>
            <p:nvSpPr>
              <p:cNvPr id="114" name="Line 5"/>
              <p:cNvSpPr/>
              <p:nvPr/>
            </p:nvSpPr>
            <p:spPr>
              <a:xfrm>
                <a:off x="141120" y="1645560"/>
                <a:ext cx="884340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5" name="Text Box 8"/>
          <p:cNvSpPr/>
          <p:nvPr/>
        </p:nvSpPr>
        <p:spPr>
          <a:xfrm>
            <a:off x="4419720" y="1676520"/>
            <a:ext cx="44956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alibri"/>
                <a:ea typeface="Andalus"/>
              </a:rPr>
              <a:t>1</a:t>
            </a:r>
            <a:r>
              <a:rPr b="0" lang="en-US" sz="1600" spc="-1" strike="noStrike">
                <a:solidFill>
                  <a:srgbClr val="006600"/>
                </a:solidFill>
                <a:latin typeface="Calibri"/>
                <a:ea typeface="Andalu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مكن أن توجد مكوناته بنسب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وزن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مختلف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ا يوجد اتحاد كيميائي بين مكونات الخليط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3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ا تفقد مكونات الخليط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خواصها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4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مكن فصلها بالوسائل الفيزيائ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304920" y="1752480"/>
            <a:ext cx="40384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1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مكونات المركب نسب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وزن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ثابت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وجد دليل على حصول اتحاد كيميائي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3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تختلف خواص المركب عن خواص مكوناته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4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فصل بالوسائل الكيميائ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0" y="357120"/>
            <a:ext cx="8858160" cy="58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632423"/>
                </a:solidFill>
                <a:uFillTx/>
                <a:latin typeface="Times New Roman"/>
                <a:cs typeface="Times New Roman"/>
              </a:rPr>
              <a:t>رابعاً: التقو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262626"/>
                </a:solidFill>
                <a:latin typeface="Tahoma"/>
                <a:ea typeface="Tahoma"/>
              </a:rPr>
              <a:t>/ 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صمّم خريطة مفاهيم توضح ما يلي</a:t>
            </a:r>
            <a:r>
              <a:rPr b="1" lang="ar-SA" sz="2800" spc="-1" strike="noStrike">
                <a:solidFill>
                  <a:srgbClr val="262626"/>
                </a:solidFill>
                <a:latin typeface="Tahoma"/>
                <a:ea typeface="Tahoma"/>
              </a:rPr>
              <a:t>: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                            أشكال المادة – تعريفها – أمثلة عليها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/ 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اختار الإجابة الصحيحة فيما يأت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26262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قدرتنا على استخلاص الأكسجين خلال عملية التنفس, دلالة على أن الهواء الجو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   أ-  مركب        ب-  خليط           ج-  عنصر      د-  الإجابتان أ و 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</a:rPr>
              <a:t>جميع ما يأتي من أمثلة المخاليط:, في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Calibri"/>
              </a:rPr>
              <a:t>ما عدا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62626"/>
                </a:solidFill>
                <a:latin typeface="Calibri"/>
              </a:rPr>
              <a:t>   أ-  سبائك الذهب      ب-  صدأ الحديد          ج-  القهوة         د-  الشا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928800" y="968400"/>
            <a:ext cx="72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632423"/>
                </a:solidFill>
                <a:uFillTx/>
                <a:latin typeface="Arial"/>
                <a:cs typeface="Times New Roman"/>
              </a:rPr>
              <a:t>خامساً: التوسّع والإثرا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14200" y="1378800"/>
            <a:ext cx="873144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Arial"/>
                <a:cs typeface="Times New Roman"/>
              </a:rPr>
              <a:t>ابحث في الانترنت أو الكتب عن الموضوع التالي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في الآيات الواردة في سورة الكهف والتي تتحدث عن قصة ذي القرنين مع يأجوج ومأجوج ذُكرت مادتين,  أذكريهما وحددي أنواعهما واستعمالاتهم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214200" y="-776520"/>
            <a:ext cx="8929800" cy="86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403152"/>
                </a:solidFill>
                <a:latin typeface="Arial"/>
                <a:cs typeface="FS_Free"/>
              </a:rPr>
              <a:t>م</a:t>
            </a:r>
            <a:r>
              <a:rPr b="1" lang="ar-SA" sz="3600" spc="-1" strike="noStrike" u="sng">
                <a:solidFill>
                  <a:srgbClr val="17365d"/>
                </a:solidFill>
                <a:uFillTx/>
                <a:latin typeface="Arial"/>
                <a:cs typeface="FS_Free"/>
              </a:rPr>
              <a:t>ن خلال ما سبق, هل يمكننا أن نتساءل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هل لهذه المواد نفس الصفات الظاهرية (الملمس, الرائحة, اللون, .....)؟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برأيك, لماذا تختلف المواد عن بعضها؟ ..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هل لإختلاف أشكالها علاقة بإختلاف تركيبها؟ 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Oval 6"/>
          <p:cNvSpPr/>
          <p:nvPr/>
        </p:nvSpPr>
        <p:spPr>
          <a:xfrm>
            <a:off x="5429160" y="2286000"/>
            <a:ext cx="214308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6"/>
          <p:cNvSpPr/>
          <p:nvPr/>
        </p:nvSpPr>
        <p:spPr>
          <a:xfrm>
            <a:off x="1500120" y="2286000"/>
            <a:ext cx="2143080" cy="642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1"/>
          <p:cNvSpPr/>
          <p:nvPr/>
        </p:nvSpPr>
        <p:spPr>
          <a:xfrm>
            <a:off x="357120" y="357120"/>
            <a:ext cx="83581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403152"/>
                </a:solidFill>
                <a:latin typeface="Arial"/>
                <a:cs typeface="الشهيد محمد الدره"/>
              </a:rPr>
              <a:t>س</a:t>
            </a:r>
            <a:r>
              <a:rPr b="0" lang="ar-SA" sz="18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3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/ 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أنظر إلى الكؤوس الثلاث أمامك, سمّي هذه الوحدات التي فيها؟ 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Arial"/>
                <a:cs typeface="الشهيد محمد الدره"/>
              </a:rPr>
              <a:t>س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4</a:t>
            </a:r>
            <a:r>
              <a:rPr b="0" lang="ar-SA" sz="2000" spc="-1" strike="noStrike">
                <a:solidFill>
                  <a:srgbClr val="403152"/>
                </a:solidFill>
                <a:latin typeface="Tahoma"/>
                <a:ea typeface="Tahoma"/>
              </a:rPr>
              <a:t>/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حاول أن تربط علاقة بين هذه الوحدات وبين المواد الموجودة أمام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28760" y="2124720"/>
            <a:ext cx="8143920" cy="26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Tahoma"/>
                <a:ea typeface="Tahoma"/>
              </a:rPr>
              <a:t>                  اسم الوحدة                                    اسم  الماد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ahoma"/>
              </a:rPr>
              <a:t>                        ...............................                                  ..............................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..............................                                           ...............................                                   ...............................                                            ...............................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357120" y="4335120"/>
            <a:ext cx="8496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س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/ 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توقع كم شكلاً للمادة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..............................................................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4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WordArt 18"/>
          <p:cNvSpPr txBox="1"/>
          <p:nvPr/>
        </p:nvSpPr>
        <p:spPr>
          <a:xfrm>
            <a:off x="990720" y="76320"/>
            <a:ext cx="761976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+mn-cs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+mn-cs"/>
              <a:ea typeface="+mn-cs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214200" y="2714760"/>
            <a:ext cx="821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604a7b"/>
                </a:solidFill>
                <a:latin typeface="Andalus"/>
                <a:cs typeface="Andalus"/>
              </a:rPr>
              <a:t>أشكال المادة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0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533520" y="1000080"/>
            <a:ext cx="830556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تكون المادة من وحدات متناهية في الصغر تسمى الذر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إذا اتحدت الذرات فإنها تكوّن جزيئ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يمكن أن تكون الجزيئات متشابهة الذرات, كما يمكن أن تكون مختلفة الذر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285920" y="304920"/>
            <a:ext cx="671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 u="sng">
                <a:solidFill>
                  <a:srgbClr val="ff0000"/>
                </a:solidFill>
                <a:uFillTx/>
                <a:latin typeface="Andalus"/>
                <a:cs typeface="Andalus"/>
              </a:rPr>
              <a:t>مكونات المادة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Group 19"/>
          <p:cNvGrpSpPr/>
          <p:nvPr/>
        </p:nvGrpSpPr>
        <p:grpSpPr>
          <a:xfrm>
            <a:off x="642960" y="2000160"/>
            <a:ext cx="3352680" cy="1713960"/>
            <a:chOff x="642960" y="2000160"/>
            <a:chExt cx="3352680" cy="1713960"/>
          </a:xfrm>
        </p:grpSpPr>
        <p:pic>
          <p:nvPicPr>
            <p:cNvPr id="69" name="Picture 13" descr="الجزيئ "/>
            <p:cNvPicPr/>
            <p:nvPr/>
          </p:nvPicPr>
          <p:blipFill>
            <a:blip r:embed="rId2"/>
            <a:srcRect l="51902" t="21128" r="21315" b="71237"/>
            <a:stretch/>
          </p:blipFill>
          <p:spPr>
            <a:xfrm>
              <a:off x="1176120" y="2000160"/>
              <a:ext cx="2286000" cy="9817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0" name="Text Box 16"/>
            <p:cNvSpPr/>
            <p:nvPr/>
          </p:nvSpPr>
          <p:spPr>
            <a:xfrm>
              <a:off x="642960" y="3071520"/>
              <a:ext cx="335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  يمثل ذرة هيدروجين وذرة أكسجين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4286160" y="4500720"/>
            <a:ext cx="3809880" cy="2296440"/>
            <a:chOff x="4286160" y="4500720"/>
            <a:chExt cx="3809880" cy="2296440"/>
          </a:xfrm>
        </p:grpSpPr>
        <p:pic>
          <p:nvPicPr>
            <p:cNvPr id="72" name="Picture 15" descr="الجزيئ "/>
            <p:cNvPicPr/>
            <p:nvPr/>
          </p:nvPicPr>
          <p:blipFill>
            <a:blip r:embed="rId3"/>
            <a:srcRect l="50662" t="38099" r="20379" b="48285"/>
            <a:stretch/>
          </p:blipFill>
          <p:spPr>
            <a:xfrm>
              <a:off x="4895640" y="4500720"/>
              <a:ext cx="2743200" cy="15818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3" name="Text Box 16"/>
            <p:cNvSpPr/>
            <p:nvPr/>
          </p:nvSpPr>
          <p:spPr>
            <a:xfrm>
              <a:off x="4286160" y="6154560"/>
              <a:ext cx="380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لكل من جزيء هيدروجين وجزيء أكسجين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20"/>
          <p:cNvGrpSpPr/>
          <p:nvPr/>
        </p:nvGrpSpPr>
        <p:grpSpPr>
          <a:xfrm>
            <a:off x="1143000" y="4357800"/>
            <a:ext cx="2971800" cy="2009520"/>
            <a:chOff x="1143000" y="4357800"/>
            <a:chExt cx="2971800" cy="2009520"/>
          </a:xfrm>
        </p:grpSpPr>
        <p:pic>
          <p:nvPicPr>
            <p:cNvPr id="75" name="Picture 13" descr="الجزيئ "/>
            <p:cNvPicPr/>
            <p:nvPr/>
          </p:nvPicPr>
          <p:blipFill>
            <a:blip r:embed="rId4"/>
            <a:srcRect l="14291" t="19947" r="61210" b="60323"/>
            <a:stretch/>
          </p:blipFill>
          <p:spPr>
            <a:xfrm>
              <a:off x="1295280" y="4357800"/>
              <a:ext cx="2743200" cy="16412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6" name="Text Box 14"/>
            <p:cNvSpPr/>
            <p:nvPr/>
          </p:nvSpPr>
          <p:spPr>
            <a:xfrm>
              <a:off x="1143000" y="5999040"/>
              <a:ext cx="297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 لجزيء الماء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75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4400"/>
                            </p:stCondLst>
                            <p:childTnLst>
                              <p:par>
                                <p:cTn id="21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6900"/>
                            </p:stCondLst>
                            <p:childTnLst>
                              <p:par>
                                <p:cTn id="25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9400"/>
                            </p:stCondLst>
                            <p:childTnLst>
                              <p:par>
                                <p:cTn id="32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228600" y="129528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تعريفها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: هي أصغر جزء من العنصر يمكن أن يدخل في التفاعلات الكيميائية دون أن ينقس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3000240" y="380880"/>
            <a:ext cx="41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00"/>
                </a:solidFill>
                <a:latin typeface="Andalus"/>
                <a:cs typeface="Andalus"/>
              </a:rPr>
              <a:t>الـــــذرة</a:t>
            </a: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ndalus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857240" y="2714760"/>
            <a:ext cx="535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0000"/>
                </a:solidFill>
                <a:latin typeface="Andalus"/>
                <a:cs typeface="Andalus"/>
              </a:rPr>
              <a:t>الجزيء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214200" y="364320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تعريفه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/ هو الجزء المتناهي في الصغر من المادة والذي يحتفظ بالخواص الطبيعية لتلك المادة</a:t>
            </a:r>
            <a:r>
              <a:rPr b="0" lang="en-US" sz="3200" spc="-1" strike="noStrike">
                <a:solidFill>
                  <a:srgbClr val="262626"/>
                </a:solidFill>
                <a:latin typeface="Tahoma"/>
                <a:ea typeface="Tahoma"/>
              </a:rPr>
              <a:t>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75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750"/>
                            </p:stCondLst>
                            <p:childTnLst>
                              <p:par>
                                <p:cTn id="43" nodeType="afterEffect" fill="hold" presetClass="entr" presetID="15">
                                  <p:stCondLst>
                                    <p:cond delay="200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0" y="533520"/>
            <a:ext cx="9144000" cy="75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Calibri"/>
                <a:cs typeface="Times New Roman"/>
              </a:rPr>
              <a:t>إذا تشابهت الذرات أو الجزيئات فإنها تكوّن </a:t>
            </a:r>
            <a:r>
              <a:rPr b="0" lang="ar-SA" sz="3600" spc="-1" strike="noStrike">
                <a:solidFill>
                  <a:srgbClr val="cc0099"/>
                </a:solidFill>
                <a:latin typeface="Calibri"/>
                <a:cs typeface="Times New Roman"/>
              </a:rPr>
              <a:t>العناصر</a:t>
            </a:r>
            <a:r>
              <a:rPr b="0" lang="ar-SA" sz="3600" spc="-1" strike="noStrike">
                <a:solidFill>
                  <a:srgbClr val="006600"/>
                </a:solidFill>
                <a:latin typeface="Calibri"/>
                <a:ea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Calibri"/>
                <a:cs typeface="Times New Roman"/>
              </a:rPr>
              <a:t>إذا اختلفت الذرات فإنها يمكن أن تكوّن </a:t>
            </a:r>
            <a:r>
              <a:rPr b="0" lang="ar-SA" sz="3600" spc="-1" strike="noStrike" u="sng">
                <a:solidFill>
                  <a:srgbClr val="006600"/>
                </a:solidFill>
                <a:uFillTx/>
                <a:latin typeface="Calibri"/>
                <a:cs typeface="Times New Roman"/>
              </a:rPr>
              <a:t>نوعين من المواد</a:t>
            </a:r>
            <a:r>
              <a:rPr b="0" lang="ar-SA" sz="3600" spc="-1" strike="noStrike">
                <a:solidFill>
                  <a:srgbClr val="006600"/>
                </a:solidFill>
                <a:latin typeface="Calibri"/>
                <a:ea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00"/>
                </a:solidFill>
                <a:latin typeface="Calibri"/>
                <a:ea typeface="Times New Roman"/>
              </a:rPr>
              <a:t>             </a:t>
            </a:r>
            <a:r>
              <a:rPr b="0" lang="ar-SA" sz="3200" spc="-1" strike="noStrike">
                <a:solidFill>
                  <a:srgbClr val="cc0099"/>
                </a:solidFill>
                <a:latin typeface="Calibri"/>
                <a:ea typeface="Times New Roman"/>
              </a:rPr>
              <a:t> المركبات                                     المخالي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cs typeface="Tahoma"/>
              </a:rPr>
              <a:t>ويحدث ذلك عند حدوث تفاعل           ويحدث ذلك إذا امتزجت الذرات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ea typeface="Tahoma"/>
              </a:rPr>
              <a:t> كيميائي بين الذرات.                       أو الجزيئات دون اتحاد كيميائ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ight Brace 8"/>
          <p:cNvSpPr/>
          <p:nvPr/>
        </p:nvSpPr>
        <p:spPr>
          <a:xfrm rot="16200000">
            <a:off x="4214520" y="70920"/>
            <a:ext cx="785880" cy="4929120"/>
          </a:xfrm>
          <a:custGeom>
            <a:avLst/>
            <a:gdLst>
              <a:gd name="textAreaLeft" fmla="*/ 0 w 785880"/>
              <a:gd name="textAreaRight" fmla="*/ 283680 w 785880"/>
              <a:gd name="textAreaTop" fmla="*/ 0 h 4929120"/>
              <a:gd name="textAreaBottom" fmla="*/ 4929480 h 492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655"/>
                </a:lnTo>
                <a:cubicBezTo>
                  <a:pt x="10800" y="10655"/>
                  <a:pt x="16200" y="10655"/>
                  <a:pt x="21600" y="10655"/>
                </a:cubicBezTo>
                <a:cubicBezTo>
                  <a:pt x="16200" y="10655"/>
                  <a:pt x="10800" y="10655"/>
                  <a:pt x="10800" y="10655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Down Arrow 9"/>
          <p:cNvSpPr/>
          <p:nvPr/>
        </p:nvSpPr>
        <p:spPr>
          <a:xfrm>
            <a:off x="6858000" y="3429000"/>
            <a:ext cx="428760" cy="78588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d99694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Down Arrow 10"/>
          <p:cNvSpPr/>
          <p:nvPr/>
        </p:nvSpPr>
        <p:spPr>
          <a:xfrm>
            <a:off x="2071800" y="3429000"/>
            <a:ext cx="428400" cy="78588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d99694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75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1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2"/>
          <p:cNvSpPr/>
          <p:nvPr/>
        </p:nvSpPr>
        <p:spPr>
          <a:xfrm>
            <a:off x="1981080" y="22860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752480" y="228600"/>
            <a:ext cx="632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571680" y="2205000"/>
            <a:ext cx="7929360" cy="34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3366"/>
                </a:solidFill>
                <a:latin typeface="Tahoma"/>
                <a:cs typeface="Tahoma"/>
              </a:rPr>
              <a:t>العناصر        المركبات </a:t>
            </a:r>
            <a:r>
              <a:rPr b="0" lang="en-US" sz="4000" spc="-1" strike="noStrike">
                <a:solidFill>
                  <a:srgbClr val="003366"/>
                </a:solidFill>
                <a:latin typeface="Tahoma"/>
                <a:ea typeface="Tahoma"/>
              </a:rPr>
              <a:t>     </a:t>
            </a:r>
            <a:r>
              <a:rPr b="0" lang="ar-SA" sz="4000" spc="-1" strike="noStrike">
                <a:solidFill>
                  <a:srgbClr val="003366"/>
                </a:solidFill>
                <a:latin typeface="Tahoma"/>
                <a:cs typeface="Tahoma"/>
              </a:rPr>
              <a:t>المخالي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Group 13"/>
          <p:cNvGrpSpPr/>
          <p:nvPr/>
        </p:nvGrpSpPr>
        <p:grpSpPr>
          <a:xfrm>
            <a:off x="1857240" y="2857680"/>
            <a:ext cx="6000120" cy="1142640"/>
            <a:chOff x="1857240" y="2857680"/>
            <a:chExt cx="6000120" cy="1142640"/>
          </a:xfrm>
        </p:grpSpPr>
        <p:sp>
          <p:nvSpPr>
            <p:cNvPr id="92" name="Line 7"/>
            <p:cNvSpPr/>
            <p:nvPr/>
          </p:nvSpPr>
          <p:spPr>
            <a:xfrm>
              <a:off x="4771440" y="285768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8"/>
            <p:cNvSpPr/>
            <p:nvPr/>
          </p:nvSpPr>
          <p:spPr>
            <a:xfrm>
              <a:off x="4771440" y="3429000"/>
              <a:ext cx="308592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9"/>
            <p:cNvSpPr/>
            <p:nvPr/>
          </p:nvSpPr>
          <p:spPr>
            <a:xfrm>
              <a:off x="1857240" y="3429000"/>
              <a:ext cx="308592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10"/>
            <p:cNvSpPr/>
            <p:nvPr/>
          </p:nvSpPr>
          <p:spPr>
            <a:xfrm>
              <a:off x="785736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11"/>
            <p:cNvSpPr/>
            <p:nvPr/>
          </p:nvSpPr>
          <p:spPr>
            <a:xfrm>
              <a:off x="185724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12"/>
            <p:cNvSpPr/>
            <p:nvPr/>
          </p:nvSpPr>
          <p:spPr>
            <a:xfrm>
              <a:off x="477144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Rectangle 21"/>
          <p:cNvSpPr/>
          <p:nvPr/>
        </p:nvSpPr>
        <p:spPr>
          <a:xfrm>
            <a:off x="2714760" y="1643040"/>
            <a:ext cx="38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ff"/>
                </a:solidFill>
                <a:latin typeface="Calibri"/>
                <a:cs typeface="Monotype Koufi"/>
              </a:rPr>
              <a:t>أشكال المادة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7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-21420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1143000" y="16002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onotype Kouf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Rectangle 11"/>
          <p:cNvGrpSpPr/>
          <p:nvPr/>
        </p:nvGrpSpPr>
        <p:grpSpPr>
          <a:xfrm>
            <a:off x="596880" y="523800"/>
            <a:ext cx="7950240" cy="6916320"/>
            <a:chOff x="596880" y="523800"/>
            <a:chExt cx="7950240" cy="6916320"/>
          </a:xfrm>
        </p:grpSpPr>
        <p:pic>
          <p:nvPicPr>
            <p:cNvPr id="102" name="Rectangle 11" descr=""/>
            <p:cNvPicPr/>
            <p:nvPr/>
          </p:nvPicPr>
          <p:blipFill>
            <a:blip r:embed="rId2"/>
            <a:stretch/>
          </p:blipFill>
          <p:spPr>
            <a:xfrm>
              <a:off x="596880" y="523800"/>
              <a:ext cx="7950240" cy="438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714240" y="642960"/>
              <a:ext cx="7715520" cy="67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8800" spc="-1" strike="noStrike">
                  <a:solidFill>
                    <a:srgbClr val="7030a0"/>
                  </a:solidFill>
                  <a:latin typeface="Microsoft Sans Serif"/>
                  <a:cs typeface="Microsoft Sans Serif"/>
                </a:rPr>
                <a:t>أعط تعريفاً مناسباً لكل من العنصر والمركب والمخلوط.</a:t>
              </a:r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20:40:13Z</dcterms:created>
  <dc:creator>Ahlam</dc:creator>
  <dc:description/>
  <dc:language>en-US</dc:language>
  <cp:lastModifiedBy> 1</cp:lastModifiedBy>
  <dcterms:modified xsi:type="dcterms:W3CDTF">2009-12-13T18:37:28Z</dcterms:modified>
  <cp:revision>114</cp:revision>
  <dc:subject/>
  <dc:title>Slide 1</dc:title>
</cp:coreProperties>
</file>