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embeddings/oleObject7.xlsx" ContentType="application/vnd.openxmlformats-officedocument.spreadsheetml.sheet"/>
  <Override PartName="/ppt/embeddings/oleObject2.xlsx" ContentType="application/vnd.openxmlformats-officedocument.spreadsheetml.sheet"/>
  <Override PartName="/ppt/embeddings/oleObject8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embeddings/oleObject9.xlsx" ContentType="application/vnd.openxmlformats-officedocument.spreadsheetml.sheet"/>
  <Override PartName="/ppt/embeddings/oleObject10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9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88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CFAB-713F-4430-B241-47D0FF941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F2EF-B6B4-447E-988B-E15C9E133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211A-A1E7-44B1-BFA3-6ECA36A13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AB3E-8DA4-423E-80FA-FC8596225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21A9E-8E35-4014-B656-0EFA35785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B737C-753E-48F7-BB8B-1C124C83A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080A4-85DF-41A7-9DBD-58F6B8C66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E36C0-24FC-40B0-93EF-B1456622F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231A7-6279-48C4-BE85-6D56C0889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91BCF-E36F-4188-B3FA-59505669C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61480-D560-47F0-83EC-B897EF5E3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9C03-C84D-4B52-9B5B-1AC6F9978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14599-B878-4FF6-A5D2-DE01A9B0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3466F-BD73-476F-B02E-1D7E882F1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0EFCB-B268-4BED-BAEC-F648265D1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254C4-78CC-41F6-9897-80E6CA7A3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B3510-D58F-47C9-8C72-CD316810E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1982-ED8B-4E70-9EEB-A2EC12239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7485-DA61-489A-ADC0-1D1C7C75C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2DED-A4E9-4400-934F-B40A8D11D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4DAE-4D4D-45BF-AAE2-8ABD00A35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D943-CED0-41CA-9B91-DCE5418F2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B320-BB6C-45D9-A901-FB414199C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6509-A27B-43E3-9BD0-C31D25C03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grapes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60A35-BDA7-4ABB-A64C-3E083B34DF6E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grapes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DCD9F-E8FA-46D3-9391-F1206BAE6F46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1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1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11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11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11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11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11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11.wmf"/><Relationship Id="rId21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5409720"/>
            <a:ext cx="7772400" cy="11430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0000"/>
                </a:solidFill>
                <a:latin typeface="Impact"/>
              </a:rPr>
              <a:t>الـمــرأة القيـــاديـة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76520" y="609480"/>
            <a:ext cx="6629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تفهم حاجات النساء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239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تفويض وإعطاء الصلاحيات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بعد تفويض بلقيس قالوا : والأمر إليك فانظري ماذا تأمرين ؟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5280" y="243792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بعد النظر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 لأنها أكثر جمعا للمعلومات)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رب ابن لي عندك بيتا في الجنة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170320" y="0"/>
            <a:ext cx="397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 الحوار والاتصال والتعبير عن المشاعر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قد سمع الله قول التي تجادلك في زوجها وتشتكي إلى الله والله يسمع تحاوركما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سرعة والعمق في بناء العلاقات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86200" y="3048120"/>
            <a:ext cx="525780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قارنة القيادية بين الرجل وال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620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اجع للمقارن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the Nature of Managerial work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by Henry Mentzberg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the Female Advantage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by Sally Helgusem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عمل بدرجات متفاوتة من الجهد ولكن بدون انقطاع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مل بدرجة واحدة من الجهد ولكنها تأخذ فترات راحة قصيرة ومتتابع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تربكه المقاطعات والزيارات أثناء العمل وتؤثر على إنتاجيته وأدائه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تبر الزيارات والمقاطعات فرصة لبناء العلاقات وتفهم احتياجات الأتباع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رص على العمل بشكل كبير ولا يتخلل ذلك أمور أخرى في الغالب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خصص وقتا للأمور الأخرى ومن أهمها متابعة أمور الأسر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993300"/>
                </a:solidFill>
                <a:latin typeface="Impact"/>
              </a:rPr>
              <a:t>كرم الإسلام المرأة وأنصفها وأعاد إليها حقوقها</a:t>
            </a:r>
            <a:r>
              <a:rPr b="0" lang="en-US" sz="6000" spc="-1" strike="noStrike">
                <a:solidFill>
                  <a:srgbClr val="993300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تابع أداء المهمة تلو المهمة دون تركيز كبير على تقييم الأداء أو النظر المستقبلي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قيم كل عمل وتحرص على دراسة الآثار المستقبلية والآثار العامة على الأسرة والبيئة والتعليم وغير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3733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رتبط بعمله بشكل عميق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رتبط بعملها ولكنها ترتبط بأمور كثيرة أخرى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ب الاحتفاظ بالمعلومات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حب تبادل المعلومات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رص على التسلسل التنظيمي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مل من خلال شبكة علاقات وليس التسلس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نطباعات الرجل عن المرأة القيادية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هذه الانطباعات ليست عند جميع الرجال ولكنها شائعة وعلى النساء تصحيحه أو التعامل معها بحكم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صلح للقياد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صلح للقيادة الوسطى لا العلي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ستطيع قيادة النساء فقط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نساء لا يخضعن إلا للرجا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0" y="0"/>
          <a:ext cx="9144000" cy="70866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70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00"/>
                </a:solidFill>
                <a:latin typeface="Impact"/>
              </a:rPr>
              <a:t>أول من أسلم امرأة وأول من استشهد امرأ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غير حاسمة عند اتخاذ القرار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عاطفية في قرارات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مل بجد ولا تصبر على العمل لساعات طويل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ستمر في نفس العمل بل ستتركه بعد حين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ملك الحزم الكافي للتعامل مع أصحاب المشاك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مزاجية فقد تكون سلبية أو تصبح هجومية دون أسباب وجيه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لغة الأرقام والحسابات والأموا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ملك الثقة الكافية في النفس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الألعاب السياسية اللازمة لإدارة العم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كيف تدير الرجال ؟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Impact"/>
              </a:rPr>
              <a:t>النساء المؤمنات الخالدات نماذج قيادية على مر الزمان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( وخاصة فوق الخمسين ) يشعر بالذل حين ترأسه ا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حفظ الس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صلح للمفاوضات فهي تكشف موقفها بسرعة وترضى بسرعة ولينة في مواقفه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مشاغل المرأة العائلية تمنعها من أداء الأعمال المه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019920" y="2514600"/>
            <a:ext cx="2595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نطباعات المرأة عن المرأة القيادي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72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أيضا تختلف من امرأة لأخرى وخاصة تجاه رئيستها في العمل ولذا من المهم التعامل مع هذه الانطباعات بحك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راعي ظروف المرأة التي تعمل لدي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فهم المشاكل التي تمر بها المرأة أكثر من الرج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مارس التحفيز بشكل أفضل من 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شرح ما تريد والأهداف بشكل أفضل من 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4419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هذه محاولة لفهم القدرات والخصائص القيادية لدى ال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قضي مع العاملين معها وقتا أكثر من الرج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نتبه للأداء الحسن والأداء السيئ بينما الرجل لا ينتبه إلا للسيئ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عامل من حولها كبشر بينما الرجل يعاملهم كآلات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غير متمكنة من عملها ك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متقلبة المزاج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تكلم كثيرا ولكنها تغتاب وغير صريحة مع من يعمل لدي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خشى على منصبها كثيرا ولذلك لا تساعد أية امرأة ممكن أن تهدد منصبه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عاطفية فإذا أحبت رفعت وإذا كرهت فجرت في الخصو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لا تحفظ الس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تكبر على النساء العاملات معها عندما تصل للقياد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صفات القيادية التي تميز ال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عن وضع النساء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للأسف الإحصاءات أمريكية حيث لا توجد إحصاءات كافية في العالم العربي وهي تختلف كثيرا من بلد لآخ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0.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أكبر ألف شركة في أمريك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البنوك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دور النشر الكبرى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19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شركات الأغذ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قيادات الوسطى في أمريك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قيادات العليا لجميع الشركات الأمريكي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تفوق النساء على الرجال في الإبداع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راتب الرجل بنفس الشهادة والكفاء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خلال الاجتماعات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( 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تي تضم رجالا و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)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مشاركة والاستشارة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قالت يا أيها الملأ أفتوني في أمري ما كنت قاطعة أمرا حتى تشهدون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7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مقاطعات قام بها الرجال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بينما كانت مقاطعة الرجال في اجتماع رجالي أقل من هذه النسبة )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ومقاطعات النساء في اجتماع نسائي أقل من هذه النسبة )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إلى 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كان المتكلم رجلا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نساء الحاضرات توهمن أن النساء تكلمن أكثر من الرجال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أخرى هامة لل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عند تقييم مقال وزع على عدد كبير من الناس كان التقييم كالتالي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: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أعطوا المقال درجة عالية عندما كتب عليه اسم 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فقط أعطوا نفس المقال درجة عالية عندما كتب عليه اسم امرأ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نساء يتخذن القرارات في معظم القضايا العائلية بل حتى غيرها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4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شراء الأثاث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تحديد مكان السفر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502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تعاطف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447920" y="762120"/>
          <a:ext cx="5486400" cy="34081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762120"/>
                    <a:ext cx="5486400" cy="34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المنزل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شراء الاحتياجات الالكترون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نوع السيار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8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لقرارات الصح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3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ساهمة المرأة العاملة في ميزانية البيت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مستعملي الانترنت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وفي ازدياد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مستعملين الجدد للانترنت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المدرسة الخاصة للأولاد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نساء يحضرن الدورات والدروس في المعاهد الخاص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فالقوة الاقتصادية للمرأة عالية جدا ومع ذلك معظم المؤسسات التجارية لا تنتبه لذلك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3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إبداع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371600" y="2895480"/>
            <a:ext cx="41911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جدول الصفات الشخصية لدى الرجال والنساء القياديين حسب انطباع العاملين لديهم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541008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رجو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5760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مشترك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82880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نسائ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676520" y="762120"/>
          <a:ext cx="5562360" cy="761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7621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1676520" y="2133720"/>
          <a:ext cx="5562360" cy="761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21337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1676520" y="4191120"/>
          <a:ext cx="5562360" cy="7617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41911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1676520" y="3505320"/>
          <a:ext cx="5562360" cy="7617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35053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1676520" y="2819520"/>
          <a:ext cx="5562360" cy="7617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76520" y="28195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1676520" y="1447920"/>
          <a:ext cx="5562360" cy="7617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76520" y="14479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5410080" y="7621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زم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288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فه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576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أدب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657600" y="3581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إبداع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ستقلا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3581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رحم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10080" y="35053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سيطر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1008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ركز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65760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ماس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82880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ستسلام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752480" y="16002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ساس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657600" y="1523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لتزا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828800" y="22096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عاطف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410080" y="1523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نافس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57600" y="2286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إخلاص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10080" y="2286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حليل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838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كيف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28800" y="914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رق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676520" y="4876920"/>
          <a:ext cx="5562360" cy="60948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76520" y="4876920"/>
                    <a:ext cx="55623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1676520" y="5445000"/>
          <a:ext cx="5557680" cy="57492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76520" y="5445000"/>
                    <a:ext cx="555768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541008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شد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10080" y="5410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هجوم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82880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ذمر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65760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كفاء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8800" y="5486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660066"/>
                </a:solidFill>
                <a:latin typeface="Times New Roman"/>
              </a:rPr>
              <a:t>الاعتماد على الآخرين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5486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فاع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671480" y="5999040"/>
          <a:ext cx="5558040" cy="57492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671480" y="5999040"/>
                    <a:ext cx="555804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54100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نطق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5812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نهج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7524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زاج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670040" y="209520"/>
          <a:ext cx="5557680" cy="57456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670040" y="209520"/>
                    <a:ext cx="555768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كل هذه المعلومات تعطي بوضوح الدلائل على قدرات المرأة القيادي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طلوب تفعيل دورها القيادي مع الالتزام الشرعي لتعيد مجد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00ff"/>
                </a:solidFill>
                <a:latin typeface="Impact"/>
              </a:rPr>
              <a:t>النساء الخالدات</a:t>
            </a:r>
            <a:r>
              <a:rPr b="0" lang="en-US" sz="60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5T05:24:49Z</dcterms:created>
  <dc:creator>user</dc:creator>
  <dc:description/>
  <dc:language>en-US</dc:language>
  <cp:lastModifiedBy>win</cp:lastModifiedBy>
  <dcterms:modified xsi:type="dcterms:W3CDTF">2002-03-23T12:05:53Z</dcterms:modified>
  <cp:revision>20</cp:revision>
  <dc:subject/>
  <dc:title>المرأة القيادية</dc:title>
</cp:coreProperties>
</file>