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embeddings/oleObject1.xlsx" ContentType="application/vnd.openxmlformats-officedocument.spreadsheetml.sheet"/>
  <Override PartName="/ppt/embeddings/oleObject7.xlsx" ContentType="application/vnd.openxmlformats-officedocument.spreadsheetml.sheet"/>
  <Override PartName="/ppt/embeddings/oleObject2.xlsx" ContentType="application/vnd.openxmlformats-officedocument.spreadsheetml.sheet"/>
  <Override PartName="/ppt/embeddings/oleObject8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embeddings/oleObject9.xlsx" ContentType="application/vnd.openxmlformats-officedocument.spreadsheetml.sheet"/>
  <Override PartName="/ppt/embeddings/oleObject10.xlsx" ContentType="application/vnd.openxmlformats-officedocument.spreadsheetml.shee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9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88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3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93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069D-9724-47AB-AA8E-119353D6F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9E94-B40B-4D9D-AC7D-772114227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9925-2E7F-4B31-BC21-FB38E80E7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10D3-5B22-4529-AB4C-9D3F156E4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771D2-B2BD-43AD-BACA-7CDE629E7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BF61E-A1B8-4727-AC1C-75AD512C5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27431-D910-4DD8-A256-1904610B2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643E4-DF1E-4BF4-A5E5-212A8428F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1E735-3BD5-4F2C-AFE5-1FF123F9A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F86D9-C199-4EA0-BD69-76EE12A65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1B5C5-B032-448B-9492-5B3EB13C8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A4B3-4E2E-4B00-9014-9F23EECBF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3BBCC-FF08-4108-8C14-FDEC01C3F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8E694-0075-42CC-B9BB-ABC6B4448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79A86-59CD-42DE-AF93-0733679C5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C1102-4A4D-41EA-930D-143965576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44A0C-2D29-4C28-AAB4-19F807C4E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94B2-BA7A-407A-9A45-B099937D2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0101-E4C9-4C38-8AAC-68663E754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605D-7012-4712-984D-7F8B07CC4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EBFE-76F1-4495-8446-33C9C96D7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CD3A-C818-44F9-A1C8-C7E5AEDD2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4981-5EFF-44A5-9946-4477DA225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2E4E-D7B3-4520-961C-C5F2526B7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9144000" cy="60948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09480"/>
                <a:ext cx="9144000" cy="62485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0" y="0"/>
              <a:ext cx="2646360" cy="5735520"/>
              <a:chOff x="0" y="0"/>
              <a:chExt cx="2646360" cy="5735520"/>
            </a:xfrm>
          </p:grpSpPr>
          <p:pic>
            <p:nvPicPr>
              <p:cNvPr id="5" name="grapes" descr=""/>
              <p:cNvPicPr/>
              <p:nvPr/>
            </p:nvPicPr>
            <p:blipFill>
              <a:blip r:embed="rId2"/>
              <a:stretch/>
            </p:blipFill>
            <p:spPr>
              <a:xfrm>
                <a:off x="258840" y="0"/>
                <a:ext cx="847800" cy="50036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" name=""/>
              <p:cNvGrpSpPr/>
              <p:nvPr/>
            </p:nvGrpSpPr>
            <p:grpSpPr>
              <a:xfrm>
                <a:off x="358920" y="0"/>
                <a:ext cx="126720" cy="5735520"/>
                <a:chOff x="358920" y="0"/>
                <a:chExt cx="126720" cy="573552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358920" y="0"/>
                  <a:ext cx="126720" cy="1353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99ff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358920" y="1333440"/>
                  <a:ext cx="126720" cy="4402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9ff99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" name=""/>
              <p:cNvSpPr/>
              <p:nvPr/>
            </p:nvSpPr>
            <p:spPr>
              <a:xfrm>
                <a:off x="0" y="550800"/>
                <a:ext cx="2646360" cy="12708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99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F82B6-8227-4562-B0CC-3A5810DB2D22}" type="slidenum">
              <a:rPr b="0" lang="en-US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2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53" name=""/>
              <p:cNvSpPr/>
              <p:nvPr/>
            </p:nvSpPr>
            <p:spPr>
              <a:xfrm>
                <a:off x="0" y="0"/>
                <a:ext cx="9144000" cy="254016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2540160"/>
                <a:ext cx="9144000" cy="431784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pic>
          <p:nvPicPr>
            <p:cNvPr id="55" name="grapes" descr=""/>
            <p:cNvPicPr/>
            <p:nvPr/>
          </p:nvPicPr>
          <p:blipFill>
            <a:blip r:embed="rId2"/>
            <a:stretch/>
          </p:blipFill>
          <p:spPr>
            <a:xfrm>
              <a:off x="258840" y="0"/>
              <a:ext cx="1079280" cy="5003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" name=""/>
            <p:cNvGrpSpPr/>
            <p:nvPr/>
          </p:nvGrpSpPr>
          <p:grpSpPr>
            <a:xfrm>
              <a:off x="1028880" y="0"/>
              <a:ext cx="153360" cy="5735520"/>
              <a:chOff x="1028880" y="0"/>
              <a:chExt cx="153360" cy="5735520"/>
            </a:xfrm>
          </p:grpSpPr>
          <p:sp>
            <p:nvSpPr>
              <p:cNvPr id="57" name=""/>
              <p:cNvSpPr/>
              <p:nvPr/>
            </p:nvSpPr>
            <p:spPr>
              <a:xfrm>
                <a:off x="1028880" y="0"/>
                <a:ext cx="153360" cy="1353960"/>
              </a:xfrm>
              <a:prstGeom prst="rect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99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028880" y="1333440"/>
                <a:ext cx="153360" cy="4402080"/>
              </a:xfrm>
              <a:prstGeom prst="rect">
                <a:avLst/>
              </a:prstGeom>
              <a:gradFill rotWithShape="0">
                <a:gsLst>
                  <a:gs pos="0">
                    <a:srgbClr val="99ff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0" y="2438280"/>
              <a:ext cx="6816600" cy="25416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32286-B3F6-41C0-8E99-67160BFF3175}" type="slidenum">
              <a:rPr b="0" lang="en-US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1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1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11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11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11.wmf"/><Relationship Id="rId13" Type="http://schemas.openxmlformats.org/officeDocument/2006/relationships/package" Target="../embeddings/oleObject7.xlsx"/><Relationship Id="rId14" Type="http://schemas.openxmlformats.org/officeDocument/2006/relationships/image" Target="../media/image11.wmf"/><Relationship Id="rId15" Type="http://schemas.openxmlformats.org/officeDocument/2006/relationships/package" Target="../embeddings/oleObject8.xlsx"/><Relationship Id="rId16" Type="http://schemas.openxmlformats.org/officeDocument/2006/relationships/image" Target="../media/image11.wmf"/><Relationship Id="rId17" Type="http://schemas.openxmlformats.org/officeDocument/2006/relationships/package" Target="../embeddings/oleObject9.xlsx"/><Relationship Id="rId18" Type="http://schemas.openxmlformats.org/officeDocument/2006/relationships/image" Target="../media/image11.wmf"/><Relationship Id="rId19" Type="http://schemas.openxmlformats.org/officeDocument/2006/relationships/package" Target="../embeddings/oleObject10.xlsx"/><Relationship Id="rId20" Type="http://schemas.openxmlformats.org/officeDocument/2006/relationships/image" Target="../media/image11.wmf"/><Relationship Id="rId21" Type="http://schemas.openxmlformats.org/officeDocument/2006/relationships/slideLayout" Target="../slideLayouts/slideLayout5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5409720"/>
            <a:ext cx="7772400" cy="114300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000000"/>
                </a:solidFill>
                <a:latin typeface="Impact"/>
              </a:rPr>
              <a:t>الـمــرأة القيـــاديـة</a:t>
            </a:r>
            <a:endParaRPr b="0" lang="en-US" sz="60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676520" y="609480"/>
            <a:ext cx="66294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4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تفهم حاجات النساء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2392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تفويض وإعطاء الصلاحيات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(بعد تفويض بلقيس قالوا : والأمر إليك فانظري ماذا تأمرين ؟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95280" y="2437920"/>
            <a:ext cx="373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6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بعد النظر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( لأنها أكثر جمعا للمعلومات)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رب ابن لي عندك بيتا في الجنة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170320" y="0"/>
            <a:ext cx="397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7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 الحوار والاتصال والتعبير عن المشاعر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قد سمع الله قول التي تجادلك في زوجها وتشتكي إلى الله والله يسمع تحاوركما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8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سرعة والعمق في بناء العلاقات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886200" y="3048120"/>
            <a:ext cx="525780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قارنة القيادية بين الرجل والمرأ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761760"/>
            <a:ext cx="76201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اجع للمقارن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the Nature of Managerial work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by Henry Mentzberg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the Female Advantage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by Sally Helgusem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عمل بدرجات متفاوتة من الجهد ولكن بدون انقطاع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عمل بدرجة واحدة من الجهد ولكنها تأخذ فترات راحة قصيرة ومتتابع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تربكه المقاطعات والزيارات أثناء العمل وتؤثر على إنتاجيته وأدائه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عتبر الزيارات والمقاطعات فرصة لبناء العلاقات وتفهم احتياجات الأتباع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حرص على العمل بشكل كبير ولا يتخلل ذلك أمور أخرى في الغالب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خصص وقتا للأمور الأخرى ومن أهمها متابعة أمور الأسر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0" y="0"/>
            <a:ext cx="9144000" cy="70866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993300"/>
                </a:solidFill>
                <a:latin typeface="Impact"/>
              </a:rPr>
              <a:t>كرم الإسلام المرأة وأنصفها وأعاد إليها حقوقها</a:t>
            </a:r>
            <a:r>
              <a:rPr b="0" lang="en-US" sz="6000" spc="-1" strike="noStrike">
                <a:solidFill>
                  <a:srgbClr val="993300"/>
                </a:solidFill>
                <a:latin typeface="Impact"/>
              </a:rPr>
              <a:t> </a:t>
            </a:r>
            <a:endParaRPr b="0" lang="en-US" sz="60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72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تابع أداء المهمة تلو المهمة دون تركيز كبير على تقييم الأداء أو النظر المستقبلي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قيم كل عمل وتحرص على دراسة الآثار المستقبلية والآثار العامة على الأسرة والبيئة والتعليم وغير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2120" y="3733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رتبط بعمله بشكل عميق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رتبط بعملها ولكنها ترتبط بأمور كثيرة أخرى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حب الاحتفاظ بالمعلومات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حب تبادل المعلومات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327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حرص على التسلسل التنظيمي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عمل من خلال شبكة علاقات وليس التسلس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نطباعات الرجل عن المرأة القيادية</a:t>
            </a:r>
            <a:br>
              <a:rPr sz="4400"/>
            </a:b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هذه الانطباعات ليست عند جميع الرجال ولكنها شائعة وعلى النساء تصحيحه أو التعامل معها بحكم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6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صلح للقياد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صلح للقيادة الوسطى لا العلي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ستطيع قيادة النساء فقط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716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نساء لا يخضعن إلا للرجا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0" y="0"/>
          <a:ext cx="9144000" cy="70866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708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00"/>
                </a:solidFill>
                <a:latin typeface="Impact"/>
              </a:rPr>
              <a:t>أول من أسلم امرأة وأول من استشهد امرأ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غير حاسمة عند اتخاذ القرار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عاطفية في قرارات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716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مل بجد ولا تصبر على العمل لساعات طويل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68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ستمر في نفس العمل بل ستتركه بعد حين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72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ملك الحزم الكافي للتعامل مع أصحاب المشاك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72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مزاجية فقد تكون سلبية أو تصبح هجومية دون أسباب وجيه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رف لغة الأرقام والحسابات والأموا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ملك الثقة الكافية في النفس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430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رف الألعاب السياسية اللازمة لإدارة العم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رف كيف تدير الرجال ؟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Impact"/>
              </a:rPr>
              <a:t>النساء المؤمنات الخالدات نماذج قيادية على مر الزمان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1981080"/>
            <a:ext cx="91440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( وخاصة فوق الخمسين ) يشعر بالذل حين ترأسه امرأ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حفظ السر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صلح للمفاوضات فهي تكشف موقفها بسرعة وترضى بسرعة ولينة في مواقفه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6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مشاغل المرأة العائلية تمنعها من أداء الأعمال المهم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6019920" y="2514600"/>
            <a:ext cx="25956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نطباعات المرأة عن المرأة القيادي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90720" y="312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أيضا تختلف من امرأة لأخرى وخاصة تجاه رئيستها في العمل ولذا من المهم التعامل مع هذه الانطباعات بحكم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راعي ظروف المرأة التي تعمل لدي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430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فهم المشاكل التي تمر بها المرأة أكثر من الرج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مارس التحفيز بشكل أفضل من ال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شرح ما تريد والأهداف بشكل أفضل من ال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4419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هذه محاولة لفهم القدرات والخصائص القيادية لدى النساء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716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قضي مع العاملين معها وقتا أكثر من الرج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نتبه للأداء الحسن والأداء السيئ بينما الرجل لا ينتبه إلا للسيئ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30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عامل من حولها كبشر بينما الرجل يعاملهم كآلات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غير متمكنة من عملها كال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متقلبة المزاج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تكلم كثيرا ولكنها تغتاب وغير صريحة مع من يعمل لدي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خشى على منصبها كثيرا ولذلك لا تساعد أية امرأة ممكن أن تهدد منصبه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68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عاطفية فإذا أحبت رفعت وإذا كرهت فجرت في الخصوم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716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لا تحفظ السر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716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تكبر على النساء العاملات معها عندما تصل للقياد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صفات القيادية التي تميز المرأ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3716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إحصاءات عن وضع النساء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للأسف الإحصاءات أمريكية حيث لا توجد إحصاءات كافية في العالم العربي وهي تختلف كثيرا من بلد لآخر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0.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أكبر ألف شركة في أمريك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البنوك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دور النشر الكبرى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19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شركات الأغذي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4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قيادات الوسطى في أمريك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قيادات العليا لجميع الشركات الأمريكي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تفوق النساء على الرجال في الإبداع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7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راتب الرجل بنفس الشهادة والكفاء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إحصاءات خلال الاجتماعات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( 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تي تضم رجالا ونساء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)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6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مشاركة والاستشارة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 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قالت يا أيها الملأ أفتوني في أمري ما كنت قاطعة أمرا حتى تشهدون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7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مقاطعات قام بها الرجال 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بينما كانت مقاطعة الرجال في اجتماع رجالي أقل من هذه النسبة ) 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ومقاطعات النساء في اجتماع نسائي أقل من هذه النسبة )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8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إلى 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كان المتكلم رجلا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7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نساء الحاضرات توهمن أن النساء تكلمن أكثر من الرجال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إحصاءات أخرى هامة للنساء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عند تقييم مقال وزع على عدد كبير من الناس كان التقييم كالتالي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: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8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أعطوا المقال درجة عالية عندما كتب عليه اسم 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فقط أعطوا نفس المقال درجة عالية عندما كتب عليه اسم امرأ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نساء يتخذن القرارات في معظم القضايا العائلية بل حتى غيرها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4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شراء الأثاث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تحديد مكان السفر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5028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تعاطف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447920" y="762120"/>
          <a:ext cx="5486400" cy="34081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762120"/>
                    <a:ext cx="5486400" cy="340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ختيار المنزل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شراء الاحتياجات الالكتروني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6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ختيار نوع السيار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8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لقرارات الصحي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43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ساهمة المرأة العاملة في ميزانية البيت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مستعملي الانترنت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(وفي ازدياد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6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مستعملين الجدد للانترنت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ختيار المدرسة الخاصة للأولاد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نساء يحضرن الدورات والدروس في المعاهد الخاص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فالقوة الاقتصادية للمرأة عالية جدا ومع ذلك معظم المؤسسات التجارية لا تنتبه لذلك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3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إبداع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371600" y="2895480"/>
            <a:ext cx="419112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جدول الصفات الشخصية لدى الرجال والنساء القياديين حسب انطباع العاملين لديهم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5410080" y="152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صفات رجول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657600" y="152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صفات مشترك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828800" y="152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صفات نسائ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1676520" y="762120"/>
          <a:ext cx="5562360" cy="761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7621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1676520" y="2133720"/>
          <a:ext cx="5562360" cy="7617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21337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1676520" y="4191120"/>
          <a:ext cx="5562360" cy="7617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76520" y="41911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"/>
          <p:cNvGraphicFramePr/>
          <p:nvPr/>
        </p:nvGraphicFramePr>
        <p:xfrm>
          <a:off x="1676520" y="3505320"/>
          <a:ext cx="5562360" cy="76176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76520" y="35053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2" name=""/>
          <p:cNvGraphicFramePr/>
          <p:nvPr/>
        </p:nvGraphicFramePr>
        <p:xfrm>
          <a:off x="1676520" y="2819520"/>
          <a:ext cx="5562360" cy="76176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676520" y="28195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1676520" y="1447920"/>
          <a:ext cx="5562360" cy="76176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676520" y="14479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"/>
          <p:cNvSpPr/>
          <p:nvPr/>
        </p:nvSpPr>
        <p:spPr>
          <a:xfrm>
            <a:off x="5410080" y="76212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حزم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828800" y="28954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فهم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657600" y="28954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أدب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657600" y="3581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إبداع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28954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استقلال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3581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رحم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410080" y="350532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سيطر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410080" y="4267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ركز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657600" y="4267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حماس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828800" y="4267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استسلام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752480" y="16002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حساس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657600" y="1523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التزام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828800" y="22096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عاطف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410080" y="1523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نافس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57600" y="22860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إخلاص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410080" y="22860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حليل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581280" y="838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كيف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828800" y="9144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رق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1676520" y="4876920"/>
          <a:ext cx="5562360" cy="609480"/>
        </p:xfrm>
        <a:graphic>
          <a:graphicData uri="http://schemas.openxmlformats.org/presentationml/2006/ole">
            <p:oleObj progId="Excel.Sheet.12" r:id="rId13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676520" y="4876920"/>
                    <a:ext cx="556236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6" name=""/>
          <p:cNvGraphicFramePr/>
          <p:nvPr/>
        </p:nvGraphicFramePr>
        <p:xfrm>
          <a:off x="1676520" y="5445000"/>
          <a:ext cx="5557680" cy="574920"/>
        </p:xfrm>
        <a:graphic>
          <a:graphicData uri="http://schemas.openxmlformats.org/presentationml/2006/ole">
            <p:oleObj progId="Excel.Sheet.12" r:id="rId15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676520" y="5445000"/>
                    <a:ext cx="5557680" cy="5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"/>
          <p:cNvSpPr/>
          <p:nvPr/>
        </p:nvSpPr>
        <p:spPr>
          <a:xfrm>
            <a:off x="5410080" y="4952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شد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410080" y="5410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هجوم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828800" y="4952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ذمر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657600" y="4952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كفاء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828800" y="54864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660066"/>
                </a:solidFill>
                <a:latin typeface="Times New Roman"/>
              </a:rPr>
              <a:t>الاعتماد على الآخرين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581280" y="54864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فاعل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1671480" y="5999040"/>
          <a:ext cx="5558040" cy="574920"/>
        </p:xfrm>
        <a:graphic>
          <a:graphicData uri="http://schemas.openxmlformats.org/presentationml/2006/ole">
            <p:oleObj progId="Excel.Sheet.12" r:id="rId17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671480" y="5999040"/>
                    <a:ext cx="5558040" cy="5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"/>
          <p:cNvSpPr/>
          <p:nvPr/>
        </p:nvSpPr>
        <p:spPr>
          <a:xfrm>
            <a:off x="5410080" y="59436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نطق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581280" y="59436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نهج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752480" y="59436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زاج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1670040" y="209520"/>
          <a:ext cx="5557680" cy="574560"/>
        </p:xfrm>
        <a:graphic>
          <a:graphicData uri="http://schemas.openxmlformats.org/presentationml/2006/ole">
            <p:oleObj progId="Excel.Sheet.12" r:id="rId19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670040" y="209520"/>
                    <a:ext cx="5557680" cy="57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كل هذه المعلومات تعطي بوضوح الدلائل على قدرات المرأة القيادي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طلوب تفعيل دورها القيادي مع الالتزام الشرعي لتعيد مجد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ff00ff"/>
                </a:solidFill>
                <a:latin typeface="Impact"/>
              </a:rPr>
              <a:t>النساء الخالدات</a:t>
            </a:r>
            <a:r>
              <a:rPr b="0" lang="en-US" sz="60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60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5T05:24:49Z</dcterms:created>
  <dc:creator>user</dc:creator>
  <dc:description/>
  <dc:language>en-US</dc:language>
  <cp:lastModifiedBy>win</cp:lastModifiedBy>
  <dcterms:modified xsi:type="dcterms:W3CDTF">2002-03-23T12:05:53Z</dcterms:modified>
  <cp:revision>20</cp:revision>
  <dc:subject/>
  <dc:title>المرأة القيادية</dc:title>
</cp:coreProperties>
</file>