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10.png" ContentType="image/png"/>
  <Override PartName="/ppt/media/image6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pptx" ContentType="application/vnd.openxmlformats-officedocument.presentationml.presentation"/>
  <Override PartName="/ppt/embeddings/oleObject1.xlsx" ContentType="application/vnd.openxmlformats-officedocument.spreadsheetml.sheet"/>
  <Override PartName="/ppt/embeddings/oleObject7.xlsx" ContentType="application/vnd.openxmlformats-officedocument.spreadsheetml.sheet"/>
  <Override PartName="/ppt/embeddings/oleObject2.xlsx" ContentType="application/vnd.openxmlformats-officedocument.spreadsheetml.sheet"/>
  <Override PartName="/ppt/embeddings/oleObject8.xlsx" ContentType="application/vnd.openxmlformats-officedocument.spreadsheetml.sheet"/>
  <Override PartName="/ppt/embeddings/oleObject3.xlsx" ContentType="application/vnd.openxmlformats-officedocument.spreadsheetml.sheet"/>
  <Override PartName="/ppt/embeddings/oleObject4.xlsx" ContentType="application/vnd.openxmlformats-officedocument.spreadsheetml.sheet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embeddings/oleObject9.xlsx" ContentType="application/vnd.openxmlformats-officedocument.spreadsheetml.sheet"/>
  <Override PartName="/ppt/embeddings/oleObject10.xlsx" ContentType="application/vnd.openxmlformats-officedocument.spreadsheetml.shee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92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88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94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93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93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94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189DE-D560-4F8C-9BEE-BEE9261FF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F6FE3-39BF-458A-A7CD-8B18F7B4C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92E8B-A8DD-450C-A271-B1AA4ACB1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923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5509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295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923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5509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06DEF-A187-4B61-BCD9-EB2EED67A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472BA-B573-491F-B35B-3F77221D2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16276-889C-4F4F-8D48-40D28AC47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3A1C5-FA29-4B4B-A81C-FE0AA7843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0D893-C718-474B-B5B5-3FF8CC24C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328A4-F317-4CE5-8161-D69EFA51F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2952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6E5A6-C5D4-48AA-8556-9556E15ED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955B9-B86A-4ACC-9180-A739BD254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663C3-93B3-4FBC-AD86-DEC5A9F7F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589BF-7403-4295-A875-45F462E93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C5915-2BD3-45F3-AE8A-7B1F713AE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14740-7FE8-44AD-94C0-D22D76D58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8339C-CFAC-46FF-B2B5-30DB961B7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23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509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295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23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509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A3127-ACCD-49C1-A882-5F2AFAB24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72E94-135F-424A-8762-E52460DF9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A51E5-9E0E-4B2F-AC53-23E67C0E0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8768D-BC4C-491A-BBE2-D5D0C7269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2952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64631-CD36-45D6-8ED7-67CF153AA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47180-CC27-4954-9B76-7CB1FCB12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D83AF-CB8B-41B2-8855-A8B20E24F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84ADB-83E5-44F5-8FBC-A23E87EB0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9144000" cy="609480"/>
              </a:xfrm>
              <a:prstGeom prst="rect">
                <a:avLst/>
              </a:prstGeom>
              <a:gradFill rotWithShape="0">
                <a:gsLst>
                  <a:gs pos="0">
                    <a:srgbClr val="ff99cc"/>
                  </a:gs>
                  <a:gs pos="100000">
                    <a:srgbClr val="ff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09480"/>
                <a:ext cx="9144000" cy="624852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0" y="0"/>
              <a:ext cx="2646360" cy="5735520"/>
              <a:chOff x="0" y="0"/>
              <a:chExt cx="2646360" cy="5735520"/>
            </a:xfrm>
          </p:grpSpPr>
          <p:pic>
            <p:nvPicPr>
              <p:cNvPr id="5" name="grapes" descr=""/>
              <p:cNvPicPr/>
              <p:nvPr/>
            </p:nvPicPr>
            <p:blipFill>
              <a:blip r:embed="rId2"/>
              <a:stretch/>
            </p:blipFill>
            <p:spPr>
              <a:xfrm>
                <a:off x="258840" y="0"/>
                <a:ext cx="847800" cy="50036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" name=""/>
              <p:cNvGrpSpPr/>
              <p:nvPr/>
            </p:nvGrpSpPr>
            <p:grpSpPr>
              <a:xfrm>
                <a:off x="358920" y="0"/>
                <a:ext cx="126720" cy="5735520"/>
                <a:chOff x="358920" y="0"/>
                <a:chExt cx="126720" cy="5735520"/>
              </a:xfrm>
            </p:grpSpPr>
            <p:sp>
              <p:nvSpPr>
                <p:cNvPr id="7" name=""/>
                <p:cNvSpPr/>
                <p:nvPr/>
              </p:nvSpPr>
              <p:spPr>
                <a:xfrm>
                  <a:off x="358920" y="0"/>
                  <a:ext cx="126720" cy="13539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6600"/>
                    </a:gs>
                    <a:gs pos="100000">
                      <a:srgbClr val="99ff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358920" y="1333440"/>
                  <a:ext cx="126720" cy="4402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99ff99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" name=""/>
              <p:cNvSpPr/>
              <p:nvPr/>
            </p:nvSpPr>
            <p:spPr>
              <a:xfrm>
                <a:off x="0" y="550800"/>
                <a:ext cx="2646360" cy="12708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99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1" marL="735480" indent="-282960">
              <a:spcBef>
                <a:spcPts val="799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2" marL="1131480" indent="-22608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3" marL="1584000" indent="-226080">
              <a:spcBef>
                <a:spcPts val="799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4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5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6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ct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9C51F-91E4-49CA-9832-BB3DECE86105}" type="slidenum">
              <a:rPr b="0" lang="en-US" sz="1400" spc="-1" strike="noStrike">
                <a:solidFill>
                  <a:srgbClr val="660066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52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53" name=""/>
              <p:cNvSpPr/>
              <p:nvPr/>
            </p:nvSpPr>
            <p:spPr>
              <a:xfrm>
                <a:off x="0" y="0"/>
                <a:ext cx="9144000" cy="2540160"/>
              </a:xfrm>
              <a:prstGeom prst="rect">
                <a:avLst/>
              </a:prstGeom>
              <a:gradFill rotWithShape="0">
                <a:gsLst>
                  <a:gs pos="0">
                    <a:srgbClr val="ff99cc"/>
                  </a:gs>
                  <a:gs pos="100000">
                    <a:srgbClr val="ff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2540160"/>
                <a:ext cx="9144000" cy="431784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pic>
          <p:nvPicPr>
            <p:cNvPr id="55" name="grapes" descr=""/>
            <p:cNvPicPr/>
            <p:nvPr/>
          </p:nvPicPr>
          <p:blipFill>
            <a:blip r:embed="rId2"/>
            <a:stretch/>
          </p:blipFill>
          <p:spPr>
            <a:xfrm>
              <a:off x="258840" y="0"/>
              <a:ext cx="1079280" cy="5003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6" name=""/>
            <p:cNvGrpSpPr/>
            <p:nvPr/>
          </p:nvGrpSpPr>
          <p:grpSpPr>
            <a:xfrm>
              <a:off x="1028880" y="0"/>
              <a:ext cx="153360" cy="5735520"/>
              <a:chOff x="1028880" y="0"/>
              <a:chExt cx="153360" cy="5735520"/>
            </a:xfrm>
          </p:grpSpPr>
          <p:sp>
            <p:nvSpPr>
              <p:cNvPr id="57" name=""/>
              <p:cNvSpPr/>
              <p:nvPr/>
            </p:nvSpPr>
            <p:spPr>
              <a:xfrm>
                <a:off x="1028880" y="0"/>
                <a:ext cx="153360" cy="1353960"/>
              </a:xfrm>
              <a:prstGeom prst="rect">
                <a:avLst/>
              </a:prstGeom>
              <a:gradFill rotWithShape="0">
                <a:gsLst>
                  <a:gs pos="0">
                    <a:srgbClr val="006600"/>
                  </a:gs>
                  <a:gs pos="100000">
                    <a:srgbClr val="99ff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028880" y="1333440"/>
                <a:ext cx="153360" cy="4402080"/>
              </a:xfrm>
              <a:prstGeom prst="rect">
                <a:avLst/>
              </a:prstGeom>
              <a:gradFill rotWithShape="0">
                <a:gsLst>
                  <a:gs pos="0">
                    <a:srgbClr val="99ff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sp>
          <p:nvSpPr>
            <p:cNvPr id="59" name=""/>
            <p:cNvSpPr/>
            <p:nvPr/>
          </p:nvSpPr>
          <p:spPr>
            <a:xfrm>
              <a:off x="0" y="2438280"/>
              <a:ext cx="6816600" cy="254160"/>
            </a:xfrm>
            <a:prstGeom prst="rect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ff99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</p:grp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600" y="1099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ct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15909-C8C7-420B-99DB-AEE7CFF1DB2F}" type="slidenum">
              <a:rPr b="0" lang="en-US" sz="1400" spc="-1" strike="noStrike">
                <a:solidFill>
                  <a:srgbClr val="660066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1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11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11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11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11.wmf"/><Relationship Id="rId13" Type="http://schemas.openxmlformats.org/officeDocument/2006/relationships/package" Target="../embeddings/oleObject7.xlsx"/><Relationship Id="rId14" Type="http://schemas.openxmlformats.org/officeDocument/2006/relationships/image" Target="../media/image11.wmf"/><Relationship Id="rId15" Type="http://schemas.openxmlformats.org/officeDocument/2006/relationships/package" Target="../embeddings/oleObject8.xlsx"/><Relationship Id="rId16" Type="http://schemas.openxmlformats.org/officeDocument/2006/relationships/image" Target="../media/image11.wmf"/><Relationship Id="rId17" Type="http://schemas.openxmlformats.org/officeDocument/2006/relationships/package" Target="../embeddings/oleObject9.xlsx"/><Relationship Id="rId18" Type="http://schemas.openxmlformats.org/officeDocument/2006/relationships/image" Target="../media/image11.wmf"/><Relationship Id="rId19" Type="http://schemas.openxmlformats.org/officeDocument/2006/relationships/package" Target="../embeddings/oleObject10.xlsx"/><Relationship Id="rId20" Type="http://schemas.openxmlformats.org/officeDocument/2006/relationships/image" Target="../media/image11.wmf"/><Relationship Id="rId21" Type="http://schemas.openxmlformats.org/officeDocument/2006/relationships/slideLayout" Target="../slideLayouts/slideLayout5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5409720"/>
            <a:ext cx="7772400" cy="114300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000000"/>
                </a:solidFill>
                <a:latin typeface="Impact"/>
              </a:rPr>
              <a:t>الـمــرأة القيـــاديـة</a:t>
            </a:r>
            <a:endParaRPr b="0" lang="en-US" sz="6000" spc="-1" strike="noStrike">
              <a:solidFill>
                <a:srgbClr val="ff00ff"/>
              </a:solidFill>
              <a:latin typeface="Impact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676520" y="609480"/>
            <a:ext cx="66294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4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تفهم حاجات النساء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94920" y="609120"/>
            <a:ext cx="72392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5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التفويض وإعطاء الصلاحيات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(بعد تفويض بلقيس قالوا : والأمر إليك فانظري ماذا تأمرين ؟ )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95280" y="2437920"/>
            <a:ext cx="373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6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بعد النظر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( لأنها أكثر جمعا للمعلومات)</a:t>
            </a: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( رب ابن لي عندك بيتا في الجنة )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5170320" y="0"/>
            <a:ext cx="3973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7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 الحوار والاتصال والتعبير عن المشاعر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(قد سمع الله قول التي تجادلك في زوجها وتشتكي إلى الله والله يسمع تحاوركما)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8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السرعة والعمق في بناء العلاقات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886200" y="3048120"/>
            <a:ext cx="525780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716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قارنة القيادية بين الرجل والمرأ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320" y="761760"/>
            <a:ext cx="76201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اجع للمقارن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 </a:t>
            </a:r>
            <a:br>
              <a:rPr sz="4400"/>
            </a:b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the Nature of Managerial work </a:t>
            </a:r>
            <a:br>
              <a:rPr sz="4400"/>
            </a:b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by Henry Mentzberg </a:t>
            </a:r>
            <a:br>
              <a:rPr sz="4400"/>
            </a:b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the Female Advantage </a:t>
            </a:r>
            <a:br>
              <a:rPr sz="4400"/>
            </a:b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by Sally Helgusem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68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يعمل بدرجات متفاوتة من الجهد ولكن بدون انقطاع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عمل بدرجة واحدة من الجهد ولكنها تأخذ فترات راحة قصيرة ومتتابع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68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تربكه المقاطعات والزيارات أثناء العمل وتؤثر على إنتاجيته وأدائه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عتبر الزيارات والمقاطعات فرصة لبناء العلاقات وتفهم احتياجات الأتباع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يحرص على العمل بشكل كبير ولا يتخلل ذلك أمور أخرى في الغالب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خصص وقتا للأمور الأخرى ومن أهمها متابعة أمور الأسر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>
            <a:lum bright="24000"/>
          </a:blip>
          <a:stretch/>
        </p:blipFill>
        <p:spPr>
          <a:xfrm>
            <a:off x="0" y="0"/>
            <a:ext cx="9144000" cy="708660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52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993300"/>
                </a:solidFill>
                <a:latin typeface="Impact"/>
              </a:rPr>
              <a:t>كرم الإسلام المرأة وأنصفها وأعاد إليها حقوقها</a:t>
            </a:r>
            <a:r>
              <a:rPr b="0" lang="en-US" sz="6000" spc="-1" strike="noStrike">
                <a:solidFill>
                  <a:srgbClr val="993300"/>
                </a:solidFill>
                <a:latin typeface="Impact"/>
              </a:rPr>
              <a:t> </a:t>
            </a:r>
            <a:endParaRPr b="0" lang="en-US" sz="60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90720" y="2971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يتابع أداء المهمة تلو المهمة دون تركيز كبير على تقييم الأداء أو النظر المستقبلي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قيم كل عمل وتحرص على دراسة الآثار المستقبلية والآثار العامة على الأسرة والبيئة والتعليم وغيرها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2120" y="3733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يرتبط بعمله بشكل عميق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رتبط بعملها ولكنها ترتبط بأمور كثيرة أخرى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يحب الاحتفاظ بالمعلومات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حب تبادل المعلومات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400" y="3276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يحرص على التسلسل التنظيمي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عمل من خلال شبكة علاقات وليس التسلس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716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نطباعات الرجل عن المرأة القيادية</a:t>
            </a:r>
            <a:br>
              <a:rPr sz="4400"/>
            </a:b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هذه الانطباعات ليست عند جميع الرجال ولكنها شائعة وعلى النساء تصحيحه أو التعامل معها بحكم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7160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صلح للقياد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716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صلح للقيادة الوسطى لا العليا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ستطيع قيادة النساء فقط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716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نساء لا يخضعن إلا للرجا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" name=""/>
          <p:cNvGraphicFramePr/>
          <p:nvPr/>
        </p:nvGraphicFramePr>
        <p:xfrm>
          <a:off x="0" y="0"/>
          <a:ext cx="9144000" cy="70866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708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80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00"/>
                </a:solidFill>
                <a:latin typeface="Impact"/>
              </a:rPr>
              <a:t>أول من أسلم امرأة وأول من استشهد امرأ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غير حاسمة عند اتخاذ القرار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716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عاطفية في قراراتها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7160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عمل بجد ولا تصبر على العمل لساعات طويل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6668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ستمر في نفس العمل بل ستتركه بعد حين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9072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ملك الحزم الكافي للتعامل مع أصحاب المشاك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9072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مزاجية فقد تكون سلبية أو تصبح هجومية دون أسباب وجيه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عرف لغة الأرقام والحسابات والأموا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ملك الثقة الكافية في النفس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430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عرف الألعاب السياسية اللازمة لإدارة العم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عرف كيف تدير الرجال ؟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Impact"/>
              </a:rPr>
              <a:t>النساء المؤمنات الخالدات نماذج قيادية على مر الزمان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1981080"/>
            <a:ext cx="91440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( وخاصة فوق الخمسين ) يشعر بالذل حين ترأسه امرأ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3716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حفظ السر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صلح للمفاوضات فهي تكشف موقفها بسرعة وترضى بسرعة ولينة في مواقفها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3716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مشاغل المرأة العائلية تمنعها من أداء الأعمال المهم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6019920" y="2514600"/>
            <a:ext cx="25956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3716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نطباعات المرأة عن المرأة القيادي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90720" y="312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أيضا تختلف من امرأة لأخرى وخاصة تجاه رئيستها في العمل ولذا من المهم التعامل مع هذه الانطباعات بحكم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راعي ظروف المرأة التي تعمل لديها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4300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فهم المشاكل التي تمر بها المرأة أكثر من الرج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مارس التحفيز بشكل أفضل من الرجل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3716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شرح ما تريد والأهداف بشكل أفضل من الرجل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2120" y="4419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هذه محاولة لفهم القدرات والخصائص القيادية لدى النساء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716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قضي مع العاملين معها وقتا أكثر من الرج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716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نتبه للأداء الحسن والأداء السيئ بينما الرجل لا ينتبه إلا للسيئ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30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عامل من حولها كبشر بينما الرجل يعاملهم كآلات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غير متمكنة من عملها كالرجل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3716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متقلبة المزاج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808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تكلم كثيرا ولكنها تغتاب وغير صريحة مع من يعمل لديها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خشى على منصبها كثيرا ولذلك لا تساعد أية امرأة ممكن أن تهدد منصبها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6668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عاطفية فإذا أحبت رفعت وإذا كرهت فجرت في الخصوم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3716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لا تحفظ السر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3716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تكبر على النساء العاملات معها عندما تصل للقياد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صفات القيادية التي تميز المرأ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3716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إحصاءات عن وضع النساء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( للأسف الإحصاءات أمريكية حيث لا توجد إحصاءات كافية في العالم العربي وهي تختلف كثيرا من بلد لآخر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)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0.5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قيادات أكبر ألف شركة في أمريكا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22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قيادات البنوك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21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قيادات دور النشر الكبرى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19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قيادات شركات الأغذي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40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القيادات الوسطى في أمريكا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5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القيادات العليا لجميع الشركات الأمريكية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25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تفوق النساء على الرجال في الإبداع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71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راتب الرجل بنفس الشهادة والكفاءة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إحصاءات خلال الاجتماعات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( 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تي تضم رجالا ونساء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)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716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1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المشاركة والاستشارة</a:t>
            </a: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 </a:t>
            </a: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( قالت يا أيها الملأ أفتوني في أمري ما كنت قاطعة أمرا حتى تشهدون )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7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المقاطعات قام بها الرجال </a:t>
            </a: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( بينما كانت مقاطعة الرجال في اجتماع رجالي أقل من هذه النسبة ) </a:t>
            </a: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( ومقاطعات النساء في اجتماع نسائي أقل من هذه النسبة )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58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إلى 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2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كان المتكلم رجلا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75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النساء الحاضرات توهمن أن النساء تكلمن أكثر من الرجال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إحصاءات أخرى هامة للنساء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عند تقييم مقال وزع على عدد كبير من الناس كان التقييم كالتالي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: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8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أعطوا المقال درجة عالية عندما كتب عليه اسم رجل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2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فقط أعطوا نفس المقال درجة عالية عندما كتب عليه اسم امرأة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نساء يتخذن القرارات في معظم القضايا العائلية بل حتى غيرها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4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شراء الأثاث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2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تحديد مكان السفر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5028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2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التعاطف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447920" y="762120"/>
          <a:ext cx="5486400" cy="34081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762120"/>
                    <a:ext cx="5486400" cy="340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1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اختيار المنزل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51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شراء الاحتياجات الالكتروني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60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اختيار نوع السيار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80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القرارات الصحي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43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ساهمة المرأة العاملة في ميزانية البيت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50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مستعملي الانترنت</a:t>
            </a: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(وفي ازدياد)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60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المستعملين الجدد للانترنت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0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اختيار المدرسة الخاصة للأولاد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21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النساء يحضرن الدورات والدروس في المعاهد الخاصة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فالقوة الاقتصادية للمرأة عالية جدا ومع ذلك معظم المؤسسات التجارية لا تنتبه لذلك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3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الإبداع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371600" y="2895480"/>
            <a:ext cx="419112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جدول الصفات الشخصية لدى الرجال والنساء القياديين حسب انطباع العاملين لديهم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5410080" y="1522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صفات رجول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657600" y="1522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صفات مشترك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828800" y="1522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صفات نسائ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1676520" y="762120"/>
          <a:ext cx="5562360" cy="761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762120"/>
                    <a:ext cx="55623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6" name=""/>
          <p:cNvGraphicFramePr/>
          <p:nvPr/>
        </p:nvGraphicFramePr>
        <p:xfrm>
          <a:off x="1676520" y="2133720"/>
          <a:ext cx="5562360" cy="7617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6520" y="2133720"/>
                    <a:ext cx="55623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8" name=""/>
          <p:cNvGraphicFramePr/>
          <p:nvPr/>
        </p:nvGraphicFramePr>
        <p:xfrm>
          <a:off x="1676520" y="4191120"/>
          <a:ext cx="5562360" cy="76176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676520" y="4191120"/>
                    <a:ext cx="55623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0" name=""/>
          <p:cNvGraphicFramePr/>
          <p:nvPr/>
        </p:nvGraphicFramePr>
        <p:xfrm>
          <a:off x="1676520" y="3505320"/>
          <a:ext cx="5562360" cy="76176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76520" y="3505320"/>
                    <a:ext cx="55623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2" name=""/>
          <p:cNvGraphicFramePr/>
          <p:nvPr/>
        </p:nvGraphicFramePr>
        <p:xfrm>
          <a:off x="1676520" y="2819520"/>
          <a:ext cx="5562360" cy="76176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676520" y="2819520"/>
                    <a:ext cx="55623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4" name=""/>
          <p:cNvGraphicFramePr/>
          <p:nvPr/>
        </p:nvGraphicFramePr>
        <p:xfrm>
          <a:off x="1676520" y="1447920"/>
          <a:ext cx="5562360" cy="76176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676520" y="1447920"/>
                    <a:ext cx="55623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6" name=""/>
          <p:cNvSpPr/>
          <p:nvPr/>
        </p:nvSpPr>
        <p:spPr>
          <a:xfrm>
            <a:off x="5410080" y="76212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حزم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828800" y="28954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تفهم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657600" y="28954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أدب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657600" y="35812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إبداع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28954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استقلال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35812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رحم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410080" y="350532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سيطر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410080" y="42670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مركز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657600" y="42670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حماس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828800" y="42670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استسلام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752480" y="16002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حساس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657600" y="15238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التزام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828800" y="22096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عاطف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410080" y="15238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تنافس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657600" y="22860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إخلاص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410080" y="22860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تحليل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581280" y="8380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تكيف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828800" y="9144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رق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1676520" y="4876920"/>
          <a:ext cx="5562360" cy="609480"/>
        </p:xfrm>
        <a:graphic>
          <a:graphicData uri="http://schemas.openxmlformats.org/presentationml/2006/ole">
            <p:oleObj progId="Excel.Sheet.12" r:id="rId13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676520" y="4876920"/>
                    <a:ext cx="556236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6" name=""/>
          <p:cNvGraphicFramePr/>
          <p:nvPr/>
        </p:nvGraphicFramePr>
        <p:xfrm>
          <a:off x="1676520" y="5445000"/>
          <a:ext cx="5557680" cy="574920"/>
        </p:xfrm>
        <a:graphic>
          <a:graphicData uri="http://schemas.openxmlformats.org/presentationml/2006/ole">
            <p:oleObj progId="Excel.Sheet.12" r:id="rId15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676520" y="5445000"/>
                    <a:ext cx="5557680" cy="57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8" name=""/>
          <p:cNvSpPr/>
          <p:nvPr/>
        </p:nvSpPr>
        <p:spPr>
          <a:xfrm>
            <a:off x="5410080" y="49528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شد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410080" y="54100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هجوم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828800" y="49528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تذمر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657600" y="49528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كفاء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828800" y="54864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660066"/>
                </a:solidFill>
                <a:latin typeface="Times New Roman"/>
              </a:rPr>
              <a:t>الاعتماد على الآخرين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581280" y="54864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فاعل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1671480" y="5999040"/>
          <a:ext cx="5558040" cy="574920"/>
        </p:xfrm>
        <a:graphic>
          <a:graphicData uri="http://schemas.openxmlformats.org/presentationml/2006/ole">
            <p:oleObj progId="Excel.Sheet.12" r:id="rId17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671480" y="5999040"/>
                    <a:ext cx="5558040" cy="57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6" name=""/>
          <p:cNvSpPr/>
          <p:nvPr/>
        </p:nvSpPr>
        <p:spPr>
          <a:xfrm>
            <a:off x="5410080" y="59436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منطق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581280" y="59436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منهج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752480" y="59436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مزاج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1670040" y="209520"/>
          <a:ext cx="5557680" cy="574560"/>
        </p:xfrm>
        <a:graphic>
          <a:graphicData uri="http://schemas.openxmlformats.org/presentationml/2006/ole">
            <p:oleObj progId="Excel.Sheet.12" r:id="rId19" spid="">
              <p:embed/>
              <p:pic>
                <p:nvPicPr>
                  <p:cNvPr id="250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670040" y="209520"/>
                    <a:ext cx="5557680" cy="57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كل هذه المعلومات تعطي بوضوح الدلائل على قدرات المرأة القيادية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طلوب تفعيل دورها القيادي مع الالتزام الشرعي لتعيد مجد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3716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ff00ff"/>
                </a:solidFill>
                <a:latin typeface="Impact"/>
              </a:rPr>
              <a:t>النساء الخالدات</a:t>
            </a:r>
            <a:r>
              <a:rPr b="0" lang="en-US" sz="60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60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5T05:24:49Z</dcterms:created>
  <dc:creator>user</dc:creator>
  <dc:description/>
  <dc:language>en-US</dc:language>
  <cp:lastModifiedBy>win</cp:lastModifiedBy>
  <dcterms:modified xsi:type="dcterms:W3CDTF">2002-03-23T12:05:53Z</dcterms:modified>
  <cp:revision>20</cp:revision>
  <dc:subject/>
  <dc:title>المرأة القيادية</dc:title>
</cp:coreProperties>
</file>