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embeddings/oleObject7.xlsx" ContentType="application/vnd.openxmlformats-officedocument.spreadsheetml.sheet"/>
  <Override PartName="/ppt/embeddings/oleObject2.xlsx" ContentType="application/vnd.openxmlformats-officedocument.spreadsheetml.sheet"/>
  <Override PartName="/ppt/embeddings/oleObject8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embeddings/oleObject9.xlsx" ContentType="application/vnd.openxmlformats-officedocument.spreadsheetml.sheet"/>
  <Override PartName="/ppt/embeddings/oleObject10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9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88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3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93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4A4-6046-44BA-9B50-11790B0EC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0D31-25B1-43B8-8122-0BFAF772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1C7B-5022-418B-A924-FEA55B25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8BEF-C81E-4922-BE78-14D38121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DCEE-E0EA-4ECB-8B26-EB198570F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84AC-375E-4E23-9846-37C5A3DA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F5E7-B0BE-4807-9AC2-A92C96378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45A4-5D45-4640-B3CF-2A09E66A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8D2B-870F-4332-92A7-73A44306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04B56-1341-4381-BACF-8309147C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05852-CAE4-453B-9187-4702B265B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8B05-16D0-4D32-9593-C9EE3681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1D92-89FF-4575-AD6F-E6DC1C7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4705-8065-468D-82CC-7EBBBEBD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3D0B-D134-416C-AD7A-70F35840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F1CB-420C-4652-89C5-D001A2C9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6FC4-1DCF-44F2-878A-3D029AC1D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593-8C57-4AC5-A0C1-0DC16420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D591-B267-4CEA-97D0-7F43AA9E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CB2-A85D-42DB-A1E4-477469369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D939-E456-44E6-8122-C5E3268A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429C-E626-4BE6-A5A2-6A6D5B4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C444-167D-4C15-A53C-2628D3FB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6628-2D97-4D2A-BBFB-571818A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6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99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BCF8-1592-4D41-A7A3-1A12411ABB24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60066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99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60066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ct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 rtl="1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A329-30F2-470C-9038-15384F3DE92C}" type="slidenum">
              <a:rPr b="0" lang="en-US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1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1.wmf"/><Relationship Id="rId13" Type="http://schemas.openxmlformats.org/officeDocument/2006/relationships/package" Target="../embeddings/oleObject7.xlsx"/><Relationship Id="rId14" Type="http://schemas.openxmlformats.org/officeDocument/2006/relationships/image" Target="../media/image11.wmf"/><Relationship Id="rId15" Type="http://schemas.openxmlformats.org/officeDocument/2006/relationships/package" Target="../embeddings/oleObject8.xlsx"/><Relationship Id="rId16" Type="http://schemas.openxmlformats.org/officeDocument/2006/relationships/image" Target="../media/image11.wmf"/><Relationship Id="rId17" Type="http://schemas.openxmlformats.org/officeDocument/2006/relationships/package" Target="../embeddings/oleObject9.xlsx"/><Relationship Id="rId18" Type="http://schemas.openxmlformats.org/officeDocument/2006/relationships/image" Target="../media/image11.wmf"/><Relationship Id="rId19" Type="http://schemas.openxmlformats.org/officeDocument/2006/relationships/package" Target="../embeddings/oleObject10.xlsx"/><Relationship Id="rId20" Type="http://schemas.openxmlformats.org/officeDocument/2006/relationships/image" Target="../media/image11.wmf"/><Relationship Id="rId21" Type="http://schemas.openxmlformats.org/officeDocument/2006/relationships/slideLayout" Target="../slideLayouts/slideLayout5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409720"/>
            <a:ext cx="7772400" cy="1143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000000"/>
                </a:solidFill>
                <a:latin typeface="Impact"/>
              </a:rPr>
              <a:t>الـمــرأة القيـــاديـة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676520" y="609480"/>
            <a:ext cx="6629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تفهم حاجات النساء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2392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فويض وإعطاء الصلاحيات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بعد تفويض بلقيس قالوا : والأمر إليك فانظري ماذا تأمرين ؟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بعد النظر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 لأنها أكثر جمعا للمعلومات)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رب ابن لي عندك بيتا في الجنة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70320" y="0"/>
            <a:ext cx="39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 الحوار والاتصال والتعبير عن المشاعر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قد سمع الله قول التي تجادلك في زوجها وتشتكي إلى الله والله يسمع تحاوركما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سرعة والعمق في بناء العلاقات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525780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قارنة القيادية بين الرجل و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7617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اجع للمقارن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Nature of Managerial work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Henry Mentzberg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the Female Advantage </a:t>
            </a: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by Sally Helgusem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عمل بدرجات متفاوتة من الجهد ولكن بدون انقطاع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بدرجة واحدة من الجهد ولكنها تأخذ فترات راحة قصيرة ومتتابع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تربكه المقاطعات والزيارات أثناء العمل وتؤثر على إنتاجيته وأدائه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تبر الزيارات والمقاطعات فرصة لبناء العلاقات وتفهم احتياجات الأتباع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عمل بشكل كبير ولا يتخلل ذلك أمور أخرى في الغالب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خصص وقتا للأمور الأخرى ومن أهمها متابعة أمور الأس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993300"/>
                </a:solidFill>
                <a:latin typeface="Impact"/>
              </a:rPr>
              <a:t>كرم الإسلام المرأة وأنصفها وأعاد إليها حقوقها</a:t>
            </a:r>
            <a:r>
              <a:rPr b="0" lang="en-US" sz="6000" spc="-1" strike="noStrike">
                <a:solidFill>
                  <a:srgbClr val="993300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90720" y="2971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تابع أداء المهمة تلو المهمة دون تركيز كبير على تقييم الأداء أو النظر المستقبل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قيم كل عمل وتحرص على دراسة الآثار المستقبلية والآثار العامة على الأسرة والبيئة والتعليم وغير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3733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رتبط بعمله بشكل عميق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رتبط بعملها ولكنها ترتبط بأمور كثيرة أخرى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ب الاحتفاظ بالمعلومات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حب تبادل المعلوم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يحرص على التسلسل التنظيمي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عمل من خلال شبكة علاقات وليس التسلس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رجل عن المرأة القيادية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الانطباعات ليست عند جميع الرجال ولكنها شائعة وعلى النساء تصحيحه أو التعامل معها بحكم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صلح للقيادة الوسطى لا العلي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تستطيع قيادة النساء فقط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لا يخضعن إلا للرج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7086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00"/>
                </a:solidFill>
                <a:latin typeface="Impact"/>
              </a:rPr>
              <a:t>أول من أسلم امرأة وأول من استشهد امرأ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غير حاسمة عند اتخاذ القرا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عاطفية في قرارات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مل بجد ولا تصبر على العمل لساعات طويل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68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ستمر في نفس العمل بل ستتركه بعد حين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حزم الكافي للتعامل مع أصحاب المشاك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مزاجية فقد تكون سلبية أو تصبح هجومية دون أسباب وجيه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لغة الأرقام والحسابات والأموا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ملك الثقة الكافية في النفس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الألعاب السياسية اللازمة لإدارة العم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عرف كيف تدير الرجال ؟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Impact"/>
              </a:rPr>
              <a:t>النساء المؤمنات الخالدات نماذج قيادية على مر الزمان</a:t>
            </a:r>
            <a:r>
              <a:rPr b="0" lang="en-US" sz="4400" spc="-1" strike="noStrike">
                <a:solidFill>
                  <a:srgbClr val="660066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رجل ( وخاصة فوق الخمسين ) يشعر بالذل حين ترأسه ا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لا تصلح للمفاوضات فهي تكشف موقفها بسرعة وترضى بسرعة ولينة في مواقف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مشاغل المرأة العائلية تمنعها من أداء الأعمال المه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595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نطباعات المرأة عن المرأة القيادي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أيضا تختلف من امرأة لأخرى وخاصة تجاه رئيستها في العمل ولذا من المهم التعامل مع هذه الانطباعات بحك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راعي ظروف المرأة التي ت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فهم المشاكل التي تمر بها المرأة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مارس التحفيز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شرح ما تريد والأهداف بشكل أفضل من 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هذه محاولة لفهم القدرات والخصائص القيادية لدى ا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قضي مع العاملين معها وقتا أكثر من الرجل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نتبه للأداء الحسن والأداء السيئ بينما الرجل لا ينتبه إلا للسيئ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عامل من حولها كبشر بينما الرجل يعاملهم كآلات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غير متمكنة من عملها كال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متقلبة المزاج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لم كثيرا ولكنها تغتاب وغير صريحة مع من يعمل لديها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خشى على منصبها كثيرا ولذلك لا تساعد أية امرأة ممكن أن تهدد منصبه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68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عاطفية فإذا أحبت رفعت وإذا كرهت فجرت في الخصوم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لا تحفظ الس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رأة القيادية تتكبر على النساء العاملات معها عندما تصل للقياد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صفات القيادية التي تميز المرأة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6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عن وضع النساء </a:t>
            </a:r>
            <a:br>
              <a:rPr sz="4400"/>
            </a:b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للأسف الإحصاءات أمريكية حيث لا توجد إحصاءات كافية في العالم العربي وهي تختلف كثيرا من بلد لآخر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0.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أكبر ألف شركة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البنوك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دور النشر الكبرى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9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قيادات شركات الأغذ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وسطى في أمريكا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قيادات العليا لجميع الشركات الأمريك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فوق النساء على الرجال في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راتب الرجل بنفس الشهادة والكفاء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خلال الاجتماعات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(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تي تضم رجالا و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)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مشاركة والاستشارة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قالت يا أيها الملأ أفتوني في أمري ما كنت قاطعة أمرا حتى تشهدون 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7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قاطعات قام بها الرجال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بينما كانت مقاطعة الرجال في اجتماع رجالي أقل من هذه النسبة ) 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( ومقاطعات النساء في اجتماع نسائي أقل من هذه النسبة )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إلى 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كان المتكلم رجل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75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الحاضرات توهمن أن النساء تكلمن أكثر من الرجا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إحصاءات أخرى هامة للنساء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عند تقييم مقال وزع على عدد كبير من الناس كان التقييم كالتالي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: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8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أعطوا المقال درجة عالية عندما كتب عليه اسم رجل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فقط أعطوا نفس المقال درجة عالية عندما كتب عليه اسم امرأ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نساء يتخذن القرارات في معظم القضايا العائلية بل حتى غيرها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4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أثاث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تحديد مكان السفر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تعاطف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447920" y="762120"/>
          <a:ext cx="5486400" cy="34081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762120"/>
                    <a:ext cx="548640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نزل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شراء الاحتياجات الالكترون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نوع السيار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8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لقرارات الصحية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4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ساهمة المرأة العاملة في ميزانية البي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5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مستعملي الانترنت</a:t>
            </a:r>
            <a:br>
              <a:rPr sz="4400"/>
            </a:b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(وفي ازدياد)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6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مستعملين الجدد للانترنت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90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اختيار المدرسة الخاصة للأولاد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21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 % من النساء يحضرن الدورات والدروس في المعاهد الخاص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فالقوة الاقتصادية للمرأة عالية جدا ومع ذلك معظم المؤسسات التجارية لا تنتبه لذلك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3</a:t>
            </a: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. الإبداع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71600" y="2895480"/>
            <a:ext cx="4191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جدول الصفات الشخصية لدى الرجال والنساء القياديين حسب انطباع العاملين لديهم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541008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رجو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مشترك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828800" y="152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صفات نسائ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76520" y="762120"/>
          <a:ext cx="5562360" cy="761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762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1676520" y="2133720"/>
          <a:ext cx="5562360" cy="7617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1337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1676520" y="4191120"/>
          <a:ext cx="5562360" cy="7617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76520" y="41911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1676520" y="3505320"/>
          <a:ext cx="5562360" cy="7617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35053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1676520" y="2819520"/>
          <a:ext cx="5562360" cy="76176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6520" y="28195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1676520" y="1447920"/>
          <a:ext cx="5562360" cy="76176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76520" y="1447920"/>
                    <a:ext cx="556236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5410080" y="7621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ز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فه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أدب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6576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بداع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28954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قلا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35812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حم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10080" y="350532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سيطر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ركز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ماس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8800" y="4267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ستسلام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752480" y="16002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حساس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65760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التزام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828800" y="22096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عاطف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410080" y="1523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نافس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إخلاص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410080" y="22860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حليل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81280" y="838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كيف 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914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رق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76520" y="4876920"/>
          <a:ext cx="5562360" cy="6094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676520" y="4876920"/>
                    <a:ext cx="55623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676520" y="5445000"/>
          <a:ext cx="5557680" cy="574920"/>
        </p:xfrm>
        <a:graphic>
          <a:graphicData uri="http://schemas.openxmlformats.org/presentationml/2006/ole">
            <p:oleObj progId="Excel.Sheet.12" r:id="rId15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676520" y="5445000"/>
                    <a:ext cx="555768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"/>
          <p:cNvSpPr/>
          <p:nvPr/>
        </p:nvSpPr>
        <p:spPr>
          <a:xfrm>
            <a:off x="541008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شد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410080" y="54100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هجوم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تذمر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657600" y="4952880"/>
            <a:ext cx="1676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كفاء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660066"/>
                </a:solidFill>
                <a:latin typeface="Times New Roman"/>
              </a:rPr>
              <a:t>الاعتماد على الآخرين</a:t>
            </a:r>
            <a:endParaRPr b="0" lang="en-US" sz="2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54864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فاعل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671480" y="5999040"/>
          <a:ext cx="5558040" cy="574920"/>
        </p:xfrm>
        <a:graphic>
          <a:graphicData uri="http://schemas.openxmlformats.org/presentationml/2006/ole">
            <p:oleObj progId="Excel.Sheet.12" r:id="rId1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671480" y="5999040"/>
                    <a:ext cx="5558040" cy="5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6" name=""/>
          <p:cNvSpPr/>
          <p:nvPr/>
        </p:nvSpPr>
        <p:spPr>
          <a:xfrm>
            <a:off x="54100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طق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نه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752480" y="5943600"/>
            <a:ext cx="1676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660066"/>
                </a:solidFill>
                <a:latin typeface="Times New Roman"/>
              </a:rPr>
              <a:t>المزاجية</a:t>
            </a:r>
            <a:endParaRPr b="0" lang="en-US" sz="2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670040" y="209520"/>
          <a:ext cx="5557680" cy="574560"/>
        </p:xfrm>
        <a:graphic>
          <a:graphicData uri="http://schemas.openxmlformats.org/presentationml/2006/ole">
            <p:oleObj progId="Excel.Sheet.12" r:id="rId19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670040" y="209520"/>
                    <a:ext cx="55576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كل هذه المعلومات تعطي بوضوح الدلائل على قدرات المرأة القيادية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Impact"/>
              </a:rPr>
              <a:t>المطلوب تفعيل دورها القيادي مع الالتزام الشرعي لتعيد مجد</a:t>
            </a: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3716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ff00ff"/>
                </a:solidFill>
                <a:latin typeface="Impact"/>
              </a:rPr>
              <a:t>النساء الخالدات</a:t>
            </a:r>
            <a:r>
              <a:rPr b="0" lang="en-US" sz="6000" spc="-1" strike="noStrike">
                <a:solidFill>
                  <a:srgbClr val="ff00ff"/>
                </a:solidFill>
                <a:latin typeface="Impact"/>
              </a:rPr>
              <a:t> </a:t>
            </a:r>
            <a:endParaRPr b="0" lang="en-US" sz="6000" spc="-1" strike="noStrike">
              <a:solidFill>
                <a:srgbClr val="ff00ff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5T05:24:49Z</dcterms:created>
  <dc:creator>user</dc:creator>
  <dc:description/>
  <dc:language>en-US</dc:language>
  <cp:lastModifiedBy>win</cp:lastModifiedBy>
  <dcterms:modified xsi:type="dcterms:W3CDTF">2002-03-23T12:05:53Z</dcterms:modified>
  <cp:revision>20</cp:revision>
  <dc:subject/>
  <dc:title>المرأة القيادية</dc:title>
</cp:coreProperties>
</file>