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81BBF-239D-4EAC-BD6F-0C3C62AE7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FEE93-8217-4D02-B266-4390444B4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0DD50-E56E-41A9-929A-AEE682A81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DAF8B-B94B-4860-BF35-45E1021C0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30EE0-4257-4ABE-A5E3-D05A2E017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0392A-9DD7-483D-B1C6-63C2828E1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1E4E5-809A-492E-A974-5DCD1F1E1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B0BC5-BB41-44DC-9D8D-5BE325A74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B7B0E-BF83-4D9E-A605-F340EF749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426EA-C220-4A8A-9E70-C4729B13D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0193C-E84D-4F27-9B42-59F08CC44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C869F-5DAC-4F28-BD35-24B7102E3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C0BC0-D891-4C49-A9D0-DB791ADB7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FE063-CD4C-463E-B627-CDD79AF6C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82B8F-F17E-4505-8AF8-97B9FB652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96375-34A2-42B0-8CAC-ECBF57085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B6B28-2D0F-4384-B589-2DB25F080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61591-61DB-47B0-9F33-782B6A674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193D6-583D-47CA-9B4E-F26BB6CA1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0CB01-0BCC-4F1D-92C8-298D4D131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AB054-D91E-47A3-9531-D43C981BC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70F54-53D6-4566-BBC8-05AC99936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C5A0A-C1CD-4629-823A-7879658B2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842A2-A9D4-435C-B864-D4BC087AF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A0AC5-61E8-4C9A-96B0-48C1AF0B3EC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5D366-37AA-4AAD-A94C-76DA7E7B789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 rtl="1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 rtl="1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0000" spc="-1" strike="noStrike">
                <a:solidFill>
                  <a:srgbClr val="99ff33"/>
                </a:solidFill>
                <a:latin typeface="AXtNadaOutlineItalic"/>
                <a:cs typeface="AXtNadaOutlineItalic"/>
              </a:rPr>
              <a:t>الخلفاء</a:t>
            </a:r>
            <a:r>
              <a:rPr b="1" lang="en-US" sz="10000" spc="-1" strike="noStrike">
                <a:solidFill>
                  <a:srgbClr val="99ff33"/>
                </a:solidFill>
                <a:latin typeface="AXtNadaOutlineItalic"/>
                <a:ea typeface="AXtNadaOutlineItalic"/>
              </a:rPr>
              <a:t></a:t>
            </a:r>
            <a:r>
              <a:rPr b="1" lang="hi-IN" sz="10000" spc="-1" strike="noStrike">
                <a:solidFill>
                  <a:srgbClr val="99ff33"/>
                </a:solidFill>
                <a:latin typeface="AXtNadaOutlineItalic"/>
                <a:cs typeface="AXtNadaOutlineItalic"/>
              </a:rPr>
              <a:t>الراشدون</a:t>
            </a:r>
            <a:endParaRPr b="0" lang="en-US" sz="10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3886200"/>
            <a:ext cx="80773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99ff33"/>
                </a:solidFill>
                <a:latin typeface="Arial"/>
              </a:rPr>
              <a:t>40-11</a:t>
            </a:r>
            <a:r>
              <a:rPr b="0" lang="hi-IN" sz="7200" spc="-1" strike="noStrike">
                <a:solidFill>
                  <a:srgbClr val="99ff33"/>
                </a:solidFill>
                <a:latin typeface="Arial"/>
              </a:rPr>
              <a:t>هـ/</a:t>
            </a:r>
            <a:r>
              <a:rPr b="0" lang="en-US" sz="7200" spc="-1" strike="noStrike">
                <a:solidFill>
                  <a:srgbClr val="99ff33"/>
                </a:solidFill>
                <a:latin typeface="Arial"/>
              </a:rPr>
              <a:t>661</a:t>
            </a:r>
            <a:r>
              <a:rPr b="0" lang="en-US" sz="7200" spc="-1" strike="noStrike">
                <a:solidFill>
                  <a:srgbClr val="99ff33"/>
                </a:solidFill>
                <a:latin typeface="Arial"/>
              </a:rPr>
              <a:t>-</a:t>
            </a:r>
            <a:r>
              <a:rPr b="0" lang="en-US" sz="7200" spc="-1" strike="noStrike">
                <a:solidFill>
                  <a:srgbClr val="99ff33"/>
                </a:solidFill>
                <a:latin typeface="Arial"/>
              </a:rPr>
              <a:t>632</a:t>
            </a:r>
            <a:r>
              <a:rPr b="0" lang="hi-IN" sz="7200" spc="-1" strike="noStrike">
                <a:solidFill>
                  <a:srgbClr val="99ff33"/>
                </a:solidFill>
                <a:latin typeface="Arial"/>
              </a:rPr>
              <a:t>م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-360" y="685800"/>
            <a:ext cx="89946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295560" algn="just" rtl="1">
              <a:lnSpc>
                <a:spcPct val="85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بعد أن رجع أبو بكر من الحج وجه الجنود إلى الشام تحت قيادة خالد بن سعيد بن العاص و كان أول لواء عقده إلى الشام و لكن أبا بكر عزله قبل أن يسير و كان سبب عزله انه تأخر عن بيعة أبي بكر شهرين، ولما عزله عن الإمارة أمره أن ينزل ارض تيماء و أن يدعو من حوله من العرب بالانضمام إليه و ألا يقبل إلا ممن لم يرتد ولا يقاتل إلا من قاتله ، حتى يأتيه أمره فأقام فاجتمعت إليه جموع كثيرة و بلغ الروم عظم ذلك الجيش فاستفزوهم أيضاً قبائل العرب المتنصرة في بلاد الشام على المسلمين و ليكونوا كبش فداء لهم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-295560" algn="just" rtl="1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أرسل أبو بكر عكرمة بن أبي جهل و الوليد بن عقبه لإمداد خالد في الشمال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-295560" algn="just" rtl="1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 وبعد وصول المدد إلى قوات خالد بن سعيد أسرع للغزو فوقع في شرك باهان – بطريق الروم- و كان قد وصل إلى مرج الصفر فأوقعت الهزيمة بجيش المسلمين مما اضطر خالد إلى الرجوع للمدينــة و بقي عكرمة رداءً للجيش بدل خالد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-295560" algn="r" rtl="1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عقد الخليفة أبي بكر الصديق لفتح الشام أربعة ألوية لأربعة أمراء هم 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. جيش أبي عبيدة عامربن الجراح رضي الله عنه في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7000</a:t>
            </a: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جندي ووجهته إلى حم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. جيش يزيد بن أبي سفيان رضي الله عنه في 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7000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 جندي ووجهته إلى دمشق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. جيش شرحبيل بن حسنة رضي الله عنه في 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7000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  جندي ووجهته إلى الأردن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. جيش عمرو بن العاص رضي الله عنه في 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7000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 جندي ووجهته إلى فلسطين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و كان أبو عبيدة اميراً على الجميع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581280" y="0"/>
            <a:ext cx="53834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9900"/>
                </a:solidFill>
                <a:latin typeface="Arial"/>
              </a:rPr>
              <a:t>غزوة الشام (سنة </a:t>
            </a: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12</a:t>
            </a: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-</a:t>
            </a: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13</a:t>
            </a:r>
            <a:r>
              <a:rPr b="1" lang="hi-IN" sz="3600" spc="-1" strike="noStrike">
                <a:solidFill>
                  <a:srgbClr val="ff9900"/>
                </a:solidFill>
                <a:latin typeface="Arial"/>
              </a:rPr>
              <a:t>هـ)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الخلفاء الراشدون_غزوة الشام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CFC87-7034-41B3-9D6E-41EDB1BACB65}" type="slidenum">
              <a:t>2</a:t>
            </a:fld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4800600" y="152280"/>
            <a:ext cx="41641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9900"/>
                </a:solidFill>
                <a:latin typeface="Arial"/>
              </a:rPr>
              <a:t>معركتا العربة وداثن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920" y="914400"/>
            <a:ext cx="854064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370800" indent="-37080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سارت القوات الرومية بثلاثة آلاف مقاتل إلى غزة لتنضم تحت لواء البطريق الرومي (سر جيوس) لقتال المسلمين فيها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0800" indent="-37080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تحرك جيش أبي عبيدة عامر بن الجراح من الجابية و المناطق المحيطة بها للتصدي للقوات الرومية المتجهة إلى العربة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0800" indent="-37080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تحرك جيش يزيد بن أبي سفيان من ارض البلقاء و ما حولها للتصدي للقوات الرومية المتجهة أيضاً إلى العربة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0800" indent="-37080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حققت القوات الإسلامية في معركة العربة انتصاراً على الروم ثم اتجهت إلى دافن (الداثنة) من قرى غزة و تلتقي بفلول جيش الروم و توقع به الهزيمة الثانية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0800" indent="-37080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أما جيش عمرو بن العاص فقد وصل إلى فلسطين تتقدمه قوة استطلاعية على رأسها عبد الله بن عمر و لدى وصول هذا الجيش خاض مع جحافل الروم المؤلفة من مائة إلف مقاتل معركة خرج فيها المسلمون منتصرين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0800" indent="-37080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حققت القوات الإسلامية في معركة العربة انتصاراً على الروم ثم اتجهت إلى دائن (الداثنة) من قرى غزة و تلتقي بفلول جيش الروم و توقع به الهزيمة الثانية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الخلفاء الراشدون_غزوة الشام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03449-8355-4319-B950-6C4656647C8C}" type="slidenum">
              <a:t>3</a:t>
            </a:fld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04920" y="380880"/>
            <a:ext cx="854064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55680" indent="-35568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أما جيش عمرو بن العاص فقد وصل إلى فلسطين تتقدمه قوة استطلاعية على رأسها عبد الله بن عمر و لدى وصول هذا الجيش خاض مع جحافل الروم المؤلفة من مائة إلف مقاتل معركة خرج فيها المسلمون منتصرين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و بعد هذه المعركة توجه كل جيش إلى الجهة التي خصص لها فأعد الروم العدة للقاء المسلمين و عندما اطلع أبو عبيدة الخليفة أبا بكر على الموقف اصدر الخليفة أوامره إلى خالد بن الوليد الذي كان يقود جيوش الفتح في العراق بأن يتوجه إلى بلاد الشام و أن يتولى أمر القيادة ، حيث كانت قوات المسلمين موزعة في الأقاليم المخصصة لها . أما قوات الروم فقد توزعت في ناحيتين الناحية الأولى: على الساحل و هدفها ملاقاة عمرو بن العاص في ارض فلسطين. أما الناحية الثانية : ووجهتها حمص و بعلبك و دمشق و الهدف من ذلك شل قوات عمرو بن العاص ثم الالتفاف حول بقية جيوش المسلمين في سهل اليرموك على أن يظل عمرو بن العاص في فلسطين لصد تقدم القوات الرومية تجاهه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و هنا اتخذ خالد بن الوليد التخطيط القتالي السريع للمجابهة مستخدماً اكبر عدد من الجند و من ابرز المعارك التي خاضها ضد الروم .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الخلفاء الراشدون_غزوة الشام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F6188-15AF-4F1B-9958-0A8471B37B76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6400800" y="228600"/>
            <a:ext cx="25639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9900"/>
                </a:solidFill>
                <a:latin typeface="Arial"/>
              </a:rPr>
              <a:t>معركة أجنادين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990720"/>
            <a:ext cx="876312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63600" indent="-313920" algn="just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cc3300"/>
                </a:solidFill>
                <a:latin typeface="Arial"/>
              </a:rPr>
              <a:t>في جمادي الأولى من السنة الثالثة عشر للهجرة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3600" indent="-31392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عندما بدأ زحف الروم جنوباً للقاء عمر بن العاص أدرك خالد بن الوليد مدى ضخامة جيش الروم لذا صمم على إلقاء ثقل المسلمين في المعركة و زحف بقواته نحو اجنادين و نظم خالد جيشه بطريقته المعهودة ميمنة و ميسرة و قلباً و مقدمه كما نظم الفرسان إلى فريقين و كان جيش الروم ضعف جيش المسلمين أو يزيد و مع ذلك حقق خالد انتصاراً عليهم و قتل قائدهم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3600" indent="-31392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و كانت هذه المعركة من المعارك الحاسمة التي قررت مصير فلسطين أبان الفتح الإسلامي لبلاد الشام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الخلفاء الراشدون_غزوة الشام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6CB42-E1A1-4786-8BDD-678304DF64CB}" type="slidenum">
              <a:t>5</a:t>
            </a:fld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5867280" y="304920"/>
            <a:ext cx="30974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9900"/>
                </a:solidFill>
                <a:latin typeface="Arial"/>
              </a:rPr>
              <a:t>معركة اليرموك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880" y="914400"/>
            <a:ext cx="868680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412560" indent="-412560" algn="just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c3300"/>
                </a:solidFill>
                <a:latin typeface="Arial"/>
              </a:rPr>
              <a:t>في شهر رجب من السنة الثالثة عشر للهجرة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2560" indent="-41256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سار خالد بن الوليد على رأس جيش كبير يتكون من عشرة آلاف مقاتل أدرك به المسلمين في اليرموك و قاتل الروم و صادف مجيئه أن هرقل كان قد عزز جيشه بتعيين ماهان – قائد رومي في عرف بالشجاعة و الأقدام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2560" indent="-41256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و لما قدم خالد بن الوليد بجيشه إلى الشام وجد المسلمين يقاتلون متساندين من فرتب الجيش و قسمه إلى كراديس فرق كل فرقة مؤلفة من إلف رجل و جعل لكل فرقة رجلاً ممن اشتهر بالشجاعة و الأقدام فجعل أبا عبيدة في القلب و عمرو بن العاص على الميمنة و يزيد بن أبي سفيان على الميسرة ثم دارت رحى القتال و اشتركت النساء مع الرجال لصد هجمات العدو الذي اضطرهم إلى التقهقر عدة مرات.  و بعد أن لحقت الهزيمة بالروم جاء يوم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الواقوصة</a:t>
            </a: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 و هو اليوم الذي كتب فيه النصر للعرب حيث قتل من جند الروم مائة و عشرين ألفاً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2560" indent="-41256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و في أثناء قتال العرب في اليرموك أتاهم نعي أبي بكر </a:t>
            </a:r>
            <a:r>
              <a:rPr b="0" lang="ar-SA" sz="2400" spc="-1" strike="noStrike">
                <a:solidFill>
                  <a:srgbClr val="cc3300"/>
                </a:solidFill>
                <a:latin typeface="Arial"/>
              </a:rPr>
              <a:t>سنة </a:t>
            </a:r>
            <a:r>
              <a:rPr b="0" lang="ar-SA" sz="2400" spc="-1" strike="noStrike">
                <a:solidFill>
                  <a:srgbClr val="cc3300"/>
                </a:solidFill>
                <a:latin typeface="Arial"/>
              </a:rPr>
              <a:t>13</a:t>
            </a:r>
            <a:r>
              <a:rPr b="0" lang="ar-SA" sz="2400" spc="-1" strike="noStrike">
                <a:solidFill>
                  <a:srgbClr val="cc3300"/>
                </a:solidFill>
                <a:latin typeface="Arial"/>
              </a:rPr>
              <a:t>هـ</a:t>
            </a: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 وتولية عمر بن الخطاب الخلافة فعزل خالد عن القيادة وولي مكانه أبا عبيدة .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الخلفاء الراشدون_غزوة الشام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B571A-223E-4CF8-AA07-AD244CA1C46D}" type="slidenum">
              <a:t>6</a:t>
            </a:fld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0T17:12:32Z</dcterms:created>
  <dc:creator> </dc:creator>
  <dc:description/>
  <dc:language>en-US</dc:language>
  <cp:lastModifiedBy> </cp:lastModifiedBy>
  <dcterms:modified xsi:type="dcterms:W3CDTF">2006-11-24T09:09:53Z</dcterms:modified>
  <cp:revision>43</cp:revision>
  <dc:subject/>
  <dc:title>Slide 1</dc:title>
</cp:coreProperties>
</file>