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DC991-11CF-438E-A76F-C3705C8F0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52D5A-EE8E-4D3F-BB7B-7610705F9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2C8B8-EA19-4A66-A8D0-7C6258A3A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4E063-DAD2-446B-A8A4-320FA7C25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877DD-EDB7-4D8D-9F0B-E71FA9B48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1878F-95F5-4F47-A311-B709BD8AF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0FBD6-14BB-41D1-A729-9F82D3FDA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A0D28-E32A-4054-AE9B-FF0FF06C7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C3301-E462-4385-BCBB-3B4704252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19E3C-8BBA-43E9-BF39-79E308735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08873-3615-4538-8F45-2C99E2F6A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67F65-2263-4924-8958-F84E7BC2B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EE3DE-BA82-4E3F-A77A-B5DD291A1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859CE-4D6E-4044-9033-342049451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14179-0850-4EDC-97A2-D2624D64C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CB2AC-51C1-4F9A-AFA2-F4841A112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5954D-606D-4089-A9C1-469413873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FFD39-4322-439A-AA63-8EC7AC685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FC216-8BC2-455A-A345-2AAEF9C5C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A5E82-0490-4E2C-AA4D-E20D4FF23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25DCD-07C2-44E4-821A-C4F9044AD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B7A90-8169-4761-AD7A-31FDFAB64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3E9EF-CA16-4A91-81CD-260B84001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41BCB-619F-411F-9FCA-07FE2DB3E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98AF8-C70C-400D-8469-36005FAE842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16C40-EBA9-4C36-B52A-A7CB2725615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 rtl="1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 rtl="1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0000" spc="-1" strike="noStrike">
                <a:solidFill>
                  <a:srgbClr val="99ff33"/>
                </a:solidFill>
                <a:latin typeface="AXtNadaOutlineItalic"/>
                <a:cs typeface="AXtNadaOutlineItalic"/>
              </a:rPr>
              <a:t>الخلفاء</a:t>
            </a:r>
            <a:r>
              <a:rPr b="1" lang="en-US" sz="10000" spc="-1" strike="noStrike">
                <a:solidFill>
                  <a:srgbClr val="99ff33"/>
                </a:solidFill>
                <a:latin typeface="AXtNadaOutlineItalic"/>
                <a:ea typeface="AXtNadaOutlineItalic"/>
              </a:rPr>
              <a:t></a:t>
            </a:r>
            <a:r>
              <a:rPr b="1" lang="hi-IN" sz="10000" spc="-1" strike="noStrike">
                <a:solidFill>
                  <a:srgbClr val="99ff33"/>
                </a:solidFill>
                <a:latin typeface="AXtNadaOutlineItalic"/>
                <a:cs typeface="AXtNadaOutlineItalic"/>
              </a:rPr>
              <a:t>الراشدون</a:t>
            </a:r>
            <a:endParaRPr b="0" lang="en-US" sz="10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3886200"/>
            <a:ext cx="80773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99ff33"/>
                </a:solidFill>
                <a:latin typeface="Arial"/>
              </a:rPr>
              <a:t>40-11</a:t>
            </a:r>
            <a:r>
              <a:rPr b="0" lang="hi-IN" sz="7200" spc="-1" strike="noStrike">
                <a:solidFill>
                  <a:srgbClr val="99ff33"/>
                </a:solidFill>
                <a:latin typeface="Arial"/>
              </a:rPr>
              <a:t>هـ/</a:t>
            </a:r>
            <a:r>
              <a:rPr b="0" lang="en-US" sz="7200" spc="-1" strike="noStrike">
                <a:solidFill>
                  <a:srgbClr val="99ff33"/>
                </a:solidFill>
                <a:latin typeface="Arial"/>
              </a:rPr>
              <a:t>661</a:t>
            </a:r>
            <a:r>
              <a:rPr b="0" lang="en-US" sz="7200" spc="-1" strike="noStrike">
                <a:solidFill>
                  <a:srgbClr val="99ff33"/>
                </a:solidFill>
                <a:latin typeface="Arial"/>
              </a:rPr>
              <a:t>-</a:t>
            </a:r>
            <a:r>
              <a:rPr b="0" lang="en-US" sz="7200" spc="-1" strike="noStrike">
                <a:solidFill>
                  <a:srgbClr val="99ff33"/>
                </a:solidFill>
                <a:latin typeface="Arial"/>
              </a:rPr>
              <a:t>632</a:t>
            </a:r>
            <a:r>
              <a:rPr b="0" lang="hi-IN" sz="7200" spc="-1" strike="noStrike">
                <a:solidFill>
                  <a:srgbClr val="99ff33"/>
                </a:solidFill>
                <a:latin typeface="Arial"/>
              </a:rPr>
              <a:t>م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-360" y="685800"/>
            <a:ext cx="89946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295560" algn="just" rtl="1">
              <a:lnSpc>
                <a:spcPct val="85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بعد أن رجع أبو بكر من الحج وجه الجنود إلى الشام تحت قيادة خالد بن سعيد بن العاص و كان أول لواء عقده إلى الشام و لكن أبا بكر عزله قبل أن يسير و كان سبب عزله انه تأخر عن بيعة أبي بكر شهرين، ولما عزله عن الإمارة أمره أن ينزل ارض تيماء و أن يدعو من حوله من العرب بالانضمام إليه و ألا يقبل إلا ممن لم يرتد ولا يقاتل إلا من قاتله ، حتى يأتيه أمره فأقام فاجتمعت إليه جموع كثيرة و بلغ الروم عظم ذلك الجيش فاستفزوهم أيضاً قبائل العرب المتنصرة في بلاد الشام على المسلمين و ليكونوا كبش فداء لهم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-295560" algn="just" rtl="1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أرسل أبو بكر عكرمة بن أبي جهل و الوليد بن عقبه لإمداد خالد في الشمال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-295560" algn="just" rtl="1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 وبعد وصول المدد إلى قوات خالد بن سعيد أسرع للغزو فوقع في شرك باهان – بطريق الروم- و كان قد وصل إلى مرج الصفر فأوقعت الهزيمة بجيش المسلمين مما اضطر خالد إلى الرجوع للمدينــة و بقي عكرمة رداءً للجيش بدل خالد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-295560" algn="r" rtl="1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عقد الخليفة أبي بكر الصديق لفتح الشام أربعة ألوية لأربعة أمراء هم 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. جيش أبي عبيدة عامربن الجراح رضي الله عنه في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7000</a:t>
            </a: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جندي ووجهته إلى حم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. جيش يزيد بن أبي سفيان رضي الله عنه في 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7000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 جندي ووجهته إلى دمشق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. جيش شرحبيل بن حسنة رضي الله عنه في 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7000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  جندي ووجهته إلى الأردن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. جيش عمرو بن العاص رضي الله عنه في 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7000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 جندي ووجهته إلى فلسطين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و كان أبو عبيدة اميراً على الجميع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581280" y="0"/>
            <a:ext cx="53834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9900"/>
                </a:solidFill>
                <a:latin typeface="Arial"/>
              </a:rPr>
              <a:t>غزوة الشام (سنة </a:t>
            </a: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12</a:t>
            </a: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-</a:t>
            </a: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13</a:t>
            </a:r>
            <a:r>
              <a:rPr b="1" lang="hi-IN" sz="3600" spc="-1" strike="noStrike">
                <a:solidFill>
                  <a:srgbClr val="ff9900"/>
                </a:solidFill>
                <a:latin typeface="Arial"/>
              </a:rPr>
              <a:t>هـ)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الخلفاء الراشدون_غزوة الشام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01379-40E1-414B-85C2-D1311B4955E1}" type="slidenum">
              <a:t>2</a:t>
            </a:fld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4800600" y="152280"/>
            <a:ext cx="41641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9900"/>
                </a:solidFill>
                <a:latin typeface="Arial"/>
              </a:rPr>
              <a:t>معركتا العربة وداثن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920" y="914400"/>
            <a:ext cx="854064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370800" indent="-37080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سارت القوات الرومية بثلاثة آلاف مقاتل إلى غزة لتنضم تحت لواء البطريق الرومي (سر جيوس) لقتال المسلمين فيها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0800" indent="-37080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تحرك جيش أبي عبيدة عامر بن الجراح من الجابية و المناطق المحيطة بها للتصدي للقوات الرومية المتجهة إلى العربة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0800" indent="-37080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تحرك جيش يزيد بن أبي سفيان من ارض البلقاء و ما حولها للتصدي للقوات الرومية المتجهة أيضاً إلى العربة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0800" indent="-37080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حققت القوات الإسلامية في معركة العربة انتصاراً على الروم ثم اتجهت إلى دافن (الداثنة) من قرى غزة و تلتقي بفلول جيش الروم و توقع به الهزيمة الثانية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0800" indent="-37080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أما جيش عمرو بن العاص فقد وصل إلى فلسطين تتقدمه قوة استطلاعية على رأسها عبد الله بن عمر و لدى وصول هذا الجيش خاض مع جحافل الروم المؤلفة من مائة إلف مقاتل معركة خرج فيها المسلمون منتصرين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0800" indent="-37080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حققت القوات الإسلامية في معركة العربة انتصاراً على الروم ثم اتجهت إلى دائن (الداثنة) من قرى غزة و تلتقي بفلول جيش الروم و توقع به الهزيمة الثانية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الخلفاء الراشدون_غزوة الشام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BF8E8-43D1-4938-BD8A-2C8FD761DEDE}" type="slidenum">
              <a:t>3</a:t>
            </a:fld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04920" y="380880"/>
            <a:ext cx="854064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55680" indent="-35568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أما جيش عمرو بن العاص فقد وصل إلى فلسطين تتقدمه قوة استطلاعية على رأسها عبد الله بن عمر و لدى وصول هذا الجيش خاض مع جحافل الروم المؤلفة من مائة إلف مقاتل معركة خرج فيها المسلمون منتصرين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و بعد هذه المعركة توجه كل جيش إلى الجهة التي خصص لها فأعد الروم العدة للقاء المسلمين و عندما اطلع أبو عبيدة الخليفة أبا بكر على الموقف اصدر الخليفة أوامره إلى خالد بن الوليد الذي كان يقود جيوش الفتح في العراق بأن يتوجه إلى بلاد الشام و أن يتولى أمر القيادة ، حيث كانت قوات المسلمين موزعة في الأقاليم المخصصة لها . أما قوات الروم فقد توزعت في ناحيتين الناحية الأولى: على الساحل و هدفها ملاقاة عمرو بن العاص في ارض فلسطين. أما الناحية الثانية : ووجهتها حمص و بعلبك و دمشق و الهدف من ذلك شل قوات عمرو بن العاص ثم الالتفاف حول بقية جيوش المسلمين في سهل اليرموك على أن يظل عمرو بن العاص في فلسطين لصد تقدم القوات الرومية تجاهه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و هنا اتخذ خالد بن الوليد التخطيط القتالي السريع للمجابهة مستخدماً اكبر عدد من الجند و من ابرز المعارك التي خاضها ضد الروم .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الخلفاء الراشدون_غزوة الشام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D8976-B3F9-44DF-881E-A4D73FAF2044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6400800" y="228600"/>
            <a:ext cx="25639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9900"/>
                </a:solidFill>
                <a:latin typeface="Arial"/>
              </a:rPr>
              <a:t>معركة أجنادين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990720"/>
            <a:ext cx="876312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63600" indent="-313920" algn="just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cc3300"/>
                </a:solidFill>
                <a:latin typeface="Arial"/>
              </a:rPr>
              <a:t>في جمادي الأولى من السنة الثالثة عشر للهجرة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3600" indent="-31392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عندما بدأ زحف الروم جنوباً للقاء عمر بن العاص أدرك خالد بن الوليد مدى ضخامة جيش الروم لذا صمم على إلقاء ثقل المسلمين في المعركة و زحف بقواته نحو اجنادين و نظم خالد جيشه بطريقته المعهودة ميمنة و ميسرة و قلباً و مقدمه كما نظم الفرسان إلى فريقين و كان جيش الروم ضعف جيش المسلمين أو يزيد و مع ذلك حقق خالد انتصاراً عليهم و قتل قائدهم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3600" indent="-31392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و كانت هذه المعركة من المعارك الحاسمة التي قررت مصير فلسطين أبان الفتح الإسلامي لبلاد الشام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الخلفاء الراشدون_غزوة الشام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80F75-91F8-43F2-8A72-9DA4451F4C06}" type="slidenum">
              <a:t>5</a:t>
            </a:fld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5867280" y="304920"/>
            <a:ext cx="30974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9900"/>
                </a:solidFill>
                <a:latin typeface="Arial"/>
              </a:rPr>
              <a:t>معركة اليرموك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880" y="914400"/>
            <a:ext cx="868680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412560" indent="-412560" algn="just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c3300"/>
                </a:solidFill>
                <a:latin typeface="Arial"/>
              </a:rPr>
              <a:t>في شهر رجب من السنة الثالثة عشر للهجرة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2560" indent="-41256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سار خالد بن الوليد على رأس جيش كبير يتكون من عشرة آلاف مقاتل أدرك به المسلمين في اليرموك و قاتل الروم و صادف مجيئه أن هرقل كان قد عزز جيشه بتعيين ماهان – قائد رومي في عرف بالشجاعة و الأقدام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2560" indent="-41256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و لما قدم خالد بن الوليد بجيشه إلى الشام وجد المسلمين يقاتلون متساندين من فرتب الجيش و قسمه إلى كراديس فرق كل فرقة مؤلفة من إلف رجل و جعل لكل فرقة رجلاً ممن اشتهر بالشجاعة و الأقدام فجعل أبا عبيدة في القلب و عمرو بن العاص على الميمنة و يزيد بن أبي سفيان على الميسرة ثم دارت رحى القتال و اشتركت النساء مع الرجال لصد هجمات العدو الذي اضطرهم إلى التقهقر عدة مرات.  و بعد أن لحقت الهزيمة بالروم جاء يوم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الواقوصة</a:t>
            </a: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 و هو اليوم الذي كتب فيه النصر للعرب حيث قتل من جند الروم مائة و عشرين ألفاً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2560" indent="-41256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و في أثناء قتال العرب في اليرموك أتاهم نعي أبي بكر </a:t>
            </a:r>
            <a:r>
              <a:rPr b="0" lang="ar-SA" sz="2400" spc="-1" strike="noStrike">
                <a:solidFill>
                  <a:srgbClr val="cc3300"/>
                </a:solidFill>
                <a:latin typeface="Arial"/>
              </a:rPr>
              <a:t>سنة </a:t>
            </a:r>
            <a:r>
              <a:rPr b="0" lang="ar-SA" sz="2400" spc="-1" strike="noStrike">
                <a:solidFill>
                  <a:srgbClr val="cc3300"/>
                </a:solidFill>
                <a:latin typeface="Arial"/>
              </a:rPr>
              <a:t>13</a:t>
            </a:r>
            <a:r>
              <a:rPr b="0" lang="ar-SA" sz="2400" spc="-1" strike="noStrike">
                <a:solidFill>
                  <a:srgbClr val="cc3300"/>
                </a:solidFill>
                <a:latin typeface="Arial"/>
              </a:rPr>
              <a:t>هـ</a:t>
            </a: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 وتولية عمر بن الخطاب الخلافة فعزل خالد عن القيادة وولي مكانه أبا عبيدة .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الخلفاء الراشدون_غزوة الشام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1747B-3D3F-4F03-B679-B446540ACB79}" type="slidenum">
              <a:t>6</a:t>
            </a:fld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0T17:12:32Z</dcterms:created>
  <dc:creator> </dc:creator>
  <dc:description/>
  <dc:language>en-US</dc:language>
  <cp:lastModifiedBy> </cp:lastModifiedBy>
  <dcterms:modified xsi:type="dcterms:W3CDTF">2006-11-24T09:09:53Z</dcterms:modified>
  <cp:revision>43</cp:revision>
  <dc:subject/>
  <dc:title>Slide 1</dc:title>
</cp:coreProperties>
</file>