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B091-AC9C-4615-9E1A-251BB1981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5967-B3DD-4D79-8E78-663E3912E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193C-6C54-406D-9824-65FAD9D23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2F6D-1924-4FA4-A36C-B2090DCE4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B214D-58BE-4776-A95D-C40F1AE06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E66BD-FC53-4C37-B066-3390C7E73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8B5D8-85AA-462E-A6DE-761C38239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09953-2C63-44A1-8665-76BDA705C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46ACF-C614-4BEB-A454-8717BF9E8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0DDB5-1FFA-4D79-BCA8-825606E7A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B0083-0864-4BB5-A32B-85F7C3BC9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242E-80AF-4F9F-9150-A234DAD55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0B0CC-CFF7-444C-88F5-5CD86B80F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F4E4D-BF1C-4A17-9ED5-E682456E5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EA3FD-B5F5-4448-8B96-DE8F74CEF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0CFF9-8434-4808-AA16-CDEBC4022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388CA-2345-4BD7-AC29-F3B3CE475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CBAE-0A36-4AF5-94E5-06CEDFC8F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B395-047F-48B5-9E25-7EBADC842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628C-15CD-493F-B504-02A0EE21A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95D4-3BE1-4807-AAD6-54D9C9131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8514-5834-451E-8D8C-7ACD1D312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6C1D-4F5E-4366-B9C4-B6D778A2A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BA6C-C9E1-4E17-9DF9-E9AF74960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140C4-D75A-4706-BFDA-09501B5721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B47D0-1F4F-481D-B415-1D0BA031BC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99ff33"/>
                </a:solidFill>
                <a:latin typeface="AXtNadaOutlineItalic"/>
                <a:cs typeface="AXtNadaOutlineItalic"/>
              </a:rPr>
              <a:t>الخلفاء</a:t>
            </a:r>
            <a:r>
              <a:rPr b="1" lang="en-US" sz="10000" spc="-1" strike="noStrike">
                <a:solidFill>
                  <a:srgbClr val="99ff33"/>
                </a:solidFill>
                <a:latin typeface="AXtNadaOutlineItalic"/>
                <a:ea typeface="AXtNadaOutlineItalic"/>
              </a:rPr>
              <a:t></a:t>
            </a:r>
            <a:r>
              <a:rPr b="1" lang="hi-IN" sz="10000" spc="-1" strike="noStrike">
                <a:solidFill>
                  <a:srgbClr val="99ff33"/>
                </a:solidFill>
                <a:latin typeface="AXtNadaOutlineItalic"/>
                <a:cs typeface="AXtNadaOutlineItalic"/>
              </a:rPr>
              <a:t>الراشدون</a:t>
            </a:r>
            <a:endParaRPr b="0" lang="en-US" sz="10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3886200"/>
            <a:ext cx="80773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99ff33"/>
                </a:solidFill>
                <a:latin typeface="Arial"/>
              </a:rPr>
              <a:t>40-11</a:t>
            </a:r>
            <a:r>
              <a:rPr b="0" lang="hi-IN" sz="7200" spc="-1" strike="noStrike">
                <a:solidFill>
                  <a:srgbClr val="99ff33"/>
                </a:solidFill>
                <a:latin typeface="Arial"/>
              </a:rPr>
              <a:t>هـ/</a:t>
            </a:r>
            <a:r>
              <a:rPr b="0" lang="en-US" sz="7200" spc="-1" strike="noStrike">
                <a:solidFill>
                  <a:srgbClr val="99ff33"/>
                </a:solidFill>
                <a:latin typeface="Arial"/>
              </a:rPr>
              <a:t>661</a:t>
            </a:r>
            <a:r>
              <a:rPr b="0" lang="en-US" sz="7200" spc="-1" strike="noStrike">
                <a:solidFill>
                  <a:srgbClr val="99ff33"/>
                </a:solidFill>
                <a:latin typeface="Arial"/>
              </a:rPr>
              <a:t>-</a:t>
            </a:r>
            <a:r>
              <a:rPr b="0" lang="en-US" sz="7200" spc="-1" strike="noStrike">
                <a:solidFill>
                  <a:srgbClr val="99ff33"/>
                </a:solidFill>
                <a:latin typeface="Arial"/>
              </a:rPr>
              <a:t>632</a:t>
            </a:r>
            <a:r>
              <a:rPr b="0" lang="hi-IN" sz="7200" spc="-1" strike="noStrike">
                <a:solidFill>
                  <a:srgbClr val="99ff33"/>
                </a:solidFill>
                <a:latin typeface="Arial"/>
              </a:rPr>
              <a:t>م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-360" y="685800"/>
            <a:ext cx="89946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295560" algn="just" rtl="1">
              <a:lnSpc>
                <a:spcPct val="85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بعد أن رجع أبو بكر من الحج وجه الجنود إلى الشام تحت قيادة خالد بن سعيد بن العاص و كان أول لواء عقده إلى الشام و لكن أبا بكر عزله قبل أن يسير و كان سبب عزله انه تأخر عن بيعة أبي بكر شهرين، ولما عزله عن الإمارة أمره أن ينزل ارض تيماء و أن يدعو من حوله من العرب بالانضمام إليه و ألا يقبل إلا ممن لم يرتد ولا يقاتل إلا من قاتله ، حتى يأتيه أمره فأقام فاجتمعت إليه جموع كثيرة و بلغ الروم عظم ذلك الجيش فاستفزوهم أيضاً قبائل العرب المتنصرة في بلاد الشام على المسلمين و ليكونوا كبش فداء لهم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-295560" algn="just" rtl="1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أرسل أبو بكر عكرمة بن أبي جهل و الوليد بن عقبه لإمداد خالد في الشمال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-295560" algn="just" rtl="1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وبعد وصول المدد إلى قوات خالد بن سعيد أسرع للغزو فوقع في شرك باهان – بطريق الروم- و كان قد وصل إلى مرج الصفر فأوقعت الهزيمة بجيش المسلمين مما اضطر خالد إلى الرجوع للمدينــة و بقي عكرمة رداءً للجيش بدل خالد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-295560" algn="r" rtl="1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عقد الخليفة أبي بكر الصديق لفتح الشام أربعة ألوية لأربعة أمراء هم 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. جيش أبي عبيدة عامربن الجراح رضي الله عنه في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7000</a:t>
            </a: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جندي ووجهته إلى حم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. جيش يزيد بن أبي سفيان رضي الله عنه في 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7000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جندي ووجهته إلى دمشق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. جيش شرحبيل بن حسنة رضي الله عنه في 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7000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 جندي ووجهته إلى الأردن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. جيش عمرو بن العاص رضي الله عنه في 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7000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جندي ووجهته إلى فلسطين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و كان أبو عبيدة اميراً على الجميع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581280" y="0"/>
            <a:ext cx="53834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غزوة الشام (سنة </a:t>
            </a: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12</a:t>
            </a: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-</a:t>
            </a: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13</a:t>
            </a: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هـ)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734A-8763-48D8-BBB2-3E7AAD0C3DC0}" type="slidenum">
              <a:t>2</a:t>
            </a:fld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800600" y="152280"/>
            <a:ext cx="4164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معركتا العربة وداثن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914400"/>
            <a:ext cx="85406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سارت القوات الرومية بثلاثة آلاف مقاتل إلى غزة لتنضم تحت لواء البطريق الرومي (سر جيوس) لقتال المسلمين فيها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تحرك جيش أبي عبيدة عامر بن الجراح من الجابية و المناطق المحيطة بها للتصدي للقوات الرومية المتجهة إلى العربة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تحرك جيش يزيد بن أبي سفيان من ارض البلقاء و ما حولها للتصدي للقوات الرومية المتجهة أيضاً إلى العربة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حققت القوات الإسلامية في معركة العربة انتصاراً على الروم ثم اتجهت إلى دافن (الداثنة) من قرى غزة و تلتقي بفلول جيش الروم و توقع به الهزيمة الثانية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أما جيش عمرو بن العاص فقد وصل إلى فلسطين تتقدمه قوة استطلاعية على رأسها عبد الله بن عمر و لدى وصول هذا الجيش خاض مع جحافل الروم المؤلفة من مائة إلف مقاتل معركة خرج فيها المسلمون منتصرين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حققت القوات الإسلامية في معركة العربة انتصاراً على الروم ثم اتجهت إلى دائن (الداثنة) من قرى غزة و تلتقي بفلول جيش الروم و توقع به الهزيمة الثانية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B1E7-A306-4174-9F83-FE6FC123BE3C}" type="slidenum">
              <a:t>3</a:t>
            </a:fld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04920" y="380880"/>
            <a:ext cx="854064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55680" indent="-35568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أما جيش عمرو بن العاص فقد وصل إلى فلسطين تتقدمه قوة استطلاعية على رأسها عبد الله بن عمر و لدى وصول هذا الجيش خاض مع جحافل الروم المؤلفة من مائة إلف مقاتل معركة خرج فيها المسلمون منتصرين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و بعد هذه المعركة توجه كل جيش إلى الجهة التي خصص لها فأعد الروم العدة للقاء المسلمين و عندما اطلع أبو عبيدة الخليفة أبا بكر على الموقف اصدر الخليفة أوامره إلى خالد بن الوليد الذي كان يقود جيوش الفتح في العراق بأن يتوجه إلى بلاد الشام و أن يتولى أمر القيادة ، حيث كانت قوات المسلمين موزعة في الأقاليم المخصصة لها . أما قوات الروم فقد توزعت في ناحيتين الناحية الأولى: على الساحل و هدفها ملاقاة عمرو بن العاص في ارض فلسطين. أما الناحية الثانية : ووجهتها حمص و بعلبك و دمشق و الهدف من ذلك شل قوات عمرو بن العاص ثم الالتفاف حول بقية جيوش المسلمين في سهل اليرموك على أن يظل عمرو بن العاص في فلسطين لصد تقدم القوات الرومية تجاهه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و هنا اتخذ خالد بن الوليد التخطيط القتالي السريع للمجابهة مستخدماً اكبر عدد من الجند و من ابرز المعارك التي خاضها ضد الروم .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1433-9522-4F75-AA61-303FAEF0CEA0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400800" y="228600"/>
            <a:ext cx="2563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معركة أجنادين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990720"/>
            <a:ext cx="876312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63600" indent="-313920"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cc3300"/>
                </a:solidFill>
                <a:latin typeface="Arial"/>
              </a:rPr>
              <a:t>في جمادي الأولى من السنة الثالثة عشر للهجرة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3600" indent="-31392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عندما بدأ زحف الروم جنوباً للقاء عمر بن العاص أدرك خالد بن الوليد مدى ضخامة جيش الروم لذا صمم على إلقاء ثقل المسلمين في المعركة و زحف بقواته نحو اجنادين و نظم خالد جيشه بطريقته المعهودة ميمنة و ميسرة و قلباً و مقدمه كما نظم الفرسان إلى فريقين و كان جيش الروم ضعف جيش المسلمين أو يزيد و مع ذلك حقق خالد انتصاراً عليهم و قتل قائدهم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3600" indent="-31392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و كانت هذه المعركة من المعارك الحاسمة التي قررت مصير فلسطين أبان الفتح الإسلامي لبلاد الشام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3B5F-EB8D-433F-97B3-4C86681325CA}" type="slidenum">
              <a:t>5</a:t>
            </a:fld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5867280" y="304920"/>
            <a:ext cx="3097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معركة اليرموك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880" y="914400"/>
            <a:ext cx="86868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412560" indent="-412560"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في شهر رجب من السنة الثالثة عشر للهجرة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2560" indent="-41256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سار خالد بن الوليد على رأس جيش كبير يتكون من عشرة آلاف مقاتل أدرك به المسلمين في اليرموك و قاتل الروم و صادف مجيئه أن هرقل كان قد عزز جيشه بتعيين ماهان – قائد رومي في عرف بالشجاعة و الأقدام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2560" indent="-41256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و لما قدم خالد بن الوليد بجيشه إلى الشام وجد المسلمين يقاتلون متساندين من فرتب الجيش و قسمه إلى كراديس فرق كل فرقة مؤلفة من إلف رجل و جعل لكل فرقة رجلاً ممن اشتهر بالشجاعة و الأقدام فجعل أبا عبيدة في القلب و عمرو بن العاص على الميمنة و يزيد بن أبي سفيان على الميسرة ثم دارت رحى القتال و اشتركت النساء مع الرجال لصد هجمات العدو الذي اضطرهم إلى التقهقر عدة مرات.  و بعد أن لحقت الهزيمة بالروم جاء يوم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لواقوصة</a:t>
            </a: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 و هو اليوم الذي كتب فيه النصر للعرب حيث قتل من جند الروم مائة و عشرين ألفاً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2560" indent="-41256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و في أثناء قتال العرب في اليرموك أتاهم نعي أبي بكر 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سنة 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13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هـ</a:t>
            </a: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 وتولية عمر بن الخطاب الخلافة فعزل خالد عن القيادة وولي مكانه أبا عبيدة .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AB9F-9FB9-4117-8EC2-45553E3F874D}" type="slidenum">
              <a:t>6</a:t>
            </a:fld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0T17:12:32Z</dcterms:created>
  <dc:creator> </dc:creator>
  <dc:description/>
  <dc:language>en-US</dc:language>
  <cp:lastModifiedBy> </cp:lastModifiedBy>
  <dcterms:modified xsi:type="dcterms:W3CDTF">2006-11-24T09:09:53Z</dcterms:modified>
  <cp:revision>43</cp:revision>
  <dc:subject/>
  <dc:title>Slide 1</dc:title>
</cp:coreProperties>
</file>