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771B-0D1A-42F1-817A-E2CE39C2E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3096-3911-407C-9E19-57EC8237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7F963-73C6-47D9-B370-DE2CA12A2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9C83-5F7D-4D0E-BD6A-779F65CA8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378D-9CF3-492F-ACB3-908B0EF41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456B-B046-4B74-9725-CA8CAB46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6E954-E1A0-4E40-813E-8F9712B11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8871-738D-4BA1-AF8A-8EF7C888D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B4A2C-15D3-47BF-81AA-75013ED25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85D5D-5F0B-4C01-947B-4939690C1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CA456-A047-48FD-9DD1-1C1F348D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0FCD-3D51-43F9-B1A0-7F09A0F2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F719-9335-4F3B-B215-B9B852E3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29655-CCFC-4092-B8A9-7D87BEF55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31456-5335-48E6-8A28-F768BB387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27779-C65B-496B-B462-781B3D60B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F505F-0C44-4D36-9761-F3D7C7B07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3CED-9DFE-4D1F-901B-3D958265E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A6159-BA7E-4D86-8F27-D5C8BCC5C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A7E2-02BB-49C2-96A6-E12C7110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B5CA0-C2CA-4F55-9329-75545433B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B6857-A8E0-4EE3-ADD1-18BE48B47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C6463-C702-4666-88E8-91B7CF41B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A8F7-39A6-4C86-9FA6-E1FE8E85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208F3-8809-4254-BCCA-F8022B1EE61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879B-1FC9-4AD3-8F09-3F9BD01D076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خلفاء</a:t>
            </a:r>
            <a:r>
              <a:rPr b="1" lang="en-US" sz="10000" spc="-1" strike="noStrike">
                <a:solidFill>
                  <a:srgbClr val="99ff33"/>
                </a:solidFill>
                <a:latin typeface="AXtNadaOutlineItalic"/>
                <a:ea typeface="AXtNadaOutlineItalic"/>
              </a:rPr>
              <a:t></a:t>
            </a: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راشدون</a:t>
            </a:r>
            <a:endParaRPr b="0" lang="en-US" sz="10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86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40-11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هـ/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61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32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4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295560" algn="just" rtl="1">
              <a:lnSpc>
                <a:spcPct val="85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بعد أن رجع أبو بكر من الحج وجه الجنود إلى الشام تحت قيادة خالد بن سعيد بن العاص و كان أول لواء عقده إلى الشام و لكن أبا بكر عزله قبل أن يسير و كان سبب عزله انه تأخر عن بيعة أبي بكر شهرين، ولما عزله عن الإمارة أمره أن ينزل ارض تيماء و أن يدعو من حوله من العرب بالانضمام إليه و ألا يقبل إلا ممن لم يرتد ولا يقاتل إلا من قاتله ، حتى يأتيه أمره فأقام فاجتمعت إليه جموع كثيرة و بلغ الروم عظم ذلك الجيش فاستفزوهم أيضاً قبائل العرب المتنصرة في بلاد الشام على المسلمين و ليكونوا كبش فداء له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رسل أبو بكر عكرمة بن أبي جهل و الوليد بن عقبه لإمداد خالد في الشمال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وبعد وصول المدد إلى قوات خالد بن سعيد أسرع للغزو فوقع في شرك باهان – بطريق الروم- و كان قد وصل إلى مرج الصفر فأوقعت الهزيمة بجيش المسلمين مما اضطر خالد إلى الرجوع للمدينــة و بقي عكرمة رداءً للجيش بدل خالد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قد الخليفة أبي بكر الصديق لفتح الشام أربعة ألوية لأربعة أمراء هم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أبي عبيدة عامربن الجراح رضي الله عنه في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جندي ووجهته إلى حم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يزيد بن أبي سفيان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دمشق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شرحبيل بن حسنة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 جندي ووجهته إلى الأرد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عمرو بن العاص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فلسط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 أبو عبيدة اميراً على الجميع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0"/>
            <a:ext cx="538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غزوة الشام (سنة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3</a:t>
            </a: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هـ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9339-E0F0-458E-B8EB-AB6A9AB9C6AA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00600" y="152280"/>
            <a:ext cx="41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تا العربة وداث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854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سارت القوات الرومية بثلاثة آلاف مقاتل إلى غزة لتنضم تحت لواء البطريق الرومي (سر جيوس) لقتال المسلمين فيها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أبي عبيدة عامر بن الجراح من الجابية و المناطق المحيطة بها للتصدي للقوات الرومية المتجهة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يزيد بن أبي سفيان من ارض البلقاء و ما حولها للتصدي للقوات الرومية المتجهة أيضاً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فن (الداثنة) من قرى غزة و تلتقي بفلول جيش الروم و توقع به الهزيمة الثاني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ئن (الداثنة) من قرى غزة و تلتقي بفلول جيش الروم و توقع به الهزيمة الثاني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D2EC-2C39-47A9-9B15-7A2DFFB72DC7}" type="slidenum">
              <a:t>3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80880"/>
            <a:ext cx="8540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بعد هذه المعركة توجه كل جيش إلى الجهة التي خصص لها فأعد الروم العدة للقاء المسلمين و عندما اطلع أبو عبيدة الخليفة أبا بكر على الموقف اصدر الخليفة أوامره إلى خالد بن الوليد الذي كان يقود جيوش الفتح في العراق بأن يتوجه إلى بلاد الشام و أن يتولى أمر القيادة ، حيث كانت قوات المسلمين موزعة في الأقاليم المخصصة لها . أما قوات الروم فقد توزعت في ناحيتين الناحية الأولى: على الساحل و هدفها ملاقاة عمرو بن العاص في ارض فلسطين. أما الناحية الثانية : ووجهتها حمص و بعلبك و دمشق و الهدف من ذلك شل قوات عمرو بن العاص ثم الالتفاف حول بقية جيوش المسلمين في سهل اليرموك على أن يظل عمرو بن العاص في فلسطين لصد تقدم القوات الرومية تجاه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هنا اتخذ خالد بن الوليد التخطيط القتالي السريع للمجابهة مستخدماً اكبر عدد من الجند و من ابرز المعارك التي خاضها ضد الروم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74BC-D8B8-409F-8FB2-C57AE4E30DBF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00800" y="228600"/>
            <a:ext cx="256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أجنادي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907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3600" indent="-3139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3300"/>
                </a:solidFill>
                <a:latin typeface="Arial"/>
              </a:rPr>
              <a:t>في جمادي الأولى من السنة الثالثة عشر للهجرة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ندما بدأ زحف الروم جنوباً للقاء عمر بن العاص أدرك خالد بن الوليد مدى ضخامة جيش الروم لذا صمم على إلقاء ثقل المسلمين في المعركة و زحف بقواته نحو اجنادين و نظم خالد جيشه بطريقته المعهودة ميمنة و ميسرة و قلباً و مقدمه كما نظم الفرسان إلى فريقين و كان جيش الروم ضعف جيش المسلمين أو يزيد و مع ذلك حقق خالد انتصاراً عليهم و قتل قائده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ت هذه المعركة من المعارك الحاسمة التي قررت مصير فلسطين أبان الفتح الإسلامي لبلاد الشا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4AD4-EA46-4B9A-AAF5-99F08A7FF395}" type="slidenum">
              <a:t>5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867280" y="304920"/>
            <a:ext cx="309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اليرمو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9144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12560" indent="-4125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شهر رجب من السنة الثالثة عشر للهجر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سار خالد بن الوليد على رأس جيش كبير يتكون من عشرة آلاف مقاتل أدرك به المسلمين في اليرموك و قاتل الروم و صادف مجيئه أن هرقل كان قد عزز جيشه بتعيين ماهان – قائد رومي في عرف بالشجاعة و الأقدا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لما قدم خالد بن الوليد بجيشه إلى الشام وجد المسلمين يقاتلون متساندين من فرتب الجيش و قسمه إلى كراديس فرق كل فرقة مؤلفة من إلف رجل و جعل لكل فرقة رجلاً ممن اشتهر بالشجاعة و الأقدام فجعل أبا عبيدة في القلب و عمرو بن العاص على الميمنة و يزيد بن أبي سفيان على الميسرة ثم دارت رحى القتال و اشتركت النساء مع الرجال لصد هجمات العدو الذي اضطرهم إلى التقهقر عدة مرات.  و بعد أن لحقت الهزيمة بالروم جاء يو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اقوصة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 هو اليوم الذي كتب فيه النصر للعرب حيث قتل من جند الروم مائة و عشرين ألفاً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في أثناء قتال العرب في اليرموك أتاهم نعي أبي بكر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سنة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13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هـ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تولية عمر بن الخطاب الخلافة فعزل خالد عن القيادة وولي مكانه أبا عبيدة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9C475-22B8-43A7-AA81-1409C41BDCF9}" type="slidenum">
              <a:t>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12:32Z</dcterms:created>
  <dc:creator> </dc:creator>
  <dc:description/>
  <dc:language>en-US</dc:language>
  <cp:lastModifiedBy> </cp:lastModifiedBy>
  <dcterms:modified xsi:type="dcterms:W3CDTF">2006-11-24T09:09:53Z</dcterms:modified>
  <cp:revision>43</cp:revision>
  <dc:subject/>
  <dc:title>Slide 1</dc:title>
</cp:coreProperties>
</file>