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39BE-DF75-481B-A586-84067274A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E885-6F18-413D-AB0C-3F7669840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3B3FF-9E61-4900-8433-2C1A2553E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F731-4B2A-45A9-95B7-ABF1C6F98F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A85F17-04AC-4AC8-8117-488D455B73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28D0EE-23CE-4C04-B109-987830B026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823B5-A7B2-42F9-BAF8-FBE3657D2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8CF587-3674-4046-BC9E-4CC260F7D1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5B8B4B-9055-4119-83C0-948FCA519C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3E2B2D-2B07-4158-8741-F9139E3F2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F791A3-162C-47A1-A8AE-10B0F9630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FCCA8-2D27-43FA-B1CC-1C12E3C21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975776-50B1-4724-8267-DBD2D737E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1097E-9419-4922-8294-11FA5D94F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574072-9758-491E-9D0D-BC36E5BFFC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D92831-76E9-4301-9594-889AE81AB3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54C8C-8E29-4F08-96D1-0DFD68F7BB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6E2CA-8D88-45D3-83A4-60BDDB725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E803-66E4-4860-A3E2-CB780D03FC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7EA3-71E9-4482-BFF4-EAD3746AB7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D490-EE16-4923-BE90-8E170C0BF2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AB801-66B7-406C-B253-39A401326C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F2FD4-BDAA-47DE-8248-B5DC33D6E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E05D-DFA4-4E02-9B23-250235126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C49F7A-8E9A-4DB0-AC1C-60699EC769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0D00D-3AD2-494A-89CE-0F9F68937E3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 rtl="1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 rtl="1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خلفاء</a:t>
            </a:r>
            <a:r>
              <a:rPr b="1" lang="en-US" sz="10000" spc="-1" strike="noStrike">
                <a:solidFill>
                  <a:srgbClr val="99ff33"/>
                </a:solidFill>
                <a:latin typeface="AXtNadaOutlineItalic"/>
                <a:ea typeface="AXtNadaOutlineItalic"/>
              </a:rPr>
              <a:t></a:t>
            </a:r>
            <a:r>
              <a:rPr b="1" lang="hi-IN" sz="10000" spc="-1" strike="noStrike">
                <a:solidFill>
                  <a:srgbClr val="99ff33"/>
                </a:solidFill>
                <a:latin typeface="AXtNadaOutlineItalic"/>
                <a:cs typeface="AXtNadaOutlineItalic"/>
              </a:rPr>
              <a:t>الراشدون</a:t>
            </a:r>
            <a:endParaRPr b="0" lang="en-US" sz="10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80880" y="3886200"/>
            <a:ext cx="80773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40-11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هـ/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61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-</a:t>
            </a:r>
            <a:r>
              <a:rPr b="0" lang="en-US" sz="7200" spc="-1" strike="noStrike">
                <a:solidFill>
                  <a:srgbClr val="99ff33"/>
                </a:solidFill>
                <a:latin typeface="Arial"/>
              </a:rPr>
              <a:t>632</a:t>
            </a:r>
            <a:r>
              <a:rPr b="0" lang="hi-IN" sz="7200" spc="-1" strike="noStrike">
                <a:solidFill>
                  <a:srgbClr val="99ff33"/>
                </a:solidFill>
                <a:latin typeface="Arial"/>
              </a:rPr>
              <a:t>م</a:t>
            </a:r>
            <a:endParaRPr b="0" lang="en-US" sz="7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" dur="2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2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" dur="2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/>
          </p:nvPr>
        </p:nvSpPr>
        <p:spPr>
          <a:xfrm>
            <a:off x="-360" y="685800"/>
            <a:ext cx="89946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388440" indent="-295560" algn="just" rtl="1">
              <a:lnSpc>
                <a:spcPct val="85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بعد أن رجع أبو بكر من الحج وجه الجنود إلى الشام تحت قيادة خالد بن سعيد بن العاص و كان أول لواء عقده إلى الشام و لكن أبا بكر عزله قبل أن يسير و كان سبب عزله انه تأخر عن بيعة أبي بكر شهرين، ولما عزله عن الإمارة أمره أن ينزل ارض تيماء و أن يدعو من حوله من العرب بالانضمام إليه و ألا يقبل إلا ممن لم يرتد ولا يقاتل إلا من قاتله ، حتى يأتيه أمره فأقام فاجتمعت إليه جموع كثيرة و بلغ الروم عظم ذلك الجيش فاستفزوهم أيضاً قبائل العرب المتنصرة في بلاد الشام على المسلمين و ليكونوا كبش فداء له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رسل أبو بكر عكرمة بن أبي جهل و الوليد بن عقبه لإمداد خالد في الشمال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just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وبعد وصول المدد إلى قوات خالد بن سعيد أسرع للغزو فوقع في شرك باهان – بطريق الروم- و كان قد وصل إلى مرج الصفر فأوقعت الهزيمة بجيش المسلمين مما اضطر خالد إلى الرجوع للمدينــة و بقي عكرمة رداءً للجيش بدل خالد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-295560" algn="r" rtl="1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قد الخليفة أبي بكر الصديق لفتح الشام أربعة ألوية لأربعة أمراء هم 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أبي عبيدة عامربن الجراح رضي الله عنه في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جندي ووجهته إلى حم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يزيد بن أبي سفيان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دمشق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3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شرحبيل بن حسنة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 جندي ووجهته إلى الأردن 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4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. جيش عمرو بن العاص رضي الله عنه في 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7000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جندي ووجهته إلى فلسط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88440" indent="0" algn="r" rtl="1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 أبو عبيدة اميراً على الجميع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581280" y="0"/>
            <a:ext cx="53834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غزوة الشام (سنة 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2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-</a:t>
            </a:r>
            <a:r>
              <a:rPr b="1" lang="en-US" sz="3600" spc="-1" strike="noStrike">
                <a:solidFill>
                  <a:srgbClr val="ff9900"/>
                </a:solidFill>
                <a:latin typeface="Arial"/>
              </a:rPr>
              <a:t>13</a:t>
            </a: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هـ)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EDADF-A811-4FC6-A0AC-EBB88BA097A9}" type="slidenum">
              <a:t>2</a:t>
            </a:fld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4800600" y="152280"/>
            <a:ext cx="4164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تا العربة وداث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4920" y="914400"/>
            <a:ext cx="8540640" cy="457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0000"/>
          </a:bodyPr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سارت القوات الرومية بثلاثة آلاف مقاتل إلى غزة لتنضم تحت لواء البطريق الرومي (سر جيوس) لقتال المسلمين فيها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أبي عبيدة عامر بن الجراح من الجابية و المناطق المحيطة بها للتصدي للقوات الرومية المتجهة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تحرك جيش يزيد بن أبي سفيان من ارض البلقاء و ما حولها للتصدي للقوات الرومية المتجهة أيضاً إلى العرب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فن (الداثنة) من قرى غزة و تلتقي بفلول جيش الروم و توقع به الهزيمة الثاني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70800" indent="-37080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حققت القوات الإسلامية في معركة العربة انتصاراً على الروم ثم اتجهت إلى دائن (الداثنة) من قرى غزة و تلتقي بفلول جيش الروم و توقع به الهزيمة الثانية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4439D-4521-43B7-B1CC-246AEABDDEC1}" type="slidenum">
              <a:t>3</a:t>
            </a:fld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04920" y="380880"/>
            <a:ext cx="8540640" cy="556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أما جيش عمرو بن العاص فقد وصل إلى فلسطين تتقدمه قوة استطلاعية على رأسها عبد الله بن عمر و لدى وصول هذا الجيش خاض مع جحافل الروم المؤلفة من مائة إلف مقاتل معركة خرج فيها المسلمون منتصرين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بعد هذه المعركة توجه كل جيش إلى الجهة التي خصص لها فأعد الروم العدة للقاء المسلمين و عندما اطلع أبو عبيدة الخليفة أبا بكر على الموقف اصدر الخليفة أوامره إلى خالد بن الوليد الذي كان يقود جيوش الفتح في العراق بأن يتوجه إلى بلاد الشام و أن يتولى أمر القيادة ، حيث كانت قوات المسلمين موزعة في الأقاليم المخصصة لها . أما قوات الروم فقد توزعت في ناحيتين الناحية الأولى: على الساحل و هدفها ملاقاة عمرو بن العاص في ارض فلسطين. أما الناحية الثانية : ووجهتها حمص و بعلبك و دمشق و الهدف من ذلك شل قوات عمرو بن العاص ثم الالتفاف حول بقية جيوش المسلمين في سهل اليرموك على أن يظل عمرو بن العاص في فلسطين لصد تقدم القوات الرومية تجاهه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55680" indent="-35568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هنا اتخذ خالد بن الوليد التخطيط القتالي السريع للمجابهة مستخدماً اكبر عدد من الجند و من ابرز المعارك التي خاضها ضد الروم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9D0C9-4F44-4B5E-AC5D-A5B8AAE74136}" type="slidenum">
              <a:t>4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6400800" y="228600"/>
            <a:ext cx="25639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أجنادين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28600" y="990720"/>
            <a:ext cx="8763120" cy="32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63600" indent="-31392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cc3300"/>
                </a:solidFill>
                <a:latin typeface="Arial"/>
              </a:rPr>
              <a:t>في جمادي الأولى من السنة الثالثة عشر للهجرة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عندما بدأ زحف الروم جنوباً للقاء عمر بن العاص أدرك خالد بن الوليد مدى ضخامة جيش الروم لذا صمم على إلقاء ثقل المسلمين في المعركة و زحف بقواته نحو اجنادين و نظم خالد جيشه بطريقته المعهودة ميمنة و ميسرة و قلباً و مقدمه كما نظم الفرسان إلى فريقين و كان جيش الروم ضعف جيش المسلمين أو يزيد و مع ذلك حقق خالد انتصاراً عليهم و قتل قائده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63600" indent="-31392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2400" spc="-1" strike="noStrike">
                <a:solidFill>
                  <a:srgbClr val="99ff33"/>
                </a:solidFill>
                <a:latin typeface="Arial"/>
              </a:rPr>
              <a:t>و كانت هذه المعركة من المعارك الحاسمة التي قررت مصير فلسطين أبان الفتح الإسلامي لبلاد الشام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BA278-04A2-424B-8B76-F9D2208EDD16}" type="slidenum">
              <a:t>5</a:t>
            </a:fld>
          </a:p>
        </p:txBody>
      </p:sp>
    </p:spTree>
  </p:cSld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5867280" y="304920"/>
            <a:ext cx="309744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3600" spc="-1" strike="noStrike">
                <a:solidFill>
                  <a:srgbClr val="ff9900"/>
                </a:solidFill>
                <a:latin typeface="Arial"/>
              </a:rPr>
              <a:t>معركة اليرموك: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80880" y="914400"/>
            <a:ext cx="868680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9000"/>
          </a:bodyPr>
          <a:p>
            <a:pPr marL="412560" indent="-412560" algn="just" rtl="1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في شهر رجب من السنة الثالثة عشر للهجرة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سار خالد بن الوليد على رأس جيش كبير يتكون من عشرة آلاف مقاتل أدرك به المسلمين في اليرموك و قاتل الروم و صادف مجيئه أن هرقل كان قد عزز جيشه بتعيين ماهان – قائد رومي في عرف بالشجاعة و الأقدام .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لما قدم خالد بن الوليد بجيشه إلى الشام وجد المسلمين يقاتلون متساندين من فرتب الجيش و قسمه إلى كراديس فرق كل فرقة مؤلفة من إلف رجل و جعل لكل فرقة رجلاً ممن اشتهر بالشجاعة و الأقدام فجعل أبا عبيدة في القلب و عمرو بن العاص على الميمنة و يزيد بن أبي سفيان على الميسرة ثم دارت رحى القتال و اشتركت النساء مع الرجال لصد هجمات العدو الذي اضطرهم إلى التقهقر عدة مرات.  و بعد أن لحقت الهزيمة بالروم جاء يوم </a:t>
            </a:r>
            <a:r>
              <a:rPr b="0" lang="ar-SA" sz="2400" spc="-1" strike="noStrike">
                <a:solidFill>
                  <a:srgbClr val="000000"/>
                </a:solidFill>
                <a:latin typeface="Arial"/>
              </a:rPr>
              <a:t>الواقوصة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 هو اليوم الذي كتب فيه النصر للعرب حيث قتل من جند الروم مائة و عشرين ألفاً 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2560" indent="-412560" algn="just" rtl="1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و في أثناء قتال العرب في اليرموك أتاهم نعي أبي بكر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سنة 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13</a:t>
            </a:r>
            <a:r>
              <a:rPr b="0" lang="ar-SA" sz="2400" spc="-1" strike="noStrike">
                <a:solidFill>
                  <a:srgbClr val="cc3300"/>
                </a:solidFill>
                <a:latin typeface="Arial"/>
              </a:rPr>
              <a:t>هـ</a:t>
            </a:r>
            <a:r>
              <a:rPr b="0" lang="ar-SA" sz="2400" spc="-1" strike="noStrike">
                <a:solidFill>
                  <a:srgbClr val="99ff33"/>
                </a:solidFill>
                <a:latin typeface="Arial"/>
              </a:rPr>
              <a:t> وتولية عمر بن الخطاب الخلافة فعزل خالد عن القيادة وولي مكانه أبا عبيدة .</a:t>
            </a:r>
            <a:r>
              <a:rPr b="0" lang="en-US" sz="2400" spc="-1" strike="noStrike">
                <a:solidFill>
                  <a:srgbClr val="99ff33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الخلفاء الراشدون_غزوة الشام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A1F7E-F7E0-4272-B58F-60B9D4EDFF4C}" type="slidenum">
              <a:t>6</a:t>
            </a:fld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0T17:12:32Z</dcterms:created>
  <dc:creator> </dc:creator>
  <dc:description/>
  <dc:language>en-US</dc:language>
  <cp:lastModifiedBy> </cp:lastModifiedBy>
  <dcterms:modified xsi:type="dcterms:W3CDTF">2006-11-24T09:09:53Z</dcterms:modified>
  <cp:revision>43</cp:revision>
  <dc:subject/>
  <dc:title>Slide 1</dc:title>
</cp:coreProperties>
</file>