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17A0-D635-4D23-AC53-4D0CA17D6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1553-2DA0-4304-85FB-AB1874144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18F8-A634-4ED2-A727-E15262A51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FBF2-987B-4BA6-99A9-A85293638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E0235-BF26-42EA-AD06-99DA60675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4D606-E2EE-4DE7-8A8D-71D1CB77D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5D5DA-F668-48C4-8210-557CF2552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C96B0-5BBA-49F8-AE95-87A95F986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FB6E0-F84C-44D5-95B5-3538868BA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F03EA-48B9-45AA-A444-7C8CA4FFB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6AF3C-D0B1-4493-8EA9-B5F7C176C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141F-F62F-49A1-B3E6-BA4EFF3D7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9E6A8-AFE9-4BDF-92A6-AC536D028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E0FC5-9AB1-4817-A022-E1F87405F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3F04A-64B4-4670-B637-429B102FA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20AC2-7662-4301-B0BE-5F547FBF4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588F9-127A-4AA1-B61B-51B767319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2768-40F1-403F-993B-54678BBA4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1D91-4026-48C1-BC45-04151C0B5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2D76-86BC-4521-89EA-7EFCBFF12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2590-8C3C-4A67-963E-05A08303B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B8F5-8A85-4480-9926-E8C48A55F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064B-6B2B-4459-B036-85B502CF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17AF-57ED-4B0D-B048-7DD097A4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BCE93-03E0-422E-9CFA-7A7E1F8497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D0FCB-91DB-499B-BF36-FCC369A449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99ff33"/>
                </a:solidFill>
                <a:latin typeface="AXtNadaOutlineItalic"/>
                <a:cs typeface="AXtNadaOutlineItalic"/>
              </a:rPr>
              <a:t>الخلفاء</a:t>
            </a:r>
            <a:r>
              <a:rPr b="1" lang="en-US" sz="10000" spc="-1" strike="noStrike">
                <a:solidFill>
                  <a:srgbClr val="99ff33"/>
                </a:solidFill>
                <a:latin typeface="AXtNadaOutlineItalic"/>
                <a:ea typeface="AXtNadaOutlineItalic"/>
              </a:rPr>
              <a:t></a:t>
            </a:r>
            <a:r>
              <a:rPr b="1" lang="hi-IN" sz="10000" spc="-1" strike="noStrike">
                <a:solidFill>
                  <a:srgbClr val="99ff33"/>
                </a:solidFill>
                <a:latin typeface="AXtNadaOutlineItalic"/>
                <a:cs typeface="AXtNadaOutlineItalic"/>
              </a:rPr>
              <a:t>الراشدون</a:t>
            </a:r>
            <a:endParaRPr b="0" lang="en-US" sz="10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3886200"/>
            <a:ext cx="8077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40-11</a:t>
            </a:r>
            <a:r>
              <a:rPr b="0" lang="hi-IN" sz="7200" spc="-1" strike="noStrike">
                <a:solidFill>
                  <a:srgbClr val="99ff33"/>
                </a:solidFill>
                <a:latin typeface="Arial"/>
              </a:rPr>
              <a:t>هـ/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661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-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632</a:t>
            </a:r>
            <a:r>
              <a:rPr b="0" lang="hi-IN" sz="7200" spc="-1" strike="noStrike">
                <a:solidFill>
                  <a:srgbClr val="99ff33"/>
                </a:solidFill>
                <a:latin typeface="Arial"/>
              </a:rPr>
              <a:t>م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-360" y="685800"/>
            <a:ext cx="8994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295560" algn="just" rtl="1">
              <a:lnSpc>
                <a:spcPct val="85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بعد أن رجع أبو بكر من الحج وجه الجنود إلى الشام تحت قيادة خالد بن سعيد بن العاص و كان أول لواء عقده إلى الشام و لكن أبا بكر عزله قبل أن يسير و كان سبب عزله انه تأخر عن بيعة أبي بكر شهرين، ولما عزله عن الإمارة أمره أن ينزل ارض تيماء و أن يدعو من حوله من العرب بالانضمام إليه و ألا يقبل إلا ممن لم يرتد ولا يقاتل إلا من قاتله ، حتى يأتيه أمره فأقام فاجتمعت إليه جموع كثيرة و بلغ الروم عظم ذلك الجيش فاستفزوهم أيضاً قبائل العرب المتنصرة في بلاد الشام على المسلمين و ليكونوا كبش فداء لهم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just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أرسل أبو بكر عكرمة بن أبي جهل و الوليد بن عقبه لإمداد خالد في الشمال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just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وبعد وصول المدد إلى قوات خالد بن سعيد أسرع للغزو فوقع في شرك باهان – بطريق الروم- و كان قد وصل إلى مرج الصفر فأوقعت الهزيمة بجيش المسلمين مما اضطر خالد إلى الرجوع للمدينــة و بقي عكرمة رداءً للجيش بدل خالد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r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عقد الخليفة أبي بكر الصديق لفتح الشام أربعة ألوية لأربعة أمراء هم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أبي عبيدة عامربن الجراح رضي الله عنه في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جندي ووجهته إلى حم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يزيد بن أبي سفيان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جندي ووجهته إلى دمشق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شرحبيل بن حسنة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 جندي ووجهته إلى الأردن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عمرو بن العاص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جندي ووجهته إلى فلسط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و كان أبو عبيدة اميراً على الجميع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0"/>
            <a:ext cx="5383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غزوة الشام (سنة 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2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3</a:t>
            </a: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هـ)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FD27-711C-474B-B61E-5CCD75696E7D}" type="slidenum">
              <a:t>2</a:t>
            </a:fld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800600" y="152280"/>
            <a:ext cx="4164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تا العربة وداث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914400"/>
            <a:ext cx="8540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سارت القوات الرومية بثلاثة آلاف مقاتل إلى غزة لتنضم تحت لواء البطريق الرومي (سر جيوس) لقتال المسلمين فيها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تحرك جيش أبي عبيدة عامر بن الجراح من الجابية و المناطق المحيطة بها للتصدي للقوات الرومية المتجهة إلى العرب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تحرك جيش يزيد بن أبي سفيان من ارض البلقاء و ما حولها للتصدي للقوات الرومية المتجهة أيضاً إلى العرب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حققت القوات الإسلامية في معركة العربة انتصاراً على الروم ثم اتجهت إلى دافن (الداثنة) من قرى غزة و تلتقي بفلول جيش الروم و توقع به الهزيمة الثاني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أما جيش عمرو بن العاص فقد وصل إلى فلسطين تتقدمه قوة استطلاعية على رأسها عبد الله بن عمر و لدى وصول هذا الجيش خاض مع جحافل الروم المؤلفة من مائة إلف مقاتل معركة خرج فيها المسلمون منتصر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حققت القوات الإسلامية في معركة العربة انتصاراً على الروم ثم اتجهت إلى دائن (الداثنة) من قرى غزة و تلتقي بفلول جيش الروم و توقع به الهزيمة الثانية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B62D-793A-424B-A2C8-1E1F7E6AC05D}" type="slidenum">
              <a:t>3</a:t>
            </a:fld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380880"/>
            <a:ext cx="85406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أما جيش عمرو بن العاص فقد وصل إلى فلسطين تتقدمه قوة استطلاعية على رأسها عبد الله بن عمر و لدى وصول هذا الجيش خاض مع جحافل الروم المؤلفة من مائة إلف مقاتل معركة خرج فيها المسلمون منتصرين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بعد هذه المعركة توجه كل جيش إلى الجهة التي خصص لها فأعد الروم العدة للقاء المسلمين و عندما اطلع أبو عبيدة الخليفة أبا بكر على الموقف اصدر الخليفة أوامره إلى خالد بن الوليد الذي كان يقود جيوش الفتح في العراق بأن يتوجه إلى بلاد الشام و أن يتولى أمر القيادة ، حيث كانت قوات المسلمين موزعة في الأقاليم المخصصة لها . أما قوات الروم فقد توزعت في ناحيتين الناحية الأولى: على الساحل و هدفها ملاقاة عمرو بن العاص في ارض فلسطين. أما الناحية الثانية : ووجهتها حمص و بعلبك و دمشق و الهدف من ذلك شل قوات عمرو بن العاص ثم الالتفاف حول بقية جيوش المسلمين في سهل اليرموك على أن يظل عمرو بن العاص في فلسطين لصد تقدم القوات الرومية تجاهه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هنا اتخذ خالد بن الوليد التخطيط القتالي السريع للمجابهة مستخدماً اكبر عدد من الجند و من ابرز المعارك التي خاضها ضد الروم .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007D-E123-438D-A153-F3D0A7515B2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400800" y="228600"/>
            <a:ext cx="2563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ة أجنادي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990720"/>
            <a:ext cx="87631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63600" indent="-31392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cc3300"/>
                </a:solidFill>
                <a:latin typeface="Arial"/>
              </a:rPr>
              <a:t>في جمادي الأولى من السنة الثالثة عشر للهجرة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1392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عندما بدأ زحف الروم جنوباً للقاء عمر بن العاص أدرك خالد بن الوليد مدى ضخامة جيش الروم لذا صمم على إلقاء ثقل المسلمين في المعركة و زحف بقواته نحو اجنادين و نظم خالد جيشه بطريقته المعهودة ميمنة و ميسرة و قلباً و مقدمه كما نظم الفرسان إلى فريقين و كان جيش الروم ضعف جيش المسلمين أو يزيد و مع ذلك حقق خالد انتصاراً عليهم و قتل قائده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1392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و كانت هذه المعركة من المعارك الحاسمة التي قررت مصير فلسطين أبان الفتح الإسلامي لبلاد الشا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F7FC-D4D6-4956-9479-E72C76BDC2EE}" type="slidenum">
              <a:t>5</a:t>
            </a:fld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867280" y="304920"/>
            <a:ext cx="3097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ة اليرموك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914400"/>
            <a:ext cx="8686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412560" indent="-41256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في شهر رجب من السنة الثالثة عشر للهجر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سار خالد بن الوليد على رأس جيش كبير يتكون من عشرة آلاف مقاتل أدرك به المسلمين في اليرموك و قاتل الروم و صادف مجيئه أن هرقل كان قد عزز جيشه بتعيين ماهان – قائد رومي في عرف بالشجاعة و الأقدام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لما قدم خالد بن الوليد بجيشه إلى الشام وجد المسلمين يقاتلون متساندين من فرتب الجيش و قسمه إلى كراديس فرق كل فرقة مؤلفة من إلف رجل و جعل لكل فرقة رجلاً ممن اشتهر بالشجاعة و الأقدام فجعل أبا عبيدة في القلب و عمرو بن العاص على الميمنة و يزيد بن أبي سفيان على الميسرة ثم دارت رحى القتال و اشتركت النساء مع الرجال لصد هجمات العدو الذي اضطرهم إلى التقهقر عدة مرات.  و بعد أن لحقت الهزيمة بالروم جاء يوم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واقوصة</a:t>
            </a: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 و هو اليوم الذي كتب فيه النصر للعرب حيث قتل من جند الروم مائة و عشرين ألفاً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في أثناء قتال العرب في اليرموك أتاهم نعي أبي بكر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سنة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13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هـ</a:t>
            </a: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 وتولية عمر بن الخطاب الخلافة فعزل خالد عن القيادة وولي مكانه أبا عبيدة .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E399-7501-4191-891C-864A875C5186}" type="slidenum">
              <a:t>6</a:t>
            </a:fld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17:12:32Z</dcterms:created>
  <dc:creator> </dc:creator>
  <dc:description/>
  <dc:language>en-US</dc:language>
  <cp:lastModifiedBy> </cp:lastModifiedBy>
  <dcterms:modified xsi:type="dcterms:W3CDTF">2006-11-24T09:09:53Z</dcterms:modified>
  <cp:revision>43</cp:revision>
  <dc:subject/>
  <dc:title>Slide 1</dc:title>
</cp:coreProperties>
</file>