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630C-D7E1-4C66-B701-F8930AD00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62CB-45EA-4CCD-83EA-3D548630D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D525-9B8E-406E-85E4-29B811017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AD6E-CCB0-4333-ABFC-7960A35DE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02F10-056F-4E41-AF1F-1832AF834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BFC66-B58E-4B3F-93BF-45E402638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A51C3-8567-4D57-AEAA-ED1F2E12F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F7928-43D3-4524-9DF6-736D716EE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D935D-CC37-44E1-AF15-69A06730E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017B3-9F23-436D-9D47-EADADE337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16A1F-4D6F-4407-90B1-665E6E08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BBD4-3E7F-4539-88B3-672C13AF0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19619-CB1E-4F08-9CB8-380BEBFD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70055-5CD1-44F4-9E11-4454AF6D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771C1-02B6-4203-A5C4-35970F86C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2C480-B3B8-4A3B-A04D-44EA1855D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30979-938C-4629-8FBC-4C72AE09A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6E35-330A-4E57-9132-7C3E2AAB8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0E3F-8560-42B0-84F6-09F7C6D0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F77F-05B8-4BFE-A2CB-8DC4A8B7B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564C-0FD8-48AD-8B99-98C8AB862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B9FA-4325-4175-9E4D-795BD23B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C865-DB9D-4EB9-8B48-4A925131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FE4D-5599-40EE-9527-C83D3958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E24CA-31DE-4FDC-991D-9965B377D8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7FD19-7257-4E45-BE7C-91FC96D52D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خلفاء</a:t>
            </a:r>
            <a:r>
              <a:rPr b="1" lang="en-US" sz="10000" spc="-1" strike="noStrike">
                <a:solidFill>
                  <a:srgbClr val="99ff33"/>
                </a:solidFill>
                <a:latin typeface="AXtNadaOutlineItalic"/>
                <a:ea typeface="AXtNadaOutlineItalic"/>
              </a:rPr>
              <a:t></a:t>
            </a: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راشدون</a:t>
            </a:r>
            <a:endParaRPr b="0" lang="en-US" sz="10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388620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40-11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هـ/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61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-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32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م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-360" y="685800"/>
            <a:ext cx="8994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295560" algn="just" rtl="1">
              <a:lnSpc>
                <a:spcPct val="85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بعد أن رجع أبو بكر من الحج وجه الجنود إلى الشام تحت قيادة خالد بن سعيد بن العاص و كان أول لواء عقده إلى الشام و لكن أبا بكر عزله قبل أن يسير و كان سبب عزله انه تأخر عن بيعة أبي بكر شهرين، ولما عزله عن الإمارة أمره أن ينزل ارض تيماء و أن يدعو من حوله من العرب بالانضمام إليه و ألا يقبل إلا ممن لم يرتد ولا يقاتل إلا من قاتله ، حتى يأتيه أمره فأقام فاجتمعت إليه جموع كثيرة و بلغ الروم عظم ذلك الجيش فاستفزوهم أيضاً قبائل العرب المتنصرة في بلاد الشام على المسلمين و ليكونوا كبش فداء له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رسل أبو بكر عكرمة بن أبي جهل و الوليد بن عقبه لإمداد خالد في الشمال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وبعد وصول المدد إلى قوات خالد بن سعيد أسرع للغزو فوقع في شرك باهان – بطريق الروم- و كان قد وصل إلى مرج الصفر فأوقعت الهزيمة بجيش المسلمين مما اضطر خالد إلى الرجوع للمدينــة و بقي عكرمة رداءً للجيش بدل خالد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قد الخليفة أبي بكر الصديق لفتح الشام أربعة ألوية لأربعة أمراء هم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أبي عبيدة عامربن الجراح رضي الله عنه في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جندي ووجهته إلى حم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يزيد بن أبي سفيان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دمشق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شرحبيل بن حسنة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 جندي ووجهته إلى الأردن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عمرو بن العاص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فلسط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 أبو عبيدة اميراً على الجميع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0"/>
            <a:ext cx="5383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غزوة الشام (سنة 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2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3</a:t>
            </a: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هـ)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8D02-0CBD-4A7D-B44A-F44E89E3E7B6}" type="slidenum">
              <a:t>2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800600" y="152280"/>
            <a:ext cx="4164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تا العربة وداث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914400"/>
            <a:ext cx="8540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سارت القوات الرومية بثلاثة آلاف مقاتل إلى غزة لتنضم تحت لواء البطريق الرومي (سر جيوس) لقتال المسلمين فيها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أبي عبيدة عامر بن الجراح من الجابية و المناطق المحيطة بها للتصدي للقوات الرومية المتجهة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يزيد بن أبي سفيان من ارض البلقاء و ما حولها للتصدي للقوات الرومية المتجهة أيضاً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فن (الداثنة) من قرى غزة و تلتقي بفلول جيش الروم و توقع به الهزيمة الثاني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ئن (الداثنة) من قرى غزة و تلتقي بفلول جيش الروم و توقع به الهزيمة الثانية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747F-7E96-4260-A159-D608BEA814BA}" type="slidenum">
              <a:t>3</a:t>
            </a:fld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380880"/>
            <a:ext cx="85406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بعد هذه المعركة توجه كل جيش إلى الجهة التي خصص لها فأعد الروم العدة للقاء المسلمين و عندما اطلع أبو عبيدة الخليفة أبا بكر على الموقف اصدر الخليفة أوامره إلى خالد بن الوليد الذي كان يقود جيوش الفتح في العراق بأن يتوجه إلى بلاد الشام و أن يتولى أمر القيادة ، حيث كانت قوات المسلمين موزعة في الأقاليم المخصصة لها . أما قوات الروم فقد توزعت في ناحيتين الناحية الأولى: على الساحل و هدفها ملاقاة عمرو بن العاص في ارض فلسطين. أما الناحية الثانية : ووجهتها حمص و بعلبك و دمشق و الهدف من ذلك شل قوات عمرو بن العاص ثم الالتفاف حول بقية جيوش المسلمين في سهل اليرموك على أن يظل عمرو بن العاص في فلسطين لصد تقدم القوات الرومية تجاهه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هنا اتخذ خالد بن الوليد التخطيط القتالي السريع للمجابهة مستخدماً اكبر عدد من الجند و من ابرز المعارك التي خاضها ضد الروم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A36F-1877-4E5C-B92A-DF2DF025C51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400800" y="228600"/>
            <a:ext cx="2563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أجنادي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990720"/>
            <a:ext cx="87631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63600" indent="-31392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cc3300"/>
                </a:solidFill>
                <a:latin typeface="Arial"/>
              </a:rPr>
              <a:t>في جمادي الأولى من السنة الثالثة عشر للهجرة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ندما بدأ زحف الروم جنوباً للقاء عمر بن العاص أدرك خالد بن الوليد مدى ضخامة جيش الروم لذا صمم على إلقاء ثقل المسلمين في المعركة و زحف بقواته نحو اجنادين و نظم خالد جيشه بطريقته المعهودة ميمنة و ميسرة و قلباً و مقدمه كما نظم الفرسان إلى فريقين و كان جيش الروم ضعف جيش المسلمين أو يزيد و مع ذلك حقق خالد انتصاراً عليهم و قتل قائده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ت هذه المعركة من المعارك الحاسمة التي قررت مصير فلسطين أبان الفتح الإسلامي لبلاد الشا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A2F3-D69B-4D24-856F-98603B02FE05}" type="slidenum">
              <a:t>5</a:t>
            </a:fld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867280" y="304920"/>
            <a:ext cx="3097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اليرموك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914400"/>
            <a:ext cx="8686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412560" indent="-41256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في شهر رجب من السنة الثالثة عشر للهجر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سار خالد بن الوليد على رأس جيش كبير يتكون من عشرة آلاف مقاتل أدرك به المسلمين في اليرموك و قاتل الروم و صادف مجيئه أن هرقل كان قد عزز جيشه بتعيين ماهان – قائد رومي في عرف بالشجاعة و الأقدا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لما قدم خالد بن الوليد بجيشه إلى الشام وجد المسلمين يقاتلون متساندين من فرتب الجيش و قسمه إلى كراديس فرق كل فرقة مؤلفة من إلف رجل و جعل لكل فرقة رجلاً ممن اشتهر بالشجاعة و الأقدام فجعل أبا عبيدة في القلب و عمرو بن العاص على الميمنة و يزيد بن أبي سفيان على الميسرة ثم دارت رحى القتال و اشتركت النساء مع الرجال لصد هجمات العدو الذي اضطرهم إلى التقهقر عدة مرات.  و بعد أن لحقت الهزيمة بالروم جاء يوم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واقوصة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 هو اليوم الذي كتب فيه النصر للعرب حيث قتل من جند الروم مائة و عشرين ألفاً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في أثناء قتال العرب في اليرموك أتاهم نعي أبي بكر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سنة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13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هـ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تولية عمر بن الخطاب الخلافة فعزل خالد عن القيادة وولي مكانه أبا عبيدة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7790-4ADD-4FA4-9D6E-F5DEC586CF5A}" type="slidenum">
              <a:t>6</a:t>
            </a:fld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7:12:32Z</dcterms:created>
  <dc:creator> </dc:creator>
  <dc:description/>
  <dc:language>en-US</dc:language>
  <cp:lastModifiedBy> </cp:lastModifiedBy>
  <dcterms:modified xsi:type="dcterms:W3CDTF">2006-11-24T09:09:53Z</dcterms:modified>
  <cp:revision>43</cp:revision>
  <dc:subject/>
  <dc:title>Slide 1</dc:title>
</cp:coreProperties>
</file>