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78174-02EA-47B5-829C-29B7EBC0FAA9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B05B4-00E1-4FA8-B3D2-4C26EE8FDCD9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أخذ المعلم حصة اضافية لعرض نتائج هذه المهمة لأنه يلزم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ائق لتعرض كل مجموعة المشهد التمثيلي / أي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E5088-8031-4FAA-BD6A-D99517D9FF19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استخدم هذه القبعة عندما احتاج من الطلبة تغيير طريقة تفكيرهم ( أي تبديل قبعتهم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0194A-33B9-443B-A738-71E19FBE299A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معايير التقيي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24883-7CC1-45E3-BCC2-BCEA1EF9527B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دقيقة لعرض الواجب البيتي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80339-5FDC-4543-BF18-2655840B0821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عرض المعلم النتاجات والتقييم قبل بدء تنفيذ المها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1E171-EAA8-438B-A87F-C626BE2AA1CA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النتاجات على الطلب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D6DF0-99C4-4E3A-9D9A-5F6E7EECD1DA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</a:rPr>
              <a:t>طرح الاحجية </a:t>
            </a:r>
            <a:r>
              <a:rPr b="1" lang="ar-JO" sz="1200" spc="-1" strike="noStrike">
                <a:solidFill>
                  <a:srgbClr val="000000"/>
                </a:solidFill>
                <a:latin typeface="Times New Roman"/>
              </a:rPr>
              <a:t>لجذب انتباه الطلبة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( دقيقة واحدة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4D1F0-F67C-4EE7-BA72-8F69D7838989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عصف ذهني بعرض فلاش تعليمي يبين كيف يزداد عدد الخلية البكتيرية الى عدد كبير في دقائ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413B5-BFD0-402D-A9D5-BD98175D44B4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نقر الطالب على القبعة المرغوب اردائها  من قبل المجموعة لانجاز المهمة الخاصة بهذه القبع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4A102-80C4-4B13-9364-6D138B9D8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18433-12BD-4251-9E2C-1469AF37B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B1C2B-E32F-4175-865B-0B982A2AF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CB382-FDAB-44C9-9967-B3FE9DB23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EF310-26D9-4A7D-814E-F286BABD1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20723-D8EB-438C-8778-A5631307D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89AA5-E76D-466F-8F58-2F7792F1D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520C7-7D46-459E-8155-96F2B243A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244B2-D22B-4B4C-BF33-163B607B5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0B855-EF42-4A59-BF29-8B9FD6502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520BF-AEBB-45C3-AA39-F1B8A3D2A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BACB5-2FC8-4070-895F-C2B3D4D7B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8EB49-D9E3-4898-AD63-A47F766FB8C6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uae7.com/vb/t47668.htm" TargetMode="External"/><Relationship Id="rId2" Type="http://schemas.openxmlformats.org/officeDocument/2006/relationships/image" Target="../media/image14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ar.wikipedia.org/wiki/&#1587;&#1606;" TargetMode="External"/><Relationship Id="rId2" Type="http://schemas.openxmlformats.org/officeDocument/2006/relationships/image" Target="../media/image13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" Target="slide14.xml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slide" Target="slide4.xml"/><Relationship Id="rId10" Type="http://schemas.openxmlformats.org/officeDocument/2006/relationships/slide" Target="slide4.xml"/><Relationship Id="rId11" Type="http://schemas.openxmlformats.org/officeDocument/2006/relationships/slide" Target="slide4.xml"/><Relationship Id="rId12" Type="http://schemas.openxmlformats.org/officeDocument/2006/relationships/slide" Target="slide4.xml"/><Relationship Id="rId13" Type="http://schemas.openxmlformats.org/officeDocument/2006/relationships/slide" Target="slide6.xml"/><Relationship Id="rId14" Type="http://schemas.openxmlformats.org/officeDocument/2006/relationships/slide" Target="slide14.xml"/><Relationship Id="rId15" Type="http://schemas.openxmlformats.org/officeDocument/2006/relationships/slide" Target="slide3.xml"/><Relationship Id="rId16" Type="http://schemas.openxmlformats.org/officeDocument/2006/relationships/slide" Target="slide15.xml"/><Relationship Id="rId17" Type="http://schemas.openxmlformats.org/officeDocument/2006/relationships/image" Target="../media/image2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9.jpeg"/><Relationship Id="rId3" Type="http://schemas.openxmlformats.org/officeDocument/2006/relationships/slide" Target="slide9.xml"/><Relationship Id="rId4" Type="http://schemas.openxmlformats.org/officeDocument/2006/relationships/image" Target="../media/image10.jpeg"/><Relationship Id="rId5" Type="http://schemas.openxmlformats.org/officeDocument/2006/relationships/slide" Target="slide12.xml"/><Relationship Id="rId6" Type="http://schemas.openxmlformats.org/officeDocument/2006/relationships/image" Target="../media/image11.jpeg"/><Relationship Id="rId7" Type="http://schemas.openxmlformats.org/officeDocument/2006/relationships/slide" Target="slide8.xml"/><Relationship Id="rId8" Type="http://schemas.openxmlformats.org/officeDocument/2006/relationships/image" Target="../media/image12.jpeg"/><Relationship Id="rId9" Type="http://schemas.openxmlformats.org/officeDocument/2006/relationships/slide" Target="slide11.xml"/><Relationship Id="rId10" Type="http://schemas.openxmlformats.org/officeDocument/2006/relationships/image" Target="../media/image13.jpeg"/><Relationship Id="rId11" Type="http://schemas.openxmlformats.org/officeDocument/2006/relationships/slide" Target="slide10.xml"/><Relationship Id="rId12" Type="http://schemas.openxmlformats.org/officeDocument/2006/relationships/image" Target="../media/image14.jpeg"/><Relationship Id="rId13" Type="http://schemas.openxmlformats.org/officeDocument/2006/relationships/slide" Target="slide2.xml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image" Target="../media/image12.jpeg"/><Relationship Id="rId4" Type="http://schemas.openxmlformats.org/officeDocument/2006/relationships/hyperlink" Target="http://ar.wikipedia.org/wiki/&#1587;&#1606;" TargetMode="Externa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jo/imgres?imgurl=http://javey.net/images/hats/black.jpg&amp;imgrefurl=http://alweehdat.com/vb/showthread.php%3Ft%3D57298&amp;usg=__qd1otld-seoVDGLSxvJ5JC7JVWs=&amp;h=300&amp;w=300&amp;sz=6&amp;hl=ar&amp;start=2&amp;tbnid=PQAWR9VnC8L04M:&amp;tbnh=116&amp;tbnw=116&amp;prev=/images%3Fq%3D%25D8%25A7%25D9%2584%25D9%2582%25D8%25A8%25D8%25B9%25D8%25A9%2B%25D8%25A7%25D9%2584%25D8%25B3%25D9%2588%25D8%25AF%25D8%25A7%25D8%25A1%26gbv%3D2%26hl%3Dar" TargetMode="External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1200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www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kalimat1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com</a:t>
            </a:r>
            <a:br>
              <a:rPr sz="4400"/>
            </a:br>
            <a:r>
              <a:rPr b="0" lang="ar-JO" sz="4400" spc="-1" strike="noStrike">
                <a:solidFill>
                  <a:srgbClr val="ea2d00"/>
                </a:solidFill>
                <a:latin typeface="Times New Roman"/>
              </a:rPr>
              <a:t>موقع كلمات وعبار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5" descr="صورة10"/>
          <p:cNvPicPr/>
          <p:nvPr/>
        </p:nvPicPr>
        <p:blipFill>
          <a:blip r:embed="rId1"/>
          <a:srcRect l="17001" t="26190" r="0" b="7911"/>
          <a:stretch/>
        </p:blipFill>
        <p:spPr>
          <a:xfrm>
            <a:off x="2771640" y="4653000"/>
            <a:ext cx="3052800" cy="1820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C:\Users\adel\Desktop\22.jpg"/>
          <p:cNvPicPr/>
          <p:nvPr/>
        </p:nvPicPr>
        <p:blipFill>
          <a:blip r:embed="rId2"/>
          <a:stretch/>
        </p:blipFill>
        <p:spPr>
          <a:xfrm>
            <a:off x="6643800" y="4786200"/>
            <a:ext cx="190476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427280" y="475920"/>
            <a:ext cx="4392360" cy="114300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صفراء</a:t>
            </a: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424720" cy="410508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t">
            <a:normAutofit fontScale="96000"/>
          </a:bodyPr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زيزي الطالب انت طالب في النشاط العلمي ما رأيك ان تبحر في الانترنت لتعد تقرير عن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 لتقرأءه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بر الاذاعة المدرسية خلال الطابور الصباحي غداً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ستخدم برمجية ال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or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لإعداد التقرير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بحث في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؟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ما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أهمية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من الناحية الجمالية للإنس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.    اقترحي طرق للمحافظة على الأسن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يمكنك الاستعانة بالموافع الآتية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uae7.com/vb/t47668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6095880" y="6019920"/>
            <a:ext cx="1600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1042920" y="4221000"/>
            <a:ext cx="712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10" descr="39193766700_lg"/>
          <p:cNvPicPr/>
          <p:nvPr/>
        </p:nvPicPr>
        <p:blipFill>
          <a:blip r:embed="rId2"/>
          <a:srcRect l="0" t="12905" r="0" b="12117"/>
          <a:stretch/>
        </p:blipFill>
        <p:spPr>
          <a:xfrm>
            <a:off x="1547640" y="260280"/>
            <a:ext cx="1638360" cy="151308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11"/>
          <p:cNvSpPr/>
          <p:nvPr/>
        </p:nvSpPr>
        <p:spPr>
          <a:xfrm>
            <a:off x="539640" y="6237360"/>
            <a:ext cx="1524240" cy="439560"/>
          </a:xfrm>
          <a:prstGeom prst="rect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12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779640" y="404280"/>
            <a:ext cx="4606920" cy="114300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خضر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67192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نت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سن من القواطع التقيت بمجموعة من الأسنان داخل مملكة الأسنان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 دخلت معها في حوار حول مكان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تواجد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كل منها و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ووظيفتها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قم انت ومجموعتك بإعداد مشهد تمثيلي تُظهر  فيه اهمية ودور كل منهما 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م هذه التمثيلية امام زملائك.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يمكنك الاستعانة بالمواقع الآتية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84360" y="4797360"/>
            <a:ext cx="7775280" cy="80136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ar.wikipedia.org/wiki/%D8%B3%D9%8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7" descr="CAQXSDEN"/>
          <p:cNvPicPr/>
          <p:nvPr/>
        </p:nvPicPr>
        <p:blipFill>
          <a:blip r:embed="rId2"/>
          <a:stretch/>
        </p:blipFill>
        <p:spPr>
          <a:xfrm>
            <a:off x="1547640" y="260280"/>
            <a:ext cx="1470240" cy="157968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8"/>
          <p:cNvSpPr/>
          <p:nvPr/>
        </p:nvSpPr>
        <p:spPr>
          <a:xfrm>
            <a:off x="684360" y="6165720"/>
            <a:ext cx="1523880" cy="439920"/>
          </a:xfrm>
          <a:prstGeom prst="rect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7640" y="549000"/>
            <a:ext cx="4032000" cy="114300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حمر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26560" y="1915920"/>
            <a:ext cx="7705800" cy="394164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t">
            <a:normAutofit fontScale="81000"/>
          </a:bodyPr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كل شئ 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إنسان 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له دور، فما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هو شعورك حول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 دور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أسنان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حياة الإنسان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صف مشاعرك عندما تنظف أسنان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تخيل نفسك رجل مسن وقد فقدت أسنانك ما هو شعور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يمكنك ان تعبر عن شعورك بما يعادل سطرين على برمجية ال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6" descr="b_madhistory_cap_red_08"/>
          <p:cNvPicPr/>
          <p:nvPr/>
        </p:nvPicPr>
        <p:blipFill>
          <a:blip r:embed="rId1"/>
          <a:stretch/>
        </p:blipFill>
        <p:spPr>
          <a:xfrm>
            <a:off x="1619280" y="260280"/>
            <a:ext cx="1517760" cy="151776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8"/>
          <p:cNvSpPr/>
          <p:nvPr/>
        </p:nvSpPr>
        <p:spPr>
          <a:xfrm>
            <a:off x="755640" y="6021360"/>
            <a:ext cx="1523880" cy="439920"/>
          </a:xfrm>
          <a:prstGeom prst="rect">
            <a:avLst/>
          </a:prstGeom>
          <a:solidFill>
            <a:srgbClr val="ff6d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a2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835280" y="549000"/>
            <a:ext cx="5184720" cy="114300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زرق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7" descr="58"/>
          <p:cNvPicPr/>
          <p:nvPr/>
        </p:nvPicPr>
        <p:blipFill>
          <a:blip r:embed="rId1"/>
          <a:stretch/>
        </p:blipFill>
        <p:spPr>
          <a:xfrm>
            <a:off x="3492360" y="2060640"/>
            <a:ext cx="2089440" cy="208908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8"/>
          <p:cNvSpPr/>
          <p:nvPr/>
        </p:nvSpPr>
        <p:spPr>
          <a:xfrm>
            <a:off x="1116000" y="4437000"/>
            <a:ext cx="7056360" cy="155628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يبدو اننا سننتقل الى القبعة ............... الان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3492360" y="6021360"/>
            <a:ext cx="1524240" cy="439920"/>
          </a:xfrm>
          <a:prstGeom prst="rect">
            <a:avLst/>
          </a:prstGeom>
          <a:solidFill>
            <a:srgbClr val="6d8e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614520" y="1125360"/>
          <a:ext cx="7557840" cy="4739040"/>
        </p:xfrm>
        <a:graphic>
          <a:graphicData uri="http://schemas.openxmlformats.org/drawingml/2006/table">
            <a:tbl>
              <a:tblPr/>
              <a:tblGrid>
                <a:gridCol w="644400"/>
                <a:gridCol w="649080"/>
                <a:gridCol w="719280"/>
                <a:gridCol w="649440"/>
                <a:gridCol w="4327560"/>
                <a:gridCol w="568080"/>
              </a:tblGrid>
              <a:tr h="67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قبول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 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دا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متا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أداء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رق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عرف المصطلحات والمفاهيم الوردة في الدر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حدد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أجزاء الس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قترح حلول للمحافظة على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قصي أهمية ا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أسنان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 للإنس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بحث في بعض الامراض التي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صيب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5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خدم لغة علمية صحيحة واضحة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تواصل مع الآخرين باحترام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7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شارك مجموعة الصف الحوار والنقاش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8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نفيذ الطلبة للأنشطة التكنولوجية (استخدام الحاسوب) والتي يساهموا فيها بشكل فردي أو ضمن مجموعات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9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نجاز المهمة المطلوبة في الوقت المحدد وبدقة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0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Text Box 94"/>
          <p:cNvSpPr/>
          <p:nvPr/>
        </p:nvSpPr>
        <p:spPr>
          <a:xfrm>
            <a:off x="2843280" y="476280"/>
            <a:ext cx="33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95"/>
          <p:cNvSpPr/>
          <p:nvPr/>
        </p:nvSpPr>
        <p:spPr>
          <a:xfrm>
            <a:off x="7524720" y="260280"/>
            <a:ext cx="1295280" cy="91692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سلم تقدير عدد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226"/>
          <p:cNvSpPr/>
          <p:nvPr/>
        </p:nvSpPr>
        <p:spPr>
          <a:xfrm>
            <a:off x="250920" y="189000"/>
            <a:ext cx="7021440" cy="103140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اعزائي الطلبه قبل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بدء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بتنفيذ المهام لنتفق معاً على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معايير التالية 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والتي سوف اقوم على أساسها بتقييم انجازكم للمه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م الموكلة للمجموعة  ، وذلك حرصاً مني على أن يأخذ كل واحد منكم فرصته بتجميع  افضل علامة ، مع تمنياتي للجميع بإحراز أعلى العلامات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227"/>
          <p:cNvSpPr/>
          <p:nvPr/>
        </p:nvSpPr>
        <p:spPr>
          <a:xfrm>
            <a:off x="1692360" y="6165720"/>
            <a:ext cx="7175520" cy="58068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التقدير  :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متاز           ،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جدا            ،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              ،(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قبو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266"/>
          <p:cNvSpPr/>
          <p:nvPr/>
        </p:nvSpPr>
        <p:spPr>
          <a:xfrm>
            <a:off x="250920" y="6093000"/>
            <a:ext cx="1224000" cy="475920"/>
          </a:xfrm>
          <a:custGeom>
            <a:avLst/>
            <a:gdLst>
              <a:gd name="textAreaLeft" fmla="*/ 30600 w 1224000"/>
              <a:gd name="textAreaRight" fmla="*/ 1193400 w 1224000"/>
              <a:gd name="textAreaTop" fmla="*/ 30600 h 475920"/>
              <a:gd name="textAreaBottom" fmla="*/ 445320 h 475920"/>
            </a:gdLst>
            <a:ahLst/>
            <a:rect l="textAreaLeft" t="textAreaTop" r="textAreaRight" b="textAreaBottom"/>
            <a:pathLst>
              <a:path w="55527" h="21600">
                <a:moveTo>
                  <a:pt x="0" y="0"/>
                </a:moveTo>
                <a:lnTo>
                  <a:pt x="55527" y="0"/>
                </a:lnTo>
                <a:lnTo>
                  <a:pt x="55527" y="21600"/>
                </a:lnTo>
                <a:lnTo>
                  <a:pt x="0" y="21600"/>
                </a:lnTo>
                <a:close/>
              </a:path>
              <a:path fill="lightenLess" w="55527" h="21600">
                <a:moveTo>
                  <a:pt x="0" y="0"/>
                </a:moveTo>
                <a:lnTo>
                  <a:pt x="55527" y="0"/>
                </a:lnTo>
                <a:lnTo>
                  <a:pt x="54127" y="1400"/>
                </a:lnTo>
                <a:lnTo>
                  <a:pt x="1400" y="1400"/>
                </a:lnTo>
                <a:close/>
              </a:path>
              <a:path fill="darken" w="55527" h="21600">
                <a:moveTo>
                  <a:pt x="55527" y="0"/>
                </a:moveTo>
                <a:lnTo>
                  <a:pt x="55527" y="21600"/>
                </a:lnTo>
                <a:lnTo>
                  <a:pt x="54127" y="20200"/>
                </a:lnTo>
                <a:lnTo>
                  <a:pt x="54127" y="1400"/>
                </a:lnTo>
                <a:close/>
              </a:path>
              <a:path fill="darkenLess" w="55527" h="21600">
                <a:moveTo>
                  <a:pt x="555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27" y="20200"/>
                </a:lnTo>
                <a:close/>
              </a:path>
              <a:path fill="lighten" w="555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527" h="21600">
                <a:moveTo>
                  <a:pt x="27763" y="3837"/>
                </a:moveTo>
                <a:lnTo>
                  <a:pt x="30340" y="6448"/>
                </a:ln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lnTo>
                  <a:pt x="34726" y="10800"/>
                </a:lnTo>
                <a:lnTo>
                  <a:pt x="33073" y="10800"/>
                </a:lnTo>
                <a:lnTo>
                  <a:pt x="33073" y="17989"/>
                </a:lnTo>
                <a:lnTo>
                  <a:pt x="22454" y="17989"/>
                </a:lnTo>
                <a:lnTo>
                  <a:pt x="22454" y="10800"/>
                </a:lnTo>
                <a:lnTo>
                  <a:pt x="20800" y="10800"/>
                </a:lnTo>
                <a:close/>
              </a:path>
              <a:path fill="darkenLess" w="55527" h="21600">
                <a:moveTo>
                  <a:pt x="30340" y="6448"/>
                </a:move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close/>
              </a:path>
              <a:path fill="darkenLess" w="55527" h="21600">
                <a:moveTo>
                  <a:pt x="26841" y="14299"/>
                </a:moveTo>
                <a:lnTo>
                  <a:pt x="28686" y="14299"/>
                </a:lnTo>
                <a:lnTo>
                  <a:pt x="28686" y="17989"/>
                </a:lnTo>
                <a:lnTo>
                  <a:pt x="33073" y="17989"/>
                </a:lnTo>
                <a:lnTo>
                  <a:pt x="33073" y="10800"/>
                </a:lnTo>
                <a:lnTo>
                  <a:pt x="22454" y="10800"/>
                </a:lnTo>
                <a:lnTo>
                  <a:pt x="22454" y="17989"/>
                </a:lnTo>
                <a:lnTo>
                  <a:pt x="2684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4920" y="620640"/>
            <a:ext cx="8062920" cy="51847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لواجب البيتي </a:t>
            </a:r>
            <a:br>
              <a:rPr sz="2800"/>
            </a:b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تكليف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طلبه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بحث على الانترنت عن معلومات عن أكثر الأمراض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أسنان لدى الأطفال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نتشاراً في الأردن وأسبابها وطرائق الوقاية منها وعلاجها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وذلك بزيارة مسؤولين في احد المراكز الصحية القريبة وسؤالهم عن الموضوع ، وابعث نتائج البحث في عرض تقديمي باستخدام ا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الى البريد الالكتروني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reenalsamara@yahoo.com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ليتم مناقشتها مع زملائك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حصة القادمة</a:t>
            </a:r>
            <a:r>
              <a:rPr b="0" lang="ar-EG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6"/>
          <p:cNvSpPr/>
          <p:nvPr/>
        </p:nvSpPr>
        <p:spPr>
          <a:xfrm>
            <a:off x="1476360" y="3357720"/>
            <a:ext cx="1582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21" descr="six%20hats%20button%20blur"/>
          <p:cNvPicPr/>
          <p:nvPr/>
        </p:nvPicPr>
        <p:blipFill>
          <a:blip r:embed="rId1"/>
          <a:stretch/>
        </p:blipFill>
        <p:spPr>
          <a:xfrm>
            <a:off x="6084720" y="907920"/>
            <a:ext cx="2160720" cy="20512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24"/>
          <p:cNvSpPr/>
          <p:nvPr/>
        </p:nvSpPr>
        <p:spPr>
          <a:xfrm>
            <a:off x="611280" y="765000"/>
            <a:ext cx="28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25"/>
          <p:cNvSpPr/>
          <p:nvPr/>
        </p:nvSpPr>
        <p:spPr>
          <a:xfrm>
            <a:off x="611280" y="1052640"/>
            <a:ext cx="324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26" descr="104"/>
          <p:cNvPicPr/>
          <p:nvPr/>
        </p:nvPicPr>
        <p:blipFill>
          <a:blip r:embed="rId2"/>
          <a:stretch/>
        </p:blipFill>
        <p:spPr>
          <a:xfrm>
            <a:off x="1066680" y="48261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4"/>
          <p:cNvSpPr/>
          <p:nvPr/>
        </p:nvSpPr>
        <p:spPr>
          <a:xfrm>
            <a:off x="1332000" y="58770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3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36" descr="104"/>
          <p:cNvPicPr/>
          <p:nvPr/>
        </p:nvPicPr>
        <p:blipFill>
          <a:blip r:embed="rId4"/>
          <a:stretch/>
        </p:blipFill>
        <p:spPr>
          <a:xfrm>
            <a:off x="1042920" y="573408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7" descr="104"/>
          <p:cNvPicPr/>
          <p:nvPr/>
        </p:nvPicPr>
        <p:blipFill>
          <a:blip r:embed="rId5"/>
          <a:stretch/>
        </p:blipFill>
        <p:spPr>
          <a:xfrm>
            <a:off x="1066680" y="375912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8" descr="104"/>
          <p:cNvPicPr/>
          <p:nvPr/>
        </p:nvPicPr>
        <p:blipFill>
          <a:blip r:embed="rId6"/>
          <a:stretch/>
        </p:blipFill>
        <p:spPr>
          <a:xfrm>
            <a:off x="1066680" y="154944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9" descr="104"/>
          <p:cNvPicPr/>
          <p:nvPr/>
        </p:nvPicPr>
        <p:blipFill>
          <a:blip r:embed="rId7"/>
          <a:stretch/>
        </p:blipFill>
        <p:spPr>
          <a:xfrm>
            <a:off x="1066680" y="2738520"/>
            <a:ext cx="2409840" cy="7617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0" descr="104"/>
          <p:cNvPicPr/>
          <p:nvPr/>
        </p:nvPicPr>
        <p:blipFill>
          <a:blip r:embed="rId8"/>
          <a:stretch/>
        </p:blipFill>
        <p:spPr>
          <a:xfrm>
            <a:off x="1042920" y="5493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41"/>
          <p:cNvSpPr/>
          <p:nvPr/>
        </p:nvSpPr>
        <p:spPr>
          <a:xfrm>
            <a:off x="1403280" y="386064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9" action="ppaction://hlinksldjump"/>
              </a:rPr>
              <a:t>المه</a:t>
            </a:r>
            <a:r>
              <a:rPr b="0" lang="ar-SA" sz="2800" spc="-1" strike="noStrike" u="sng">
                <a:solidFill>
                  <a:srgbClr val="ccccff"/>
                </a:solidFill>
                <a:uFillTx/>
                <a:latin typeface="Arial"/>
                <a:hlinkClick r:id="rId10" action="ppaction://hlinksldjump"/>
              </a:rPr>
              <a:t>ـــ</a:t>
            </a: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11" action="ppaction://hlinksldjump"/>
              </a:rPr>
              <a:t>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42"/>
          <p:cNvSpPr/>
          <p:nvPr/>
        </p:nvSpPr>
        <p:spPr>
          <a:xfrm>
            <a:off x="1619280" y="170172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2" action="ppaction://hlinksldjump"/>
              </a:rPr>
              <a:t>المقدم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43"/>
          <p:cNvSpPr/>
          <p:nvPr/>
        </p:nvSpPr>
        <p:spPr>
          <a:xfrm>
            <a:off x="1619280" y="285264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3" action="ppaction://hlinksldjump"/>
              </a:rPr>
              <a:t>التمهيــ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44"/>
          <p:cNvSpPr/>
          <p:nvPr/>
        </p:nvSpPr>
        <p:spPr>
          <a:xfrm>
            <a:off x="1403280" y="4869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14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45"/>
          <p:cNvSpPr/>
          <p:nvPr/>
        </p:nvSpPr>
        <p:spPr>
          <a:xfrm>
            <a:off x="1403280" y="69372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5" action="ppaction://hlinksldjump"/>
              </a:rPr>
              <a:t>النتاجــــ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46"/>
          <p:cNvSpPr/>
          <p:nvPr/>
        </p:nvSpPr>
        <p:spPr>
          <a:xfrm>
            <a:off x="1403280" y="580536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6" action="ppaction://hlinksldjump"/>
              </a:rPr>
              <a:t>الواجب البيت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48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5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52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53" descr="C:\Users\adel\Desktop\22.jpg"/>
          <p:cNvPicPr/>
          <p:nvPr/>
        </p:nvPicPr>
        <p:blipFill>
          <a:blip r:embed="rId17"/>
          <a:stretch/>
        </p:blipFill>
        <p:spPr>
          <a:xfrm>
            <a:off x="6000840" y="3500280"/>
            <a:ext cx="1904760" cy="21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771640" y="475920"/>
            <a:ext cx="3454560" cy="94788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نتاج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13880" y="1557360"/>
            <a:ext cx="7742520" cy="4586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3000"/>
          </a:bodyPr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عزيزي الطالب بعد الانتهاء من هذا الدرس يتوقع منك ان تكون قادراً على أن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تعرف على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المفاهيم والمصطلحات التالية :التسوس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أسنان لبني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تاج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عدد أجزاء السن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ارن بين الأسنان اللبنيةوالأسنان الدائم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ستقصي أهميةا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لأسنان للإنسان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ترح طرق للمحافظة عليها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بحث في بعض الامراض التي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تصيب الأسنان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فكر بقدرة الله عز وجل وإعجازه في خلقه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4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5" descr="C:\Users\adel\Desktop\فهرس.jpg"/>
          <p:cNvPicPr/>
          <p:nvPr/>
        </p:nvPicPr>
        <p:blipFill>
          <a:blip r:embed="rId2"/>
          <a:stretch/>
        </p:blipFill>
        <p:spPr>
          <a:xfrm>
            <a:off x="1000080" y="3286080"/>
            <a:ext cx="164304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564000" y="620280"/>
            <a:ext cx="2589120" cy="79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قدمة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724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Tahoma"/>
              </a:rPr>
              <a:t>عزيزي الطالب لتنشط افكارك بحل اللغز التالي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دخل والدان وابنان الى محل قبعات ليشترى كل واحد منهم قبعة فلما خرجوا لاحظ البائع انه لم يبع سوى ثلاثة قبعات فكيف ذلك؟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6732720" y="5877000"/>
            <a:ext cx="1726920" cy="581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ح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6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7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1763640" y="620280"/>
            <a:ext cx="5688000" cy="208764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0" algn="ct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3333cc"/>
                </a:solidFill>
                <a:latin typeface="Times New Roman"/>
              </a:rPr>
              <a:t>الح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لأنهم كانوا اب و ابن وحفيد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4" descr="05072007-24258-1"/>
          <p:cNvPicPr/>
          <p:nvPr/>
        </p:nvPicPr>
        <p:blipFill>
          <a:blip r:embed="rId1"/>
          <a:stretch/>
        </p:blipFill>
        <p:spPr>
          <a:xfrm>
            <a:off x="3780000" y="3645000"/>
            <a:ext cx="1660320" cy="2077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23"/>
          <p:cNvPicPr/>
          <p:nvPr/>
        </p:nvPicPr>
        <p:blipFill>
          <a:blip r:embed="rId2"/>
          <a:stretch/>
        </p:blipFill>
        <p:spPr>
          <a:xfrm>
            <a:off x="6443640" y="3573360"/>
            <a:ext cx="1619280" cy="2114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jhL75552"/>
          <p:cNvPicPr/>
          <p:nvPr/>
        </p:nvPicPr>
        <p:blipFill>
          <a:blip r:embed="rId3"/>
          <a:stretch/>
        </p:blipFill>
        <p:spPr>
          <a:xfrm>
            <a:off x="1403280" y="3645000"/>
            <a:ext cx="1704960" cy="207144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7">
            <a:hlinkClick r:id="rId4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771640" y="692280"/>
            <a:ext cx="3456000" cy="8445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الأسنا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640" y="1773360"/>
            <a:ext cx="7772400" cy="3319200"/>
          </a:xfrm>
          <a:prstGeom prst="rect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r" rtl="1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333cc"/>
                </a:solidFill>
                <a:latin typeface="Times New Roman"/>
              </a:rPr>
              <a:t>التمهيد للدر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لنشاهد معاً هذ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مقط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ما الذي تشاهده امام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على ماذا يدل ذل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تخيل ماذا لو كان حجم ا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لسن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بحجم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ت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1692360" y="2708280"/>
            <a:ext cx="24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857160" y="2565360"/>
            <a:ext cx="4143600" cy="1068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ww.youtube.com/watch?v=Uzc13_lvbd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7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8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10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12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14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16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18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2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22" descr="C:\Users\adel\Desktop\فهرس.jpg"/>
          <p:cNvPicPr/>
          <p:nvPr/>
        </p:nvPicPr>
        <p:blipFill>
          <a:blip r:embed="rId2"/>
          <a:stretch/>
        </p:blipFill>
        <p:spPr>
          <a:xfrm>
            <a:off x="6858000" y="0"/>
            <a:ext cx="205740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76720" y="333000"/>
            <a:ext cx="280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هام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5" descr="58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211640" y="3500280"/>
            <a:ext cx="1104840" cy="1105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87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547640" y="2924280"/>
            <a:ext cx="1305000" cy="971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35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435640" y="5084640"/>
            <a:ext cx="1162080" cy="1123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369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4067280" y="1773360"/>
            <a:ext cx="1199880" cy="12189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9" descr="CAQXSDEN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6443640" y="3068640"/>
            <a:ext cx="1135080" cy="1219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0" descr="39193766700_lg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2411280" y="4437000"/>
            <a:ext cx="1638360" cy="20178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1"/>
          <p:cNvSpPr/>
          <p:nvPr/>
        </p:nvSpPr>
        <p:spPr>
          <a:xfrm>
            <a:off x="395280" y="907920"/>
            <a:ext cx="1944720" cy="94752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ارتد القبعة المناسبة لتعرف ما هي مهمتك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12">
            <a:hlinkClick r:id="rId13" action="ppaction://hlinksldjump"/>
          </p:cNvPr>
          <p:cNvSpPr/>
          <p:nvPr/>
        </p:nvSpPr>
        <p:spPr>
          <a:xfrm>
            <a:off x="7380360" y="5805360"/>
            <a:ext cx="1368360" cy="76536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360"/>
              <a:gd name="textAreaBottom" fmla="*/ 716040 h 765360"/>
            </a:gdLst>
            <a:ahLst/>
            <a:rect l="textAreaLeft" t="textAreaTop" r="textAreaRight" b="textAreaBottom"/>
            <a:pathLst>
              <a:path w="38610" h="21600">
                <a:moveTo>
                  <a:pt x="0" y="0"/>
                </a:moveTo>
                <a:lnTo>
                  <a:pt x="38610" y="0"/>
                </a:lnTo>
                <a:lnTo>
                  <a:pt x="38610" y="21600"/>
                </a:lnTo>
                <a:lnTo>
                  <a:pt x="0" y="21600"/>
                </a:lnTo>
                <a:close/>
              </a:path>
              <a:path fill="lightenLess" w="38610" h="21600">
                <a:moveTo>
                  <a:pt x="0" y="0"/>
                </a:moveTo>
                <a:lnTo>
                  <a:pt x="38610" y="0"/>
                </a:lnTo>
                <a:lnTo>
                  <a:pt x="37210" y="1400"/>
                </a:lnTo>
                <a:lnTo>
                  <a:pt x="1400" y="1400"/>
                </a:lnTo>
                <a:close/>
              </a:path>
              <a:path fill="darken" w="38610" h="21600">
                <a:moveTo>
                  <a:pt x="38610" y="0"/>
                </a:moveTo>
                <a:lnTo>
                  <a:pt x="38610" y="21600"/>
                </a:lnTo>
                <a:lnTo>
                  <a:pt x="37210" y="20200"/>
                </a:lnTo>
                <a:lnTo>
                  <a:pt x="37210" y="1400"/>
                </a:lnTo>
                <a:close/>
              </a:path>
              <a:path fill="darkenLess" w="38610" h="21600">
                <a:moveTo>
                  <a:pt x="386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10" y="20200"/>
                </a:lnTo>
                <a:close/>
              </a:path>
              <a:path fill="lighten" w="386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10" h="21600">
                <a:moveTo>
                  <a:pt x="19305" y="3837"/>
                </a:moveTo>
                <a:lnTo>
                  <a:pt x="21881" y="6448"/>
                </a:ln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lnTo>
                  <a:pt x="26268" y="10800"/>
                </a:lnTo>
                <a:lnTo>
                  <a:pt x="24614" y="10800"/>
                </a:lnTo>
                <a:lnTo>
                  <a:pt x="24614" y="17989"/>
                </a:lnTo>
                <a:lnTo>
                  <a:pt x="13996" y="17989"/>
                </a:lnTo>
                <a:lnTo>
                  <a:pt x="13996" y="10800"/>
                </a:lnTo>
                <a:lnTo>
                  <a:pt x="12342" y="10800"/>
                </a:lnTo>
                <a:close/>
              </a:path>
              <a:path fill="darkenLess" w="38610" h="21600">
                <a:moveTo>
                  <a:pt x="21881" y="6448"/>
                </a:move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close/>
              </a:path>
              <a:path fill="darkenLess" w="38610" h="21600">
                <a:moveTo>
                  <a:pt x="18382" y="14299"/>
                </a:moveTo>
                <a:lnTo>
                  <a:pt x="20228" y="14299"/>
                </a:lnTo>
                <a:lnTo>
                  <a:pt x="20228" y="17989"/>
                </a:lnTo>
                <a:lnTo>
                  <a:pt x="24614" y="17989"/>
                </a:lnTo>
                <a:lnTo>
                  <a:pt x="24614" y="10800"/>
                </a:lnTo>
                <a:lnTo>
                  <a:pt x="13996" y="10800"/>
                </a:lnTo>
                <a:lnTo>
                  <a:pt x="13996" y="17989"/>
                </a:lnTo>
                <a:lnTo>
                  <a:pt x="18382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355640" y="620280"/>
            <a:ext cx="4173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بيضاء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857240" y="1915920"/>
            <a:ext cx="5740560" cy="301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1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اذكر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جزاء الس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2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عدد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نواع الأسنان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3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قارن بين الأسنان اللبنية والأسنان الدائمة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4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ارسم خارطة ذهنية تبين ما توصلت اليه </a:t>
            </a:r>
            <a:r>
              <a:rPr b="1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باستخدام برمجية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dspir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يمكنك الاستعانة بالموقع الاتي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468360" y="6021360"/>
            <a:ext cx="1523880" cy="43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1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2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0" descr="369"/>
          <p:cNvPicPr/>
          <p:nvPr/>
        </p:nvPicPr>
        <p:blipFill>
          <a:blip r:embed="rId3"/>
          <a:stretch/>
        </p:blipFill>
        <p:spPr>
          <a:xfrm>
            <a:off x="539640" y="765000"/>
            <a:ext cx="2266920" cy="230364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11"/>
          <p:cNvSpPr/>
          <p:nvPr/>
        </p:nvSpPr>
        <p:spPr>
          <a:xfrm>
            <a:off x="3643200" y="4857840"/>
            <a:ext cx="4694400" cy="1894320"/>
          </a:xfrm>
          <a:prstGeom prst="rect">
            <a:avLst/>
          </a:prstGeom>
          <a:solidFill>
            <a:srgbClr val="a5a5a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http://ar.wikipedia.org/wiki/%D8%B3%D9%8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http://www.slideshare.net/Hetaf/ss-635024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14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284720" y="620280"/>
            <a:ext cx="424656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سود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6" descr="blac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32000" y="189000"/>
            <a:ext cx="1512720" cy="151272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7989840" cy="2736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 fontScale="85000"/>
          </a:bodyPr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  <a:cs typeface="Tahoma"/>
              </a:rPr>
              <a:t>ا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بحث في بعض الامراض التي ت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صيب الأسنان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ffffff"/>
                </a:solidFill>
                <a:latin typeface="Tahoma"/>
                <a:cs typeface="Tahoma"/>
              </a:rPr>
              <a:t>ابحث في أهم الأسباب التي تسبب مرض التسوس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 هنالك </a:t>
            </a:r>
            <a:r>
              <a:rPr b="1" lang="ar-JO" sz="2400" spc="-1" strike="noStrike">
                <a:solidFill>
                  <a:srgbClr val="ffffff"/>
                </a:solidFill>
                <a:latin typeface="Arial"/>
              </a:rPr>
              <a:t>أمراض أخرى تصيب الأسنان غير التسوس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، فسر هذه العبار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يمكنك اعداد نشرة بسيطة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حول هذه الأمراض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حول باستخدام برمجية ال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ubli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Text Box 8" descr=""/>
          <p:cNvPicPr/>
          <p:nvPr/>
        </p:nvPicPr>
        <p:blipFill>
          <a:blip r:embed="rId3"/>
          <a:stretch/>
        </p:blipFill>
        <p:spPr>
          <a:xfrm>
            <a:off x="493560" y="4925880"/>
            <a:ext cx="8077320" cy="97488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9"/>
          <p:cNvSpPr/>
          <p:nvPr/>
        </p:nvSpPr>
        <p:spPr>
          <a:xfrm>
            <a:off x="611280" y="6093000"/>
            <a:ext cx="1523880" cy="439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4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5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11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18-02-26T05:47:33Z</dcterms:modified>
  <cp:revision>268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