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B75614F-8A6D-4295-8473-DB805D18A52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58A1C00A-C1F4-4652-BFA0-469122543560}"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E2B9051A-4D2E-455B-A334-906E350EA8F3}"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DBBDA4AC-792E-4A71-9ADC-05026198713D}"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B5DC13D7-0582-40BD-8786-C8DFB5D7A72E}"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BD64666A-2B91-4358-8BBF-A973B872E9C7}"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8FC01D64-FC27-4599-A512-D45DB0DE070A}"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C959B613-BC65-4800-91F2-ADE04664F565}"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AE9C7D72-DD71-45AF-8401-E10950320D29}"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86DE97FC-5239-49F1-8898-B77A8F21CC8F}"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55E41AE3-4351-4FCC-B840-B3CEEB615C7C}"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EEBEAF6-B931-4BDE-B88A-0D63ED96E69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3A097ACC-84BF-4AA5-AABE-3B4F4024C08F}"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390339C0-4086-4322-A11D-7DA32AFD74C1}"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A131E5F3-1BAC-4111-B5D4-13F74851E335}"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339C3353-928B-4E36-9C33-A175AE7B65E6}"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D3113AF6-BA0A-460C-9F15-8E009AF888AD}"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E17A4E65-1139-4C7B-BB90-8F3FA4F07925}"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CD441422-5591-4A96-A5C4-606EB51D024D}"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47D8D749-B9C6-48EE-8C24-3B5E34E92D92}"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14690AC5-6DD1-48BD-92CD-0F86687D58D1}"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BCFF9636-E1CF-413B-86CD-D032A89A8890}"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2BF7E7BC-36E6-480E-AF36-3760833C204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BEC21C8F-7C3E-406A-B830-4FD3D9FC7D0C}"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00EF4512-5BBC-4A7D-B6FC-1C3EB39ACC22}"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14245FAA-5EFD-46E7-A2C9-FFAD913E32EF}"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BFE19547-0BC1-4F1F-92B1-AE45418A0DCE}"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536488D4-EC0C-4C2F-AFBF-5FBCB1E29A42}"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6C21ED9D-E989-4938-8BC5-464591A56CCC}"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9868F4FD-C481-4408-A678-827140AD2E00}"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AF1E00FA-2360-41E1-93F0-6CE2B65602B5}"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3C1190CC-8D14-49D6-9E7D-CFB49B42C277}"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7322F65A-BE8B-4B10-BBC3-7575CD83CC17}"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C5B44FD1-FE9A-4E93-AE8B-A1E2679AC6B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9D048C4-AAB0-4982-8D3B-97087CF004E4}"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10436F3F-03AC-49B2-866E-2D5A89CE796B}"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3EEA2C67-1CAA-4561-BF7C-617B804C1A24}"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E6485E97-B8BC-4519-B3F0-BBFB2C8F6567}"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EC78C986-9874-42A3-953E-6247A57FD140}"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C490E211-263B-4AF4-9CEE-C2DF75040EED}"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6D08DDBF-EA5F-42FE-9746-441EBB08E563}"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E9DDDB77-434D-4D6B-877D-8FFC77BEE7AA}"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022545B7-15E7-492A-AC77-9DB5127A308E}"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CC33D7BA-C700-4BEF-BED1-212F21330291}"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4CB5E580-EBD7-4756-9EEF-999C1541D17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4E78C8C0-1AA0-4395-83CD-51BCBFAA4E3A}"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0F702A3A-C5FA-4F66-BAE9-32D1B7F03C77}"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D988D004-A29A-4ACD-8F40-A03796EC9D05}"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DF9F2FF7-4CCE-470D-9750-730D425C8ECF}"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77BEA903-9577-4C05-A36B-D24F83E33448}"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CD73222C-58FD-45D9-A954-A0F3CFE86EE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7F1FF8AF-3FB5-4D08-A5C7-40DFC58BE61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E810870F-514E-4DBA-AA5B-2BD4CD8DFF4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2B1FB670-CD79-4D5B-8018-69AD22211E5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2F60D629-E3A3-4DBB-8F85-0E37FDB01D2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DC318AF3-F514-41E6-AA4B-8F70CDA2439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DA82C6F4-9674-4189-89C1-B3D7881CE99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D8C8AA2D-D607-4D55-B8FC-89002115F17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71060FB3-142C-47C1-B896-790D68D0D75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11C16A70-981D-42A6-ACFF-6166A40EC99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671B04B9-EDF8-4D56-A179-7B092535888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98E35F46-05DB-418A-AABA-2D31E84B8B0D}"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B9D2160E-7C97-446B-B569-CE43BC9BE375}"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F75DB6B4-5FBF-4883-B2F6-453A9B3C7065}"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540ED975-1AC3-48C8-BF86-08251F9F8CAD}"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1CD5D406-4C6B-4DCA-B37B-9315B1F4FF58}"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29F2B4D8-ECE8-4680-8F9B-41B6B95966CF}"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804A26A3-F840-47CC-9D70-1EE2CF090BAB}"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60693990-4328-474E-84CA-DFD6015744B8}"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984D9C0C-3C63-4552-A877-1940B7701367}"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A533CEC9-DAEB-4AB4-A1E0-E61D1DF8AE39}"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02607EEF-8C88-4319-B781-3DEC95382BF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80B958-4617-4F96-810C-D7C88538B25B}"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E5E908-A1DF-4D6E-B513-282A96C82C4D}"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5EFBD6-55F9-4597-B931-5F5F0F40E978}"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2DBBD8-D097-4B75-8AF5-DE4615DBC56A}"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985AC3-647A-4FD6-830D-903AEA579BE8}"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B4655E-6BF6-4CED-B519-3B7A7DB032FE}"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B3A22E-CF94-414A-8E87-7BB31BA6B55D}"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6F8D0F-CAD8-412B-8E3F-1402C620BAD8}"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6FC790-3294-4917-BA6C-55411466D75A}"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541E92-C80C-4006-A926-E7947037EEB2}"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