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9410D9B-8E39-4914-BA0E-CE9C2C6E8DC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6E7B5B8C-C4A8-4852-9FE0-30A5FA9EF9A3}"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3B8830DF-604D-4481-A139-639B7A0C7EF4}"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394ADF7D-063E-4B47-A8E0-0541488A66A8}"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958144BA-17CF-40E6-8CB5-FF57839F104F}"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8D9A8EE2-6222-4895-9AE8-294D0B81A9B6}"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F32B650C-6FD0-469F-8C9D-6CF6A85A0C6E}"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EB679E1A-8A04-4155-A789-7C28BEC5FC98}"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8A1FC5D4-0635-4029-8051-BDFCAEEFE63C}"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3B586BD8-93A5-4CE9-BC24-7FF5FB3A8690}"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458569BE-17D7-4510-B3A3-0F5A88E2CF49}"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0B3B139-6043-4EAF-9150-33633FB0B4B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92C5878A-2902-4AF4-986F-0104EABB4F21}"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ED2B1DC8-ACAB-4317-9E0D-CF045ACA9E5D}"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E948698A-A895-4BBB-8FA0-C42A8A9933B0}"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1FA3FAD2-5C97-4A3A-873C-DA83697B583E}"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E17B4F7E-BAE1-4FD0-B7A1-E2176F7ED1AE}"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76F31F1C-8E38-46FD-B4FE-32076EB7BA50}"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D639B52D-DA10-43A8-97B9-2CBBFB026CE8}"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1C1BB8FD-A512-4143-886A-EDCCFDEF1128}"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014E8B41-CA56-4281-8147-982EA10BC466}"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B5CB9C70-261C-4AC3-88F8-12DA1FEE3745}"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E205F49B-8591-4C13-A47D-0B35C041567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91EF7257-F14E-4B76-AD7A-DC0F9ED278ED}"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A12B3880-C39A-408F-AD74-778FDB87E878}"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5401C45E-A341-44E1-9E8C-74C62A48B29B}"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89E1EE1B-CF8D-417C-AB6F-730FC6F21B58}"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2F1082E6-796E-48FF-B38F-F7014CD3E7E9}"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E50C449E-949C-45BF-A333-91BB22079309}"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ED5D0BE8-3C99-4309-A694-65B538AA5E6F}"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4B7DBCAA-3D16-4E63-B2EE-62026062A614}"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ABDC3C97-0182-42FC-BFAD-3E92653C8700}"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3B01954C-7F17-4910-A78B-3B8B13B3ACE2}"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5D7D3E86-F048-4882-BF9B-89F56DBABA4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704A399-07E5-47AF-8CAC-4E20963CD105}"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602445CF-BE6D-467C-8A55-0F0DA180095A}"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A9D064F5-3BEF-4D5A-811A-5AED00E23884}"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4D0195F3-A6F7-499A-9AB8-FC8E9E49AFB5}"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9ED1DDEA-CF96-4C8F-93C4-ADCD115D977B}"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2ACF97DC-DDA8-49C6-B515-2580F4935B95}"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7797EC0E-F76B-4207-8D80-FB50E48D9FDA}"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2149AE76-5105-4FC1-8C50-BDED3F8F5EDD}"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A429DB27-6AA3-4AC1-BA5F-C963555EC821}"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DC893A5C-FBA2-42C0-8F8B-0725D6F187B1}"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60655243-AC59-4B0E-889B-31968A7A3B8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A304F3A2-B9CE-4F84-B7FF-6CD8150AB009}"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BDE9DCDA-EA63-4072-AB01-03FB6CBDF137}"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4483D3B8-0F92-4BB7-8B4E-ED003E1C337C}"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B8B21E95-1358-49F8-8C2F-693922FC31BA}"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0AC8CC18-9834-4234-8919-B49325FB1B81}"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4EEE476F-DEBC-4902-8108-7F687B03289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58BAD744-3835-4E6A-A996-15512BF75FE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AD3246FF-9F58-4DD0-91E3-143211AC534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D78010F2-5310-4C57-BA8E-A484C380122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6FDCE75A-5A88-4354-BA12-056886D3F26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4F4F0DFB-EB9C-4D60-920C-CFC06E6C8E7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ECDA0FD6-4163-43FB-AF5A-08137A0593F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46D55466-2CDD-419F-B748-650666C8C18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0B2DBC84-CD84-4794-93C6-61CF4CDEC3D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9367969E-9225-49C9-AC1C-4FDEB4498DD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17DDCE6B-0ED0-489F-87BE-4D6E8343D1E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183B2DD2-E05D-4D56-9031-99118AB9E517}"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6882F072-513C-40CB-9085-3E4982700E80}"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0330E60A-FFED-45DD-8C64-04D5E5D081A9}"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D2723A9B-DB32-4DD5-9954-1E32F2E53307}"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01942812-E7CE-430E-A6A9-361ABDB47BF4}"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ED99BE9E-270F-49A1-8A7F-1E68DB471EDB}"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26E0CE72-24E6-4B04-A377-4AEA088EFED7}"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E5FB2635-D58C-414B-83AB-0D8B32612016}"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6E71E17E-37D6-48C6-A3C0-F4CC51A9C41B}"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141B9992-F78A-4749-9355-8F00FB7ACA17}"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020E4789-3B86-4BAA-8074-6F24ECCE524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53F685-B85B-48F0-A4B0-A81B6F89E5A1}"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5B139E-06D1-4B8D-85A8-C2520A008BAE}"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EEA510-3C28-463A-8D74-D950F9A7CB95}"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BF8640-DA5E-4662-9018-2DE4EC624F23}"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D5BC6F-0D22-424E-A3F2-A7942D573492}"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7D8313-BD64-4A14-949A-4465D817E76D}"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528D37-0F96-4A76-A8D2-9754227FEDAF}"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76C6F9-648A-4D28-856B-BF2BBBAEDBA2}"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82BEE2-4C44-4977-9931-5956232EE54F}"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2B3822-F1C5-464B-B7A6-9263EFD64D97}"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