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E09943F-9CB6-427E-BBC2-963F0818C1F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EB25C3F6-8A04-4701-9EF2-08FDCFFCD420}"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3F74A1C8-D103-4D67-8829-4DE9C8CC20F4}"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8A377649-11AA-4E7E-8C58-9D03E242C15A}"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14D19C27-E848-4707-B912-97EE31B0C313}"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2B60007F-AB7C-47C0-A0DB-36970074BB80}"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7C200F56-C686-4572-8DED-D4AD9BA48783}"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0AB6666B-B043-418B-ABE3-CFE96757BB5E}"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F4C632E0-CCB0-4416-9DCE-C8F85F5CCAA9}"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8937C89C-6340-4A79-A6E6-81F2B193343C}"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B33C30DA-2445-4B5A-B1A4-3116985C8B27}"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46CEA9F-53D6-4AA1-9EF1-839ED1E4605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BFF54641-AA45-44CD-B3D3-C6AEC401A7B8}"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458E3A6A-6F23-4A4A-9968-32A82302C7DA}"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44EB3147-40CA-4055-88C7-0D918F4960AF}"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61C94038-C269-4047-85FC-62483A23331B}"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D09E4ABD-530B-4B07-BE5D-3279F4728E62}"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FAF7F8C2-ABF8-4C51-9129-7B7D44511240}"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32759785-350E-450D-AA30-44616A246026}"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849FB107-E54F-4114-AADE-2F1A5E47C635}"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8B20A723-7143-4460-BA56-9E7B5E09A3BD}"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DA1BB573-A93D-4104-B2F4-645AA30090D8}"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89E2FE27-1BAF-48DF-B137-88FDD020167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1F39D2CE-A259-4380-9F61-C97F52757389}"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2A3FFC6B-F0FC-466B-A1F8-D4C7DFFA95E5}"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6B497935-1087-400C-A72C-0036F1563EAF}"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F6DA17EC-EFD2-4CE8-B147-DD7726050E01}"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50E0F491-D5D3-45B0-B503-643566EED017}"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F34462DF-E356-4BE6-8EDF-0E56D1BAE910}"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3CEE02AA-DB6C-45C4-8E11-6F5FDDEC4FAB}"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7C93DB69-D396-4FB3-8CC9-8DAC59EA94EE}"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A5DE5978-03BE-4058-9C91-622B09EADCFA}"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8389EF17-B77E-40F9-A442-1F5364EB4192}"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9FCC120C-4BA1-4697-AC71-AD912A7BF8F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7038BDB-3ACB-4FEE-914C-E6332F3D233A}"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F0433AAE-2318-4BA2-9660-CE0D79BEDDDA}"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FEEA8501-711C-450C-A220-7A127D43381B}"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FA3992DE-DAD1-494C-8D19-8AEBF0F1A8DE}"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55194292-2CE1-48E4-A616-654F180584B2}"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CF4941E1-8CC1-4A5B-A563-1C732EC2AD59}"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32243543-748B-4DB4-A97D-D0EB4D74AC19}"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96853811-BED3-4CA0-B073-51825210A641}"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21D70780-EFF0-40D8-AA41-69F27773CCF1}"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7D1FA6A5-0E0B-46F0-9E88-51A4CD75745B}"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D440DCCD-D2F0-460C-AD91-CE847731450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81EF57DC-1178-45C5-861B-A0D6DAC46D1B}"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3AE75C76-E363-40D6-9404-275F596E6C7F}"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3A99E09B-2004-4A1E-9BE6-AF7B794D6212}"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E64B0CFA-B320-4070-BDCF-62DD44568A4E}"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D64C08AB-8BC8-427C-9C5B-187C8CFE1D9D}"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F29AD891-173D-4F36-8912-EE07DFB1659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729894F0-591F-43C6-B4F7-5756134A42D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681AFC8B-957A-4D83-8180-A91C8AE0C20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6E39AD04-8097-4C82-A941-03FF53B1A67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F646FE95-32CA-4D99-8FDD-FE10388B35D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FA41D2FD-625A-4732-B934-EE89AA142F4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74BEBC13-911E-4E6C-A29C-9FAA3DE58A0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787A575A-2805-41F3-83B3-282D783DE5B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A01A0334-C9B2-44C6-9A6C-26A8AD38B86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598AC1E2-5CAA-4616-BF4D-E525CADA0B7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FD6FE0D2-EF2A-4FA8-9534-B3F6D49747D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6629F678-2A72-4A49-AFE6-D92A224E8EB5}"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7132BD06-4764-4546-BFBF-E97E1EF82F84}"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38C47054-7B59-47F3-B2BE-2AE948E2E42C}"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8D8F7966-5B8B-4CE2-8126-EA8751800E71}"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8DABFB33-C990-40B3-B88D-795874509501}"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E5D9A16D-39E4-4365-A566-6C5D7FB9C634}"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2DC4501E-B3E3-49E1-B61B-D86691AC5E4B}"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9C99CB41-8573-45E8-BE44-5E28F394EAAD}"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A23F7487-D2AA-4B4A-83CB-62C884ED300E}"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6C163083-CBE0-4BE5-B62A-E3BE04753939}"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C1A97580-CADE-4838-AEE5-DB73A3F7C7B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53023-FC6F-4AAC-9958-2656AE991C12}"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A23D4-70C3-462B-898F-A8EC0A4C4912}"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C4163-8969-487E-9F28-987CFCC5384C}"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0E82D-EF56-496A-9B1E-8C1ED5C4CD82}"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2921B-421A-40AA-8550-3F95EAD14DF7}"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587C0-F66E-4AAB-967E-4B8AEB8FA4A7}"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EEA91-60DC-4DEB-BA39-2AAD14F88552}"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54831-6A83-47FE-9189-0FFEDCDD2293}"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1BA67-CE21-4D55-9BCB-CD2461076F19}"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C2E6B-6D5B-4B0F-80B9-3C522929ABCC}"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