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02FE20B-B4B9-4EB3-AAD7-BDDB20C5061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F9E2A987-4166-4EA1-BDB6-9BE3966A6189}"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FC8C1BDB-B3E5-4201-B17A-53E6046B5D4F}"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ACB2B0BD-EEFC-4167-A67D-A6338DEE2DE8}"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198AA429-1224-45C0-B916-F460E08D25C7}"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3D984205-BAA0-42CF-86F4-B5980399EBB7}"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B1C8275B-D178-4B78-B5E3-7B4AECAB2817}"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B43FA368-3F68-4352-893D-EDD8B919C968}"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C6B392FA-64A5-4DED-8837-CB91208FEE08}"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B5658CD5-B354-4C67-8187-09ACD1FDF4C3}"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C055C2BB-A22E-45C7-A708-4ABF1F94964A}"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CDA2A7D-03A5-498B-A18B-808C6F6DACE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0A39DEC2-FAB3-4F46-B256-ADBCB1EE8C49}"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C051CA0B-6EA4-41E2-B93F-6BE1F104AA8E}"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C34DBA03-B9BB-44F8-AAF0-02F8EF8A551E}"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FC0C9E56-9820-4F82-8271-EC1BFC386ACA}"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1068E525-0BBE-4DA3-AC29-2B50871E65A9}"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20CC293F-8CAF-4B89-95E5-B5B5E00C65D9}"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1D6BE3FA-392B-490D-BC98-1BCADD8350FD}"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B9BB866C-D638-43C3-A21F-8BCF314B79D7}"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30DF1E44-A358-4F06-A5C3-CFC191D92222}"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9D85D94B-3AB9-4A21-81BF-35FE5F3A4BE2}"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5A0AEFD5-C37F-4A50-BB40-0E01C819E9D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D58E4078-8B99-4046-89FC-F83AF496E0AF}"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07253CEB-A715-461A-BABF-0D11091CE621}"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41DC2496-743C-43B3-B41E-21346B7D7BDC}"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BFB15F7A-BE32-49DB-8526-701D4C92D7D1}"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8B3AA3DF-CBF9-4A3B-9514-6D6487D6BECB}"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460C11DB-9BDD-4409-8AF7-F0E9F84E3DCB}"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4F217550-ACBD-4F94-8967-BC8759D462A4}"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D50DCA80-C366-4C6D-9A54-F1363995D8E5}"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ADFA6E66-0025-4E24-9B25-81C18F2DB02A}"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8A5DF836-EF15-4328-BFFE-5FFA006DA2C4}"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31AB9697-EA14-4798-AF95-778A5162FC2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129EC05-1A1C-4520-B251-0DA8DCDD9EC6}"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24280DF5-E2A6-42EE-B692-F01D9B48E86F}"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8F7CB28F-02F7-47C2-A7A8-3E0B1B6AA651}"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A5D04D48-C179-4536-BC46-21B1EDE5CC83}"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E1653DE8-13B1-4F0E-929F-B3DCB6699A0F}"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090425A5-61A3-4B1C-A057-E00E9EBBFC3C}"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B30001D6-B43E-4F51-8192-854BC097979A}"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1BAEBF09-6DE9-427A-A453-1FC33EE1202A}"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88F9E02F-39AF-408F-B374-AD3D121B2CE9}"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2EB017FD-22D6-4A84-B547-1A9F73994909}"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8986E7AA-61A9-4C1B-BBF2-ECD4EA5EA90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D28D7A1E-E057-4554-9245-EBBEF99C8E81}"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16F6420E-A49A-43D3-83E6-2E4B90F12FC2}"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C354C438-A58C-4E21-A66F-172EC8F93E80}"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377FF591-181C-4AF8-AB44-E897BAD4AA5F}"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048C8AC0-C242-4089-AB9B-9A64F8C51CCE}"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9F95776C-C86F-44F3-B222-075A656100E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560550D4-4216-438F-876C-0981EBB3328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39920519-B0A3-4986-AF8B-989FE24F282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A797764D-406A-496B-90F0-EEEE95494E1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7DC3A633-9D00-48AF-B6F1-8887D88C342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03F992EE-1E7C-44FD-8982-D5730B59671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9E7B4682-2771-486F-A486-431E73E7338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AA77F2DB-D606-4C6E-A1E5-803FBD85E79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9B2E0A13-352C-4722-B9B6-7544185DC0F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91B991FE-7330-494D-ABDD-C6BBD1DEC9A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0D0A119F-0B35-4A31-9967-CADE64A5907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09889C10-A53D-4869-B30C-C48A9315D31E}"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3EC838A5-F918-43B2-A421-ADDFB5A2DAA6}"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A286193E-AEE0-4E70-91BE-127A6F6F6BD2}"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8D5AD945-B718-4DC2-8F30-B00EF0DE783A}"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EC2237B5-B784-421F-B01B-640ABF043B54}"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4A285507-27B1-4B0C-BE79-18DDDC732C24}"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5CB81C16-3868-46CF-B119-2F4C28A55592}"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675DD99F-BD1F-40EA-A7D1-26C9A3DD1894}"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B80A7F34-6E44-45BC-A834-09192F884B66}"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C54B3A1B-8B2B-4C72-8E94-68BAE4576A5C}"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7504B4CC-6A2D-4C5B-8B2F-1D775DFBB28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9CF8CB-5DEF-42AC-801F-24D9AEB4ED24}"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A9912D-1B52-48EB-8F74-BB011E402168}"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1AB428-E823-46D3-8F55-234B3D855731}"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2E5E4F-48D3-4D29-AA81-253412CD271F}"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4C26E1-4C80-4ACE-BAEB-8C761EA9517E}"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9BD8F3-EFE5-4325-8553-5C3EF686BDD0}"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6CC74C-3669-46A4-83F9-15AE7D9341F4}"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C52E35-6FFB-4481-9A8D-AEFFAC121577}"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C04211-5843-442A-8947-D95B7EDAC838}"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28EC29-3068-4A58-A97A-21B994715FEC}"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