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A677BD6-CEC7-4000-B45F-C3540ACACA4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6FF9DF68-1C6E-4A21-A845-CA10072C745D}"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6B6474A8-402A-488C-B5ED-76EFDF73FFAB}"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0FF95944-54E1-4375-B597-394C3806DA6D}"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44F05329-2926-4336-BDFF-85955A721CB1}"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8A332DB2-7A97-495C-A30C-42324C50A44B}"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78C0E80B-D703-42AD-B578-B8469774F5A7}"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12145131-1DF5-4442-9420-FE0EE95DD7F7}"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2AC60E3F-62AE-4B6A-9EC4-ECDBD5CA4469}"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C1EC043C-B095-4C66-A36E-45FE9CE1B6C7}"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6A417DB4-318B-4343-8E0F-F3BCC67EED23}"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9091EA4-90C2-46B7-B16C-AFEC89B656E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94E6088E-72F5-4A61-9A2C-A9BD76CFB427}"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DDBACA13-510D-4838-BCD8-196012B61A43}"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7820849E-1074-4199-A092-49CE7346818E}"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3AAC563A-A439-48D3-99C4-19C136A75B78}"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71EB195C-1EEB-4990-80C4-A8FA03C2710A}"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741EC3BE-4BD2-4628-9E7E-DC37F9F37F30}"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9437C6A3-D888-4654-AD39-BD42014A7B85}"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D1782B47-8407-42A4-985F-2C843D3FC78C}"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2FA783A6-86D4-4ACD-A589-A39605400420}"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CFA4B7AC-DCAC-47A7-B119-06A9F28BA4A3}"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C2242B43-16C3-468D-84FB-47E59464369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8BC50AC8-5FC8-47B4-9E8A-59434217C2AB}"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60DE1E6F-E093-4E34-999E-D95D4D867CDA}"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45F2D49F-06AD-44FE-8F59-231D00029E42}"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3A2C483D-038E-4AE7-9462-B9D22AC04D33}"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7FA402C6-F670-4525-BF41-04992F6DDAFD}"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3747E1EE-496D-4657-B43B-051E0AA8640A}"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D13D3D5B-9116-451E-8ECA-CA6429A15B12}"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8825501D-4499-487B-B509-D0CF9D56FD27}"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D56427AB-BBE0-47EB-A67B-5442AC288236}"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53068130-7B62-4AD4-A206-FCFBD365206E}"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D5928C1A-5E97-4D69-AB7B-79A57E1F86F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22C3BFA-FEFE-49F4-8415-9CC721AF67C2}"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451CFC69-8989-405D-AE91-5AEAF0E0879C}"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50C2AA8C-0544-4C5E-A67B-318C223A35BA}"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20D2F9CD-CAB1-4D43-B0DF-716346D2AAC0}"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689D2ECF-01C0-42D7-86D0-DE4F6EC1E199}"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F7871CB6-C0D0-4036-BF65-E70415A4FDD2}"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2D82F445-5AD3-4BFA-80DD-02F89DF33432}"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3ADD09A6-B934-4D4D-A2C8-9B860A1259EE}"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B36D01B2-E5F5-491E-B896-4E2B74DCEF32}"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6F3196FA-C58E-4B24-81C5-6B982DBDE2E3}"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7F843D81-4E9F-4F18-9DDA-A770087219E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46B6C5C8-DA34-46D2-BF4A-61D0BBE5F5E9}"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0A3F5A24-86B6-4186-AC04-3EFAA9602C94}"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DDF72EA3-2200-4387-9F92-2DF6A2C4F30F}"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C252EB04-F03F-4D93-8A94-EE851784744A}"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E881F48E-025B-43DA-B6F3-624EA97AA871}"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BED2C792-9A3E-4F94-A4F5-8F0A9CE472F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3E34539C-B2BB-43BC-8EDB-B6D621C3D38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E683388E-43E8-4C4B-9DB1-FB53F86D0B9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4D9E00F8-F1E3-42DC-B0B6-88255D42F04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36525809-44B2-450B-A63C-8FA03FAB7C2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C9FBF3A5-05FE-49C4-AF75-7A8A017F17C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6E5C935A-E634-4308-8005-1B6EF6EB62F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0DECA7C2-B658-4BFA-BEAE-049B96D076E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5F5B32BC-7D95-4CE0-855C-91364D78661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D267A2A3-7C15-4EF0-99AF-5E0FF212B2C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F5985F4B-6617-4652-9295-96A4A3B204E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1BDD4588-9E0A-4ECA-BC5E-E1528973D6F4}"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CCC6CDDB-DDC6-4CBA-BCE9-E76D91EBB5DC}"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4F37D80E-6D73-4AE2-BDDA-DA8FD2C33C60}"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3C41E3B9-15AE-4413-B781-92278F2C3234}"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797DD3DF-77AD-4DE8-9429-DED269D0104B}"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EA620EA2-E1D1-4962-8631-EDE1F793A3D6}"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98ECAA68-2E8F-4D89-98EA-24AADA88BE80}"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09D921CD-9EDF-43D3-B7E6-F7C3ECCCFE0D}"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C6D05270-C0DB-4F9E-8C9E-42CD7CCD069A}"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9CAB0D17-759D-40DD-98BB-8370C6D9BCFB}"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03EED689-32AB-4387-A20B-28589C78DDB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FB4AAC-0E5D-4779-9B46-1CB1B02F4E91}"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CC5850-8712-4D2E-B7C7-4566FC4505EA}"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98F7B8-9A28-4C12-BDDB-B53750C1DE33}"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562D3B-07EE-4926-94BB-2550E944DA97}"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331E75-6304-4142-8051-A8F08EE6AF1A}"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5477F3-15D4-489E-860D-BA14302E5DB1}"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7173A4-8E61-4F23-B538-65037DA15414}"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7CA651-5D52-4BE8-944A-EAB055D02AB3}"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5FE3A1-F153-4221-BFFE-47887AFB4547}"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C6E661-CDD2-4B15-8154-AFC6D6D06612}"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