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54E5F7E-26A7-449E-B0A8-509866784B7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8F445EAE-A521-4B9C-8275-DEBF14138A7E}"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635050C1-C736-40A9-A5BB-FC1DC46AAAA2}"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FFE25282-30FF-4058-993A-5A4F06173371}"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6D0C4AA4-153E-48AF-BF3A-E8254B69E3F7}"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99D117E2-A996-4FDD-BCA0-260BC8533053}"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81376E31-C04F-4C83-BD84-4E22A2455CB2}"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69170E14-2EED-408F-B0AA-1C81B254D8A5}"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751802FA-0DF5-4895-B79D-E487BEFEECD7}"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3DBAB147-55F1-434F-96F7-085E7253CE0D}"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BBBE361F-29BA-42E9-95FA-237341609D34}"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348D44D-1660-414D-A9F2-A1F7F13A11F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6EF662D0-98C2-4BF4-B162-685AB187C478}"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CD8685D6-3A12-4F1D-8F82-932680313714}"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0257D5D6-46AE-40A3-B145-2627C077E8A8}"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CB022433-BC46-4272-BD4A-0FC78D41AB64}"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5734B7CA-E071-4B34-99D1-7DDD67C2077D}"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BF7712AC-A11E-40A4-8D87-D127EEFD588D}"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D7EE3548-E8A7-4911-8037-EE94739CB49F}"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8581F11E-A531-4A81-91CB-DE9B341DFD94}"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25C6B5A9-96EC-4FE4-A6B1-674A3F5F9F65}"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182E8CB6-76E0-40B5-8602-1A2AEFCEF66C}"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194D2FF2-45AA-4C4C-AAC9-468256A4E42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0454657F-2E32-4249-96AE-609CF9F587AE}"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C3DC5517-7A8E-424C-84A7-8835B229FA9C}"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71510C81-51A3-4F7C-846B-6A3432BCF332}"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93968A2A-2D44-4E91-BEC8-EC7FA4AD5670}"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E5EAD9E6-E9EE-459D-AEAD-B39EC2265EB5}"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32CB398B-5992-46D3-AB7E-361D267A3778}"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49B89090-00FC-4D8E-BE3F-593EC65AE3D1}"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E3F985A7-53F7-46E0-9476-A6FB2406D190}"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4D543274-63A2-4525-9725-BD71DCC814F6}"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BE678016-D125-492C-9E17-39A0A2C6B0AB}"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EA5FBA62-24EC-4ACE-9F62-4E04F0A21CF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402E37A-8C07-48AD-888F-9E442B8119D3}"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7E7934D1-6836-4B57-97B2-31EDF53C9458}"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51D916FF-11BE-4557-BEC8-115C6BD26D3C}"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599FA50B-0938-4618-8EA1-F50D8C106AB3}"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531E8978-648F-48EA-AAA4-E3C5AF308590}"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3ABD8A22-FB0D-4417-9DF3-8DF12E4F66F6}"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4A7376CB-66F9-43EE-99F6-230C9EEADE6F}"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B63014FE-8DAD-464C-B43B-558CA5641AA9}"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3C035DCB-EB47-4963-AD99-D0A392A918B0}"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CBEDD2F6-9C11-4A49-9354-D5223C54BD1C}"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69FA611E-4B10-49E7-AB4A-1D91F36E906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93B495CA-4BC1-4718-9823-44AC4396904E}"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524F93CC-7060-429C-BAA3-6D6D2FDDB2B5}"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D11A0B15-789E-4298-805D-C17588352657}"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85D9B72D-8291-49D5-B2BB-6D735D396ACB}"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6035BB4D-D0B0-4239-866A-37219BD827CF}"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72702FB7-56D7-4BD6-8743-46E23955ABB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7350C378-20BE-499C-B4E8-3505DC1FD25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EA4D3458-A95E-4576-8FB8-7029B2441C5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9C74C645-D77C-446F-BF1C-A4EB454A976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4541AF8C-2422-4E88-8373-AC9134F932D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2CC61D0E-8841-4CC3-BE28-BEA4F37DA62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84177331-089D-4356-B4C7-BEB4E9A6B40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061F2BE4-83CC-4BCB-B61F-2296D09D42E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90CE0F79-1E5E-4FB4-A6D1-3550BF31634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D0E6134B-C7C9-4D0F-ABFD-8EA088E1E04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4D8779E8-2084-4729-A07E-4B952411C82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AA7D2B1B-D4EF-44F3-BE8C-3E6BE6EAA10E}"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3E8CB34D-0558-44BB-9484-D882533A07C3}"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D6517230-8ABF-4F65-A438-E6A028F9105E}"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FD934234-F4E8-467D-98EB-583F85C4AF04}"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0DE0271F-A9F9-4466-89BB-7A219E8E8596}"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0A56EF30-9EE1-4875-A05C-7B3B723516DB}"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32DCD737-D23A-4F7E-8D31-3B97E2809A75}"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DAC2F88C-9DFE-4095-A942-0ACA0F0F9BA8}"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F5F7DD8B-27D9-4660-A391-56D43A06B8D6}"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B18910DD-DDA9-4BA1-8CC8-15CC38452B11}"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57CDAF53-BF28-478A-B11A-89327D6E6D0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A15C2-B24E-4075-93CB-0E0555D15084}"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1E189-2F28-4E29-974B-DE4B75DA4A9C}"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4BFCF-8BD6-4708-ACD7-29EDFC8AE561}"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FE483-462A-4706-BE2D-5DC556128D04}"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B3FF8-64E6-4726-A153-5380166AA901}"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BBF9D-BF06-49B8-BF2A-848BFDC97F9D}"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BF08E-3045-4A37-A826-DA57525F281C}"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33A16-4D61-4F64-82D8-066EAAC3D9E0}"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E9E0C-4624-43AE-B5B1-E5ED88355949}"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17E43-8683-4B5C-B7E7-FF4B9BE151A0}"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