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E3D145F-4E29-49C0-A301-75A097EE0A3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4C7F3960-E8F7-48C5-AEE9-1C8A27A83C34}"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5C71423B-B0AB-439E-9542-B58927948BF7}"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8C8F2ABD-E139-4182-90AD-90A11E0C2F38}"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31D580AC-2222-44B1-B79C-3E74C8F03B90}"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F9E72224-C2C3-4234-8000-1364CD9B7F6B}"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C9AE4342-7C7F-44A3-B1DD-164A14D50A16}"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591DF9CC-64AC-4061-8C22-6A6C256C2698}"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FAF5A645-2237-4A45-B374-6F12C2FFC36B}"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F7F08CE0-8D51-4F3A-8310-D73EDDCE9BDC}"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DA4DA5E1-F4A8-46B6-85D4-E81C7B431E7D}"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76DF3D0-B4C1-4A84-9B2E-9CAC5C63813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42FD31B0-3D22-4DA0-8998-DD73975882BC}"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9187633A-A119-43A0-9683-3965F2733698}"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42C20CEA-BC07-49D4-BA53-13FB79F368A3}"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8F3493DC-B91B-45F3-8EEC-C1D8CA22E1C6}"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A528D775-9628-40B7-84AA-38DA8707B6EE}"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EC1D367A-C824-4FC9-9EED-5139636CC881}"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DD688410-6667-4337-8338-41C0C451085E}"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FAFBD990-0240-43B2-B2C2-0FA8B1CC2100}"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DD432A31-300B-40C8-9D3D-5FC83299212D}"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0CB692E6-6864-4701-BD13-E80EFF7F1181}"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E9C7CFB8-1AAA-4814-9865-6E2B4CAD8D7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AB682ABC-1725-408B-8C04-33E201B7313A}"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7F8BA554-5238-4575-BEF9-49C371B3F290}"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8204C6C8-9C4B-49DC-A102-1E4B094D1B22}"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93857CE0-BE05-4DAB-B570-4F428CD99DDE}"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213F49B0-2CD7-4404-92BF-8F577CD50E8D}"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5FE9C4B4-DC71-46FF-BCA9-E25CBC0339F2}"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0CA3DC0E-4F2C-456C-ABDC-B775E8A4DA34}"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062DF73B-94DC-4D40-885D-64ABA9DC978B}"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2CFD2F4D-238F-443C-B11F-7F484C3FBBAE}"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6CF783F6-C3C6-482A-94CC-F9B3E5784E2E}"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046A7086-D60C-4AC0-A46D-634C8BB4B82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B91E5BD-A742-4B51-9D8F-2A4FF6E9AB00}"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F9FB7967-B160-4824-BE78-3604C1A04D5B}"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0F1ED20E-4E37-4781-A9C8-EB4A2059A681}"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95B79408-5693-40F0-94D3-62505A9527BE}"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5FAAE6BA-22D2-4C51-A1AC-A0B28C44A2D0}"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96C35FFE-2D5D-44B2-86F3-F43125003206}"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76D9C41C-CC29-4451-A7E1-072FE0E3C532}"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4A76CC03-FFAF-4D1B-8234-A4562E0097BA}"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99E48224-9805-4618-9F6E-ED86E38C6851}"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AE679A8E-7A66-4F99-AB31-AD899DE3D4C7}"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F4C8E621-C8C9-48A4-8CC0-DE66A14BEDF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6096D42E-F638-4505-8348-50032C9ECF9B}"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8E0F159B-37C3-4DD8-A148-3C5EFA5FAF38}"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F66E65D9-E2A8-43FC-A8F3-1DDB0CC7FB7D}"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660CC585-418C-455F-9398-D27EED9A1C66}"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6B53B7FA-51D8-428D-81EA-494983C2FB0B}"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0A99A8CF-2408-4C6C-9E5D-8958B839B28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2EFBB00A-2A49-40BC-AC2F-9CADEA0A175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24335472-0687-4775-9B27-5EFC34E7810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CC74635A-1C5E-428C-81C1-0D86D22AD92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86073304-6AEE-4AE8-BF5E-78F9BD717B0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F5DFE5B9-9B68-4B06-821F-9DC808E378B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F08A5F8D-6AB9-4366-9FED-8557EF4D4E3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BB395D06-6219-4100-87AE-DCFE645A01D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DCC544CF-B280-4297-BE5F-B7CB15FD578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7DD92DA0-0D77-4379-8ED0-7EDCAA59AA3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94489F41-C370-4855-85A4-D081B85FAF5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EFC88E0D-0725-4DD6-81D2-295268D99ED9}"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4E8C2436-DFEA-4D6B-81D5-E96A6765658B}"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063E4FC5-7E1B-49FC-8E9B-D0AFC7427328}"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A45E56F5-0FF0-44B6-AFD9-F0E6AFAB56F1}"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520F61DB-5D09-47C1-85D1-82B096FF29F4}"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8CFE44F9-0069-4097-8FDB-82D3E5640F4D}"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DAAD9821-5850-4611-9989-895E2ED5F6AA}"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ACBA6BCA-86C1-452A-B108-D880AF1EB6A6}"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9BCFA4DE-012F-441F-A88D-93310F4138A0}"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1454F9B7-1FBB-4C74-A60F-063875673DE9}"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6DDEEA13-11B7-45F5-8872-66A3BE6EA97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338AD-7940-44AC-92F6-0AA6B0CB9F87}"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5D3EC-6BC0-4F9A-9935-F973E516F4F0}"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A7BFC-2D89-4C0D-8223-424CF6388DF4}"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A2815-CC21-4BC1-A533-F4D092C514CE}"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06AAA-81BE-4618-B0C3-78DD2D48C004}"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EFEBC-F235-49F8-B93D-7226BF644EA2}"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AB4B3-F35D-489E-8255-61EAD6C5AEB1}"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6D74E-AFA3-4054-BE10-E42F7E2CA2C0}"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6AD2F-EB6A-4935-BE1C-1685B0277ACA}"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2D2C5-0F35-44A4-A3B5-77527435E387}"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