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BC581B6-5B59-439B-BBD0-739AFA00EC7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40ED66FF-C7E9-4D25-A976-EB75B965AF13}"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E6C8B315-0A26-4F99-B9FA-65DA7445C992}"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FCD9C8DA-7088-4096-ACBF-349515AF08CC}"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9C4F4FAA-5799-4719-9758-6FF4F423C583}"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5D22EA65-C4C9-4F68-BF97-25BD7D06A1C2}"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13ED13CA-6743-48AE-A3CA-6171E4F17D0F}"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A3DD5110-C72C-4ABF-9C79-314DEE892A9D}"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8308D52C-5CBD-4ECB-8DC1-B2ACCA82D3ED}"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9A844528-22E7-4EC4-ADCF-FC01D03B97BC}"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8F7172C7-9B32-4A41-8014-91018A5C9CE6}"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BF0EA98-CFE7-46D2-B90B-97456EE106F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48632DD0-63D2-4D10-949E-24E9215D1B11}"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492C2D1A-4B5E-4192-860C-48094CA9D887}"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44C0F53E-3F83-4853-8C93-BBAE4B19F771}"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4F541182-BBC2-4239-B493-F08E3BD18D7B}"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33BB9710-4398-4DCF-8E7D-400812A148A0}"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70135CF5-870F-4378-9179-F227947E4BB3}"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FBAE02C3-F393-455A-948C-C56B9413690A}"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299DAFDE-69A4-4B80-BABA-C04A33B1977F}"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CA913295-D342-4DBE-A836-B7D8009FEB65}"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3C7705E6-63A5-4BEA-B0A1-25A5A6F1037F}"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2EC71AD0-5A0E-4EE0-B91A-66B7297ECC4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E154F62D-84AE-4CCC-A7B8-3695B2D2FB30}"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C1F5860B-759F-444D-9FA9-56738D74C5F5}"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341DD58F-4F3E-4C9E-AEC6-B795A320F5A2}"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3ADE0D3A-5B0A-4C67-B770-8BD92EDC05E6}"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4A98A4FB-11CC-4F96-8DFC-807255331BF5}"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80D4D705-C61B-46ED-A9EC-4E8566C6F710}"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7210FBA2-3072-43E3-8609-CC99132B3C8F}"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7B7D6954-DAA6-45A1-B90B-1F6E683096AC}"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7393913E-B33F-4617-8EF1-1A06C4921B0F}"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0D2034F5-FD5D-46D7-8B7A-7FBD1AB6315D}"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220A73BA-D899-4EA1-B646-DE8AE73FFD1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23B7ACF-2039-4E4D-A72E-6A19653E9D19}"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39BA8088-33AF-4D46-A32A-FFE7D2F3E3E6}"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8BF9F450-C070-4DFC-ACAB-37C3D4A411D0}"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E7CB850F-B079-429B-BBB1-04F5D6614D19}"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345F4F9B-5B25-4559-9B61-78AE561EE2AC}"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0562E4CE-F182-46EF-866D-C0B1882662BF}"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890907DB-C18F-4C34-B12D-A4848B9F7701}"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F250D18C-9613-4361-B3E2-CEB6B48C4DB4}"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E322FFE4-F355-49D1-981C-79994B4EBBCF}"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F2D4C211-62A5-4928-8704-961FC67705E2}"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464EAA8B-38AB-4D56-8412-36B1845D8D2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DB358479-E276-49AE-A505-036EC3921824}"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03978447-378A-4066-B627-C7C0B5904FE9}"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6B20C76B-4178-4CD6-9B4B-6A126630981B}"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323F1703-B968-4ED8-A2D3-72C8051C7AD5}"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20C9BED9-7D7A-409F-B683-4B09DA66ED33}"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D645A837-8A87-4992-9F22-4BDE259A93C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8979CAC0-1425-416A-9E04-1FF5CECD140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98F4872A-0DFD-45D8-A624-555A78444ED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C68EF270-C006-4E74-BDC3-F699F6E5F8D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E75328C1-D81E-416B-9899-98E68815168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51F6BF2C-889E-44CF-9D17-B8732A86E3C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59469FF9-7202-4E82-B7FF-370B062CF18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0718A2CE-816E-4F7A-9B30-874F33F0B41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B00B24B9-6CCA-46D2-AC38-F6B0ABD387C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18EB777D-93BB-4A82-AAC6-21A18B1C3C2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EE51CCB7-ACE1-4C49-9D88-5A466053343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1B6BD550-510A-4898-8442-DDC01303BE3E}"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91BEF6D1-E0EA-46A3-BDD9-674C557D4A03}"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42750603-D4BD-4525-A3DD-B36394133C8B}"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AFC26B7B-DA07-4066-B865-A20EA9B8F181}"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70775DAD-9B91-4891-BC74-6CC60C5B8CDF}"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27FD4727-68F9-48C9-A766-786D69541D67}"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C4C5D43C-BE77-4828-97D4-B13CCE9AC945}"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0401FB11-3F8E-41D4-B0F6-FE2002155778}"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1D1D789E-0A5F-47B5-A2C5-A5046F693581}"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EBE83478-D9BB-446A-BDE7-6EBE4BF0224E}"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E3874F60-C17A-4174-968D-FC6D308F832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930EB4-6B3F-4648-BC41-6DAFC339966E}"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87B499-48A8-44E5-A2C9-F49796BCF8F8}"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D3610A-4D93-4FDB-8EA8-7266DC3DEB29}"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743FA7-E66C-4823-9BA1-A85F88D12204}"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B7E6FA-0B30-409E-9D91-039CB05FA3C1}"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1BC3F2-4408-477F-A6F6-129F33723E52}"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44B1C9-5873-43D6-B6F2-DB5DF35E3985}"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AAEE19-B3FD-467B-8DA3-D88B3D636798}"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CD77F2-0E82-4C77-AFB9-1267B8BC92AB}"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BD66F2-0CF7-42C1-A1A3-8896A414A893}"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