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A7D4AC5-AEE9-4031-B31F-E051B016B9E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7A037397-F579-469F-8D33-3EEE6C4C36F6}"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C83E9E24-EEEF-417E-AD55-7A0C9E1DB9A8}"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2E72DF67-71FA-4091-98C7-253C55E869CD}"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F3F48443-82F9-414C-8973-554B2BAE1CCF}"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C8C2232F-C357-4287-B720-BF421A35F4E5}"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1F6B8303-2AD3-4707-B022-7E58E6DA8FA5}"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3C3C66D8-9D55-4D6D-BE30-ED110CC884CB}"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FD68E975-3FBB-433C-8526-F659748043E6}"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B9C5BD1F-7920-4063-9F5A-39EECE86EDC1}"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DA1E0DC4-C23D-4D23-8B24-C4F8E6C6C35E}"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A7A2B72-CF60-44D2-B9DF-67EAFFB60A8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5705F85B-5427-452C-A4B7-AFFABC8C0B93}"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A070C3C2-6CEE-4335-8767-D556BCD3C1CB}"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1CC9DD1D-0DD3-40BB-9034-3349B4BE22D8}"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EA37CD9E-3836-4BB5-A88C-E59B35E915A4}"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86B53F74-B7AD-4836-B244-23FDE25A2BF7}"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4D754C88-9365-42F9-895F-666B7E9E09C7}"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1EAB1225-8BC5-4F62-97A4-A3DE30401337}"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E1E984CF-A84A-45F0-AEA9-2B1173823AFA}"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696F4DB0-7B22-42F4-BF26-164A98C61493}"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9B2A136F-0A5D-46CB-B9BE-071E56AF2B0F}"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CCD16240-A0CE-4CDD-A8ED-D2CB9FC492D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69609597-154E-47FC-9347-231DCE222C1B}"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ED45CE36-92F0-4781-B506-E48ACFA2C7B4}"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881374E3-6E7E-468A-8851-3C61EE8A5D16}"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88397ED5-2E27-456F-9CF5-27245237FCF7}"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A9BCFE0E-517C-4215-B252-E433DB898C8E}"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9132CD5A-6617-4759-9868-5A8219364B55}"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F6C22251-CF4F-4F0F-862F-94E9E6FA6DD4}"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E6EB9840-3E0C-493B-B557-9392813870AD}"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80569630-9E0C-43BD-B593-CF51299D2E7C}"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D5AE09B5-7DDC-4067-8978-D3F7765A4885}"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4592D980-7122-4CDF-A955-46F9BE2BCB5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4533F02-71F8-4437-BDB0-2BB6808662C9}"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ECE66CC5-4563-4F7E-BA0E-37E6B58A559F}"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A5F6B225-25B8-4E7F-B4CE-E00F8C7379F1}"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438F32D0-D9FE-43DC-9F02-1972F2EB7F7D}"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D5CB608D-79D4-401A-B51E-DB7188588A85}"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E0ACDB66-FF37-477B-BC39-0AF6C2311DDB}"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48253038-8637-4B51-98CC-6686DAA89ACA}"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C086E389-811F-44AC-B98A-E3662889D425}"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2376E443-0600-47C3-AA26-495AB38342E4}"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97AEB7CC-A8D9-48B2-A55B-DF4C79D22CF3}"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E49E8E62-3F1B-4833-B1E8-E1E8762B0A1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B93B55AC-EC81-476F-B45E-2DA2FCD7AB09}"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0D367D36-8A30-4E05-93A9-762CB038CAA2}"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A9CB80D1-F5FE-4ACB-96DF-8F9AF477C8D2}"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955FED3D-CB75-4525-A306-9671AE205F69}"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90E76A42-84E0-4445-AA5C-8F7242C0C826}"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6E07146A-2CCF-4E8C-8D45-C59B90DBA30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32511CDC-CBA3-45DA-BB42-04D36F7D11C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5A823F79-E0DD-43CC-AACC-EF8A8CFDF1E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5ABCE535-33F1-4F8E-A136-94AD5B673FD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B79B2F96-B16F-4FF3-AD08-7F7C1F2FDDB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513BE62E-DB60-4B49-B386-23060A879E6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C062A124-88C8-4A4E-8FD3-54E3F72B686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C3C79A4B-45E7-4728-8FFD-5076A43E8F3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9089CA75-6294-4163-8D84-038D1863666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73C87DEA-1434-4E71-A1CE-21F1D1F98FC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A49ED027-E247-4540-A4E8-EE7B9F0C52F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1E6578C1-E4A9-421A-B3B2-618CFD78D702}"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5658C35A-DD8E-40FA-8A38-04062B67F018}"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0A7D246D-F154-447B-A689-F40DB17CD7FE}"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15062781-5F8D-4CA4-8208-63D6161E20D4}"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79848FA8-EF67-4841-9835-5A6E8DDAC88D}"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C7C581B3-B83E-4F84-B222-291DDE719458}"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F2C76708-DC2C-406A-98D0-A820C879B917}"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69718414-0D94-40B4-A887-60B90DCCC4B0}"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942FAA54-11C5-4370-87E1-4B587DFA2E93}"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73D2889C-EDFF-4FCF-897B-0F9C9F2D0207}"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A4FA5CEF-D242-40E9-A768-7E70C34B9C1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6960EB-2689-4E8B-990F-8B3FFC2DB692}"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0C09A8-4631-44E8-82DE-D7E2D533F19D}"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00917E-35B3-463F-B02E-9E75F62965DE}"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C8482D-E86B-4D0A-95D2-01FB4F43494C}"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D09857-38DA-4DC1-A1CF-004F8523474E}"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BE6731-AAD5-47AE-BA59-21FBD7AF2E38}"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F84CC0-4FEC-413A-B353-9894C7A84E01}"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B5C952-D3A4-4D1D-8017-43A78E4AD37E}"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41D7C7-52E1-4697-938E-9AF882CA378B}"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A5C671-5C77-4F83-99F9-BD505B074501}"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