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21F42E0-786C-4C34-8779-A3ED69D2377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18991940-08BE-47EF-B2FB-08B8581D0B7E}"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8A20797A-1A36-4993-8A01-CC16E60B7BA6}"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08F06FDF-07C9-4584-9A6D-F2FD7EE09D1B}"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9583CBD5-1D16-4000-B30E-415D52857CD3}"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C039B2C1-976F-4EE1-AFE3-28D85C64E586}"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DCF554F1-2046-4EC5-82C4-357F5D347BE1}"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9A6F4996-086C-43B5-B8B0-25861F3ECD58}"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7E3ED9E6-CA7A-4CA8-A3D4-06FB221F179D}"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D10ED3F7-333B-4321-B0EB-9EC858417495}"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8692C3EE-921C-4B58-8198-25CD2C294A9C}"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C35FFC1-DB85-4354-A360-E2831E8286C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31FE1139-16AB-4758-9F4A-6AD029C9A458}"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AE9D46FC-BF91-414D-B739-71472AD993E0}"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B83905F5-9636-4A0F-AB8E-0680D744E3D9}"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DD24ADC2-3D4F-4FB6-8915-23CD77328125}"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8740FC17-2B51-496A-8BCE-ADAD0489A55D}"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FED4DEE4-0267-49F5-B984-2B276ED439E1}"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668AE7A5-2205-4C7D-82E0-D329436E46C2}"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C958AE9E-2C2D-4EB3-AADC-2384A7BEC1CD}"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C8303200-278C-4C3B-BC6B-2FAAF9A4BE90}"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1345AED4-88D0-418D-90BA-D484C254AADF}"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9D49F2D9-B8DC-418C-BB92-68EB930BB2C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98374CCC-1C6A-4D1F-9236-3AC46DB282E6}"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6D427E9D-E067-4B7A-8DD0-8ECE4118479B}"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422D3C3F-C141-4B36-BF5C-7260BCDC8526}"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E8DD01F5-8D95-446B-AE8F-08530E979EA8}"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BA1BDCE8-2633-466E-95D4-887F37496D72}"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1C659E72-3C6E-4AFF-A9FD-01B0F0927CEA}"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EFAD0164-1AED-47D0-B8CA-420C335251EB}"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5C7DE4FF-ED4F-4FD6-8FB7-D15B0285EF6A}"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343690C2-DCB6-4399-8D32-56EF6B13B3AC}"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E73F4DFB-9902-4176-BC93-B5348D275F9F}"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404F326D-767F-457C-8AA7-95DD8892B8B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83D99B4-E4BD-4032-972E-27AB3AF85BC5}"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97239240-5F33-4574-B49B-F1F8616AFC31}"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0C0497FB-C67B-4169-9E34-38D81D881DE6}"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6BD0377A-6CD6-4D17-9E46-E0666DDB5DE2}"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9E710C08-42FA-4C5C-825F-16BA90D0FFF7}"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C4F2DED2-CE4C-4A2E-AE44-5F5FB03B5289}"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3AD2DAE0-013E-44AC-A3D5-59E3F5F0721B}"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FFC59F1D-1526-4DEB-91B1-26A4727A5AE1}"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E507FBE2-EA25-4669-BB73-DE5C01D62FD5}"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D0CAA46F-7681-4E29-99C5-3B875F1DF220}"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26C6CBE9-F58B-4F9B-86FE-6A4ECD9F93A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E775970C-9447-4F67-9ABD-38A2ABD24E2D}"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679F0A24-E9F8-42A8-B985-7765155AAF36}"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FE8DFA4A-B19E-4651-84E3-43C3F430173E}"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D3128B62-5205-44A3-9BBA-CE355F15EFE1}"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F4C1E924-1AD6-455A-BCFE-C9C132B51D91}"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B1D49500-437F-453C-B230-F1DBEA04415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AC6206C8-5D4A-4FE3-924D-D7F5A489F97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CA4394DE-72D5-46D8-8897-31829F3308B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87B7CA5D-55D9-44F9-AE75-CD508C65F89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EFCABC09-ABEB-4FC3-9816-5A522C87985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A82F30CA-6893-4FCA-9488-B3F1F2E7E71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5BD1B116-FB7E-40AC-B5EE-C0A419A3633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0216E7D6-9E1B-4F27-965E-873516CAE16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3B7D4361-1D55-49D0-8DCD-FEC35F90AE8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1DC9D854-EF25-4A5D-BD7E-FFADB1926F7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B4D8B7A6-0355-482F-84E8-CEFB3A98091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D54185DC-0118-4E33-8D82-61FCC48DA08C}"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462C707D-42C6-4D98-85CD-FA7D34D5FB20}"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D2B91725-62E1-487E-8864-CA7F5B36F3FC}"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13744A5E-1725-462D-B00D-B87F93AB2FA7}"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1684AA39-57D3-429F-AE58-277A018DA92E}"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69DFE235-142B-418B-A77D-7118FE88DF44}"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0337D879-0C74-4F7D-9FCB-C64199F10E9A}"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6816BA03-F238-468D-8AF6-F4986DC383B5}"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4DA342EF-2DD8-4E30-A29D-7EC4AB713193}"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EF37CF49-D8F7-4408-8491-97BDA43FD178}"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FDE9CDDF-FF17-4D2A-B62A-E6E51C7A617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7B205-36B1-4607-B4A7-3AC444CC937F}"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8175C-855F-4D57-BFB7-709D6F3384BC}"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04756-3273-4F0F-A662-896BDBB8A340}"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2925E-1728-4129-9327-B2B63FA1C734}"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343A5-5F57-44B3-A86D-6780B45FD3D0}"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148BA-DC60-4DEF-AD3C-79550D98A5F3}"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A3DF4-1C41-4E2E-865B-9D021F4B42A7}"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811BE-7597-42CE-BE40-3BFDDEF4C7F6}"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B39CD-DF21-4F19-BEF1-3CD3FFE58546}"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D8E3E-15F0-447B-9F47-883913FDBF9D}"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