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1DA9B4-A1FF-4CF8-BF71-13A573311C0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91F92675-8877-41D1-99BC-647BC1B3D6F6}"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DAD09E1D-DC42-4C7B-B978-22B4333ACF14}"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18B6BD4F-4C55-4B84-98D4-4BF53854D99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568B88E3-2DF2-4CC3-B63E-04E2F7A91AC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EB117231-F42F-42DE-8E2C-5AC15AD1E558}"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A4F1DC21-D7EF-4833-890A-302C0F826F5D}"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6236E1C-8C0B-4EC5-9AEF-F722F5E4D2A7}"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6F2AE5B5-2108-427B-B722-E599F43164CE}"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4D169E4D-ADD8-4B49-848F-C3D89A6D824C}"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7A596386-81C8-4E0F-BE91-FC64CB765D69}"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79C376D-F07E-476D-A65A-D5499DB61EA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13FEEA6F-22A1-4CA1-8B7F-1BFD461DD6BF}"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38B0D811-092E-4E09-840D-5868B71016B4}"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A27BEDE7-D790-4CB6-8B3E-3D4C978EA944}"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5292EA9B-40A8-42A8-96EB-49BD5DC8AA38}"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270F538B-86C1-4FFB-8AAC-BC7F67947F1E}"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A391FE2A-FA31-4B7F-AFEE-BD88014C719C}"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C8A47E3-0486-4DB6-9053-71358EB61A96}"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EFE0CAE-10B3-4052-A78C-AD0CE7741BAC}"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FF1AF39-9FC3-4EE4-8686-C12994FFACD3}"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4BB41B22-9A5F-4C1D-ACDF-9FF060CB1007}"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40736B04-3D53-46EC-AD27-E7CBB0A622B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AC6F9D29-E30D-420A-9380-97B16D00A114}"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808BA747-EB04-4028-A838-760BBAC2C55A}"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2E0C4C92-72B7-461E-9BF7-0F60A33BD597}"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364DE170-16F5-497C-BE88-0DAE24C5E65C}"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36AB7612-2726-407B-B30F-B85CF58770BB}"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7D8ED0E1-E605-4A07-BA1A-598896FE8272}"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714D86AC-48D2-4F81-8287-B77F109CCCAF}"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ADCC68EE-DFBB-4121-9C80-E09A4E082643}"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C6705771-91E1-408B-8290-24E8D05991A8}"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CAC34C09-B088-44AF-8BD6-9E13A184523E}"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56E53FA1-12F9-4780-A12B-01B112FACFC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76929D3-317C-45AD-9488-49947C46804B}"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1C0828A7-1A59-432B-BACD-31B01A09B86D}"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643E9A89-5C0A-43AC-8120-886B25A2FCA9}"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79FBA43A-A5AC-45D4-A886-4C8798CDCFF3}"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6A90D6E3-6F89-43EA-BBDC-D371A7FA644B}"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E0FDB265-A839-4E7E-89AB-6B11B4B44F39}"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58720304-EDEE-4FB0-ACA2-D071EFC435A9}"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893B16A1-794C-4F58-84B2-6772ACFD5AB1}"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222EAFA6-D313-49D3-B654-18FB3978FB6D}"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7D1467EF-EB96-4437-A441-9AD5A487E40B}"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173B087-4E30-459D-9412-15579DF3DB0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9901C013-1E64-4571-9BBD-A87AF2A432F4}"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DEAB6C6-0CFE-47F7-B0F3-D7EB317DC7AD}"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621674D-2369-4C01-A585-3D6A2F34D768}"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65451B5A-1005-4098-BA32-F9E88AE4C6BB}"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AA8A139A-75F9-40D7-A0FC-DB3656A5AC83}"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AA05BF35-A83E-401F-803E-8CAAE34FAA5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8AFA9640-C6C0-40D9-8333-41D80DB18A3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306E8313-5506-41EC-B28D-3BFEA4FEA4E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8B6F792F-9DDF-4DC5-AE58-C2DCAA5E3E0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56327CD2-7050-4389-84F9-4DB51861482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327F9AA-3AB1-41AC-8F83-A2FF662A188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9ACEC83A-79F5-4AEC-A1C4-F50F30711C4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E76D019-735D-4B11-A621-395BB95E8CC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500ED04-8667-4624-9F26-1D895028DBC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42900B8F-4985-4905-A060-EBA93CD0458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166A9F46-41E8-44E6-906E-5B807DFDE01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D96BD46D-B9F9-4A91-A79C-ADE74369A4FA}"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A3930889-CAC6-4E78-AB80-83950113551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C7EB65A7-7C93-482F-BF8B-B7E62792A4F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8E09440A-C16A-469D-93AA-FD46A8D34DD6}"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DDDCE4EB-2BE7-4413-BCCD-AF669F0EC590}"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B1C52565-467F-4344-900D-258B80E4E394}"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C600433-5816-4EBE-B5E3-04EA58ED33B0}"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25018522-54A0-4BE1-8B02-15445A912724}"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DFFC15B-89C1-4DBE-9862-7FF24167BAB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348116B8-CF93-4A83-9E36-759663936F70}"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B875C300-2ED5-4758-88C6-D17219EEFE3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3A661-8B17-486E-8CC6-3F5205691CE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CB2DE-B79A-4ADA-A8EE-44B4697296B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E8CB5-A7AA-4DD8-B1B0-E6A388A5D83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989F8-A369-4A60-AAB0-6B1E3DE680F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117A8-1AE1-4DF7-8ABE-66ECE7BBCDF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F6373-5FA7-4234-8A78-C60BA346864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03138-E974-4E14-AA9C-491700BF3FE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907C3-266D-4316-BE68-B6CC9295950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15626-F4A6-479D-8D83-14DE3D280E5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5EB9C-5BED-4C98-B0CE-0B49A1E67A7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