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C5907B1-592C-44C9-90A6-6CE7A2FDFB3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DD52FC12-452D-4CA1-8ECC-8B73E762E8EE}"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1094558B-0C72-4ED3-8337-4FED685DA595}"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AFE3E624-1058-46C6-AC8B-F86B53F1CEC5}"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A91926A3-1BB1-4C65-BE16-BE0E29827F4B}"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EFE5D473-2284-4909-85C2-8CDAB668C07C}"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53AA7F61-C2EA-4F3D-B722-90EF6B2DA765}"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48E406BE-D516-4201-B188-71317EE78DF9}"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0AFADE48-652D-44C1-9390-DDC51AB83092}"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1865FDEE-FCA8-4147-96BE-1A2930F53B2A}"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D8980781-B5E2-4ABC-B1DF-0DAB0A3B2C4B}"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026BA26-1A03-4811-8CB7-CC703B275EE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53650813-4297-4D1A-8CFC-4E3D4139BAD5}"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91E07ECF-104F-4B92-BE68-21E39CD7E9CE}"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68665F10-1670-4A81-9877-295AF060B11F}"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6FBFBE97-29CD-4426-B592-B80FA5D36449}"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98783AC5-8FBB-4B10-9DBA-87085EC9627A}"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103F97A8-7DB4-46B9-9EB8-AE067AB28C5B}"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94802602-C493-48EF-B937-2A82B1AAA6A8}"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B599477A-817C-4CB4-86C1-FD562F897C39}"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592905FD-71C8-49BE-A86C-B9D376336329}"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7E763FED-F84C-491D-9EF7-1747E1AECF47}"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827F1DD6-AFF6-422D-9532-82B366FDCE7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B7CD9858-E6BC-450A-8FCC-78516176DDC9}"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CC388948-3CD9-4DB6-A08F-E7B74867DEED}"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8617722E-3ED0-4301-8E70-72754E19721D}"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209F43EF-3C50-4BE7-B366-C0DB0AC55253}"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7C7939E5-F960-4B33-B1CE-6759A96CE69D}"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3C5617E4-90A3-45F9-A048-1DDCBD1AEFF2}"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015619CB-1ED0-441B-B487-33905258CC90}"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81B4D42D-6211-4AE9-ADAD-1A707187F99C}"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BACE8159-1E75-4614-A492-139C77800D7E}"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4C1E69B6-D75C-4AA4-9246-C2A14FD1759D}"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D9584D22-AD38-4049-AD15-663EEE888AC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8B09AB0-F72F-45B5-92C8-538C557909E4}"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95EFFCC7-1F54-4A11-8016-F74F5D04322B}"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5623BE19-1753-4C22-8F60-28CF5E920477}"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9EB15C33-EDC4-4D7D-9BEC-E9DFC15ED407}"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85DFAD07-1E5D-410C-A372-C88B40E9B6FE}"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1FC80DBD-8AA1-452E-9160-EE73508A1684}"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54071269-A826-4E83-ADA9-79B244A3A31B}"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5155D9EC-86F9-434D-B1EF-898961A0E96C}"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79BFD9CB-C79A-46A1-A221-06504C788021}"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B0E5ED83-2320-474B-B884-C5C9E6A8FFDE}"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F33E6CCF-C110-4E16-B894-2A5189C4909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70673CA9-890A-42E6-BC9C-484437737D82}"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6D3EE205-4C17-4FFD-A7C8-4519081C8B0E}"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BEC9C5C3-B7F7-4DFD-B04E-D5C1EB84CB86}"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36DBC391-F3B6-4F70-85D6-254CEE3F6024}"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D87F1047-9495-4D6C-9810-A51FE137ED58}"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D7AD0EBD-7F48-48C8-9C77-8DEF22E78D1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9A9D8A35-3621-4001-BF5A-61D1EE09D71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EC9FBA56-1A21-4710-885F-4AAFB5C95EA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324B5774-EF93-49F5-BD55-64E8CF826EC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30CF74D7-F094-4FCA-8E0F-94B4E58446F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1E7FD125-8838-42A7-9426-F685777BC1F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267157D9-1A5B-42A4-B424-AF299317368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C72787A6-7DF7-4CBD-A034-77CAA7FB261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782D22C2-5A14-4CE3-BE15-EA6AD6AE513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0C33490C-3C00-4C0D-A2DC-70378338399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205D68A3-3E7D-4156-A53B-DB093AEFDF5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45F85C5A-8742-4DCA-AA07-C0D5E019874D}"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A4B97960-3DC1-4B88-BF36-34E84A8C6D2E}"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84E9047B-F9C3-4ECF-9DE5-F983896EF1FB}"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7CEC50B4-E05D-4570-B4A8-13BC6585D227}"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BD54B454-F1ED-46F5-A182-A45B6064F71A}"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0D9D9A99-0A6B-4383-98B3-CAF55B97BE99}"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674E0D4D-0A64-49A9-ACE7-4085B1D900A7}"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D55AB128-B18C-471F-9E08-00D704F34477}"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56BDA0BE-2984-4963-B5E9-0BE304A03083}"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1D48AD23-6567-45C1-9A0B-6820C079B3D6}"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14567CCB-08DF-4ED2-8F8A-CF5B2004605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826076-E172-4949-B602-A737007A3AF3}"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F590E7-7387-4388-8A44-64D61D9D6CE4}"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BD2B3E-F4DE-444A-B5A8-C032C69D3171}"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2DC13B-7E0E-46CB-8246-6B119082A1E7}"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EAAA3F-4965-43DA-B011-F0F6DAEAD310}"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2FB890-4B45-4EFB-AAEE-454C3F66409E}"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B99E0F-11E6-470F-9AB8-1994BC31703C}"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D4AA8F-B530-4604-816F-5FFE7BF7F24F}"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7B261A-6B78-4403-9C44-A07C08153713}"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96141A-38EF-4EFA-B560-24CB3489359C}"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