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4E8A5A3-B9C6-4786-8C07-8DF9CD925BB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852CF174-87EF-434D-923F-AE82974616AD}"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B2E9E436-0B67-4522-A13B-801F3C85DE1D}"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C9D0A566-E265-4D49-9DEE-29518AA1BF51}"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DCC2886B-C714-469B-8224-820C408E9521}"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4F101F08-662F-4370-84AA-2733347668BC}"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DBCDE65B-6C5B-4FFD-B6EA-293AFC6885BA}"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E9271DCE-379B-48EF-9142-2C62628ACE95}"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B2AFD2AD-6BE8-41CB-BA36-9922467EBF90}"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13A7DE97-57DF-443F-B975-2668CDD4D3AD}"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E2FF09FB-68A2-4483-9D51-9E8AA9ACB253}"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F29248B-4967-475F-9413-225AC7D94D1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8158C112-D4C8-4DAB-90D7-08266596363F}"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8939CC3A-979E-443F-BD11-C5C9224FF8BE}"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253C2ADB-6E52-4DAE-BE5B-4F684DBF3382}"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F040E07A-16D2-49C9-82F0-5624D00F75E5}"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6CA18AFA-C12B-4AD1-BDDD-AD0402294D0E}"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6CA21190-D6A6-44FF-BC49-4AA585B7C0BB}"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EE4410FC-67F0-4E9A-B7F0-12A43A44E84D}"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B9097BAA-8AC1-4607-A1BD-47FA5087F80E}"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9F125D0E-A894-462C-B5B4-2F3C3F1E018D}"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256990EC-D6D7-4E0F-8031-D6BD81DDE711}"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1C5BD01A-BBE9-4100-B27E-4C44C276D6F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98A78A5F-6A6F-4447-9826-4B40B1474DDC}"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8FB7D1E5-4BCE-49BA-9551-53186C65DE26}"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B3F64A64-FC53-441A-8A24-E6F4F00DBF05}"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A1188DB3-359F-4137-A2BA-47836A9D488E}"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976C0C38-DB05-46C9-9186-38D82531A14B}"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5A1CDD3B-AE9E-43ED-8EBB-FA4294639357}"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DE32E80C-8C43-41D9-A172-54F2D5419B3B}"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018BFDF9-2F32-43F3-A342-2C5411B7D0BB}"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791B3746-98EA-425A-8848-B6F7085AE255}"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A0600EB7-E31E-4EAD-A28D-B193B1C72EC3}"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3E2CAB04-994F-47CA-86D3-1B4EC06A97B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2092E62-FB56-4639-8E8E-EE4405036A58}"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713C8603-DC2D-4F7D-BEE7-FDE2BC60183B}"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56974B24-29C3-4BB8-9794-61E638C4DAF6}"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77F50E0F-8C10-4B89-B71A-B304B4C5D280}"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CC01CF6E-A3D5-4EE6-8D4E-A1263DA2AB40}"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DF68B8AF-3E8D-4E69-ADBD-B50EF5C3D9F5}"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BA44AF62-C069-4444-BAE1-AD6B32F394D2}"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10621A89-8731-49CF-A90A-389E951F7D51}"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B528CB8B-7362-455C-88B1-D5DD92FBB468}"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B9BBBDEC-F264-4CDE-AFA4-5D0193B84C3C}"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10FE69D8-E9CC-4DE0-8BB8-7F34B5FA93A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81D86DB9-E66C-463D-B8AD-6CB31C8F00E5}"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EC409DAB-6756-4637-AC33-BA8C573EC424}"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9D392D62-54E0-49B9-BCCA-0CCD78BCA546}"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176A176A-DE50-4545-BE15-4D7F4335B1E6}"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9E87AC0E-81E7-41F8-B624-4E8025B9A0C4}"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68047C12-E7CD-438C-9563-F7B188C8C54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839DF38E-83DC-45B5-A736-565533BD6FE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0B1B7F39-A594-4B32-8314-06F981F6328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A5BD9222-92B3-421E-B88E-7560C7A1E11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21C544DA-A329-4296-8F65-92D222235D4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FD0E43AA-3C68-4605-BF79-29BCF87CBD8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EACB827B-0905-493D-803E-88005D60271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ECBF967F-EDDB-4568-AD4E-1B73AC49A2D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8042B595-2DD0-476A-9030-57C4827AA7E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54EC60CE-591A-40BF-9379-1A1BCD3999C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CB3146CD-7549-4AC6-B0B0-2034BFE8DE1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B91072E4-545D-4586-B6D1-88638BBA833A}"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45848C12-BC04-4C5F-B10E-D44AD01B6FEE}"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380744D6-3410-4717-B713-6ADFBF7B00AD}"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63F42CA6-D725-4FB6-B749-6809E51FF72B}"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6C77EA87-ADD4-4F01-B64F-5E04B82B46D3}"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7F734BDC-D4DF-4AB6-A91E-604D1660C62C}"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EF883D96-8060-48D7-8850-93BA620ADD20}"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D7E5B1C4-5493-4595-8CE6-CCA489752FB3}"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3749D7BD-CD11-4081-97C9-4D5074521143}"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C9AF5A40-F66C-4ADF-B80C-F1E4600F629A}"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9B968153-1DAE-4118-BA09-2DCFC1DB102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9455B3-B02C-47E6-8F8D-A1E2BE7B5A89}"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F8195C-124E-4C72-83FA-242EFD15FCBC}"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39EB5D-722F-430F-9B97-3B868E9BA489}"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403A68-258F-46C1-9CA1-CBAAF589A90D}"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3E2C32-F41E-4441-B3B1-00BD2CB286FC}"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444122-ECB0-4A41-B0C4-4F6F3D99D450}"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6D62C1-CEC1-4D2B-9157-D2F3CA795187}"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A68B4E-F740-4C80-A7B9-3215264FC21B}"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FF6D58-EA43-488C-AA89-CCD261B80502}"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BA72E3-18D4-4025-89E1-4E873985B6A4}"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