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1EC1EB1-219E-4831-97BB-49DF886A1C3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003F768B-3A20-45E7-A4C7-081EA9AA0BD7}"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584E9C1E-3A47-4085-A746-49F54814FF43}"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AC095749-0069-4743-99A3-50B0FB7D78CA}"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06F20156-C57D-41B3-BDF9-E22D5B520809}"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6D706192-2A63-433C-A32D-BDC36E8895BA}"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0587B019-AF10-46D5-A94B-F7A202CF7CEB}"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B45D2E15-8797-4BCC-9D5F-6AB5E4028B5B}"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B5D09D3C-14CF-4FE6-8BA1-390C3772C1B1}"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79481F4E-F2F4-4D6F-A686-422B7675D9E4}"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94DCD2C0-1A0A-48B1-B167-C3296493B7F2}"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FAC0459-DE82-4BE9-A907-C11E4760D82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82232647-E998-4A9D-B8B4-EFB4525A4ADE}"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160D990E-6C61-4AA4-9100-6245C77057CE}"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F919F18B-E10A-4772-8193-53F0832E425E}"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46CBF2E3-4A94-4537-8902-1D798D880F97}"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4692E629-B1BA-4D6D-B989-A1EF4210DB20}"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4A1B1E67-F6C2-4FC0-B682-FDF1C10D87F3}"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AB0AE33F-2D13-489D-A793-F8D32706C02F}"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28ECB52A-9DD0-493F-97DE-DC9A903AF1A8}"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460435E7-4FAB-460B-A4EB-AE4781ED2DFE}"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94B116F9-DC53-42E9-8C1E-25E61664D0E3}"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FC49163E-8E7B-4074-9138-38D3D330567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C94D4180-6075-4170-9FDB-44BAE4A7C4D7}"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5974FC3E-9961-4893-A9C2-9E3B324B99E9}"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F03230A4-F8F3-4B7D-9713-648A3EEA727F}"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1BF01449-8346-48F0-959F-8CC7D464F068}"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B59E0C25-F341-4690-8940-846EA163D187}"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90550E78-D7FF-4410-A3AE-917C5EAB5032}"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58D2604E-9DAF-4988-9FAA-4721A9EDAF96}"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007A9719-7553-4461-ABFE-16C699C3E721}"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4657B160-ED05-4887-A77E-2640683275C1}"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7A636530-2E64-47E8-B134-B9B048447035}"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123F4FA6-3FE0-4EEE-A4CE-5D7592B3447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3547C26-D02B-473B-8C26-9E9AB8AF6E79}"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F495F4D5-0E8A-410A-AF90-ECEA9875D309}"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E7EDCE70-816C-4F41-AA36-7F8859855B59}"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2CFE8E53-4B42-4BD4-8F1B-8BBA9A4B219C}"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1BA0958F-D8D1-4E15-A8E7-11673E48D6E3}"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614720C9-8706-4774-B5C7-A727C9357A39}"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DF1F358A-D81B-4672-AD8E-031C6ECA4985}"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17BB8EC1-2AEF-4BAF-837C-5AD97867B06C}"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17D4A402-3637-4260-9DAA-FA9D4741D699}"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34C3A3E5-D866-433B-AE16-BD67B031E496}"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F2868DFE-AFEC-4566-BBD8-8C1A7C1C602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40E4F3F6-E540-487C-93D7-FE9B08801E05}"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867DCD7E-5C50-46BE-9270-44A3F776619D}"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CA10B5C2-60B7-4CA6-9387-29513499FB24}"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DA3B4F55-012B-4162-9881-DD2F54D34C59}"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C9D1AF6C-EE4E-41E8-916F-848B7A0DC64F}"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DBBB136A-E721-410D-8200-988AE17EC54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85FFBB4E-D688-456B-A928-57611A9ED99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C8FE0768-6555-4D64-8D77-984758932EE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DB81FC73-AFE9-4E8E-AE1D-4E2AA5934D2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8997F27C-1A01-4B47-93D8-D2395075373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5EE3EE71-361B-4C71-B827-620FF1A4C75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54D945DD-FE27-4C60-976A-3E78FE1366C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2B8F62E8-9EFC-45A2-B9FF-B15E005AD1B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9C075A54-65DD-4202-B0BF-56E264D3D0B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AB5F2237-B578-4080-A6DD-BD9A12F8913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999A9EA1-7826-4918-A4B7-2E811287CED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3F64A39F-3AF7-4B0A-9770-C2140C258721}"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50A1E004-A9B0-47CA-B50F-83301B8EB6F2}"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D6600F10-B9C5-4704-B82F-8177AB797DFD}"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127A078C-ED47-43BD-8286-610B4DA4D9DC}"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94A2B9B5-5F3E-4D93-B708-30E4E265197E}"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4DE9AD64-0910-4EC0-B78E-AA711BC797B0}"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CAB9A4B3-2675-4D02-A140-9EF443D5C348}"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F8F3ABBD-FA56-4615-ABA3-4900935E92FC}"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4F810ABF-E06C-493E-B542-4B9B1B89BAD0}"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1617ED02-5BAC-4A9B-93E2-844582090A2E}"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CBCAF790-9BAA-4511-8F6B-7AA18878524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004356-BB54-4364-AD0E-68FB705C02FD}"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E4A485-C5EE-4DEA-A682-BBF6E06A2102}"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08E73F-75E7-4C92-AD52-144767C7579D}"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E23B26-51BD-4606-BFC3-2E6B1D91CC1B}"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21058C-2607-4AD0-91F8-6F1CE20F4DDF}"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6DD459-191E-43DE-A3BB-2D1A7483F6D9}"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AFAC18-C79B-4308-89F9-1C6E79D43DAD}"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1B21B7-7A5D-4F0F-B07F-6C8E02871890}"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59904A-514F-4DE4-B8EA-F73156AD076E}"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B4EFF4-64B5-4D5F-8C95-35310F68194D}"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