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CBBE9E7-DD44-4BA9-B2CD-09917BED29B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C39B4B5A-4627-4A86-80F3-2C4EC00DDC4D}"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6A34CE90-730E-4AA8-952B-F47752181C18}"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9F4CE65A-ABE6-47F8-A7DB-8999C2ABE6BA}"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E178BE4B-E89C-47D4-9405-A5E8E7B66792}"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1D689E9C-4595-41C8-AD64-5C815A0306B2}"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2A2BDF81-FBC5-4492-9009-F6210FA6ADFB}"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B8BB9B60-759A-4212-9B43-EA9707B336D0}"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4C86F118-414E-469E-AF71-1A4CE99299C5}"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E256A86D-57A7-411F-94B5-05F9E250C4B6}"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2BF6515D-AC10-47E0-83A7-72BB8E1135F5}"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EBF6256-331C-4BDD-8246-CEA7F6540BC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6FECD575-6B0C-44A7-B3E9-41A8A5DF42AA}"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DC63D0B3-CE1A-44C3-8AC5-0003B47C6896}"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6C0AE43F-7932-4E86-A163-8E8010698678}"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82F75011-F4D0-40CC-86CE-64A781949DCC}"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2B33BFA9-8962-4338-9425-6A8BB800E4DE}"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F266BCA2-3D48-4FB8-AA60-BEA128A3F705}"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5F919C87-18B0-4CFC-A360-19C679BC0239}"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0D01A744-93C2-4FFC-9980-855086EFDAA5}"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1AF35756-A2DC-43C2-A02B-8A78CB85C5AB}"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D2033DED-7072-4BE8-B761-F083AAB2B67C}"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5ED929EB-EC2E-4695-9993-90D3BB98E7E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4978C462-DB4D-4DA5-9351-36476FA6F48B}"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FE6AB912-3701-423B-9A02-5FA5D54E676E}"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17E20C27-5A8A-41E4-A93F-B167F0F399BC}"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65BF517B-E2ED-4F11-B721-4962D888741C}"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62A790D5-F01E-401D-9440-70424B4DE323}"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28BCDBFD-FDFF-4196-AE36-A7B1B20D9AAB}"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5616E246-E452-42F2-AA73-3C87960D788E}"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655A353E-B878-48E3-A3B0-9A3A349AF2FC}"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1BBA8203-694D-4606-AA82-C379DBC081F4}"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F620C508-83AB-47CF-9DDC-0CA1354F626B}"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E0C26391-DE6A-4A47-81A1-2D530B7F6AD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EB2DBA2-B981-40A9-9ED4-AF9D5B465511}"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A07EE312-6605-48A4-9F1B-A8DFBE7F243E}"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20BEFE7C-394E-4272-BEF8-9BC738DC5A8D}"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AE3A4F13-19F4-4492-92BA-1775A3FAAF29}"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05EE638C-9A39-438F-86E5-A96C836491C1}"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68B026F2-0ACA-4BBB-B0E8-1A013E2F716D}"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3135F5EE-7133-4FF8-B793-FC99F5D56675}"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BACA41AB-5396-47F0-A3DF-A99784BA9767}"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E44153D8-232C-43BF-AEAC-01FF8DE54CAB}"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8263837D-5E59-48F1-808E-19AD6D20E016}"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DC6B332B-2D8F-432A-BD34-E2BE9EB35E7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2FAF31CC-4176-4FD7-8A51-7F2EDD735A3B}"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F60E0929-D1EA-4098-A670-DD4EAA91DD59}"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75BE2073-9AC5-4EE2-9FBA-98D3E8762F54}"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782756B0-A208-4D05-8ACC-9A7F318D31B5}"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463EAB27-1B06-495E-A3AC-258559866216}"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BB16F260-1A16-4E74-A342-EC0DA542ECB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31683B9E-30B7-494C-96A4-5761EC36765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31E09974-18D9-4E93-BC17-4094CE64408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34A3C134-B0C9-401D-AAF8-52B0D0A11B3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B6F4BB2D-51FD-4464-BAA0-863C3E56972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649BBDEC-4087-49DD-B99D-B493CEC7B59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E1AA2EE9-D4FA-4F75-BE56-83586EA8F0F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BEEF2FB2-4993-43BA-A8AF-64393EE4BF5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207E1D8E-634E-4118-8CC0-8F1DDA1F928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E96ECC47-6482-4EDB-9622-DF565C8375E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46C4E18F-6ED3-4E3B-A284-E2F382A3FB7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97050432-0EA9-41D3-8A57-42689E88789F}"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E3E774C6-24A8-4DE1-862E-60938A4C1054}"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C1144FDF-228D-4D47-A2B4-4A0A075D64D9}"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2F91DC7E-041C-4E9F-82C2-1BFE4501CCBF}"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48E0F01D-E138-449A-A2DB-03E3FF4D0A94}"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F23CBFD6-8A5C-4FCC-9316-C6A355CEB203}"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03DB375B-69AF-409F-AA85-E20AE9EACD5B}"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1BB36C7D-741F-4207-9A99-FA6AD9B6037B}"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12EB67A3-8C57-4F15-97A3-04571BB4D92E}"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6915595B-0E58-4DC1-952E-0759A2CE7AF8}"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7FD529C9-9329-41DC-BE18-0B078B3B70B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386DA9-C2A4-481C-BCCB-1AEC3DBAAE64}"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FE2AAE-6A2B-48CE-820A-43EA6628FED2}"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B90C67-C45D-4E48-BDBF-AFF6BB7ECC28}"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09A611-24BE-466C-847B-C64BBAE089EB}"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50C2F0-1333-4472-BE4C-7087BC47C07A}"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D2E6F3-824A-4AF7-B2FB-650CD23EB820}"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72C549-74C4-4929-8A47-6F6DF4F0F80B}"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6581CE-7335-4539-91A1-AD3D83336930}"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82A70B-F750-4F12-A778-99C4EBAE9C7E}"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A60412-4E8F-4F1E-B8C8-3B5B44FE3359}"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