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88FCDDF-A11A-4CD3-AB68-42DBA703B81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C868DB3C-65B0-4E54-8D7B-456CC2F85BF1}"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4E121614-2128-49DF-B1F9-BB5DE604DBC5}"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E95DB6FB-664E-4CD0-8455-71C09FBEC96B}"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D9A42063-F79D-4418-A9E8-3A60950671CC}"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A9C116C9-EA49-4B74-AC82-4D3141A03E9C}"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EA768A49-F5F4-4BB2-BFAF-7AB04A43A4E2}"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D16705D4-5C7C-4439-AEA9-48B13ECB53DA}"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9A18D924-B655-40DF-BF2B-4B0E236BFB04}"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C5610ED5-4EB1-4061-86C6-B1983DEC99BE}"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B1EED062-B8B7-4DA9-B225-8CFC0A17F407}"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E517B3A-73D2-43FD-8DF9-E6E4E8B2FF7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4E658E15-1FBF-425D-8A28-BF4519EE1F90}"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7F799C39-49B2-46F6-BDC7-D0181B302F5E}"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7868B1D7-82C4-480D-BF74-2F065DEFCC7A}"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71993344-241E-4103-A2E2-7BB5F20713C7}"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59A3B3D2-AFAF-4653-9C44-E1BC95D134A0}"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E386128D-008F-40F5-A124-B7555A4FD196}"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FC2AC94A-7D20-460C-9316-D69A348D3418}"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8E131EE1-EE21-4DE1-B3D9-2F2EF5E1C700}"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52396832-2AFD-41C3-ABA0-9EDCD8DD8D8E}"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C0430EF6-F768-462A-9006-F49D4B9C49BC}"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36B2A08A-6B56-4FC0-BBA0-B028D3B4D7C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A711DCD3-F8CA-46C6-A642-B42F5FFE5ED3}"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FE99F2A9-95F5-4E1A-A304-2E5B36E66A70}"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536FDFB8-D42C-47E5-A9FA-390C8A84B47D}"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1692AC60-2082-4015-B220-76EBF9318B76}"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B29A75DB-6C36-4F07-AC60-AB79EEFDEBCC}"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FF11614B-33F6-4C7A-88D6-D5A9C49506D2}"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876E6C13-DC65-4278-B89F-FA9F21AC63E9}"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0A52DACC-595B-4766-93AD-6A1B84F02C0F}"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3AD80A45-8618-4EF5-9DEC-409633624F76}"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585FC008-17FF-4161-B312-A74AE45DF25B}"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3FEDA4D1-77C8-46FA-AAE8-EB1A3BFBB60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0453A03-0F32-4A6E-8DFD-C59C072567BD}"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A0AE9437-EB4D-4E33-AD66-BE6570A5591C}"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A2653687-BA99-4A98-830D-FB6D280A2A36}"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3C7E04A8-7CDF-4CF6-896D-151E6E34DFCB}"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9D881183-FD66-44AF-A80A-947B85DA7372}"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EB851052-6C37-41D8-BA33-4245E451831E}"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0B42E24C-5163-4CA6-BA8E-F25B7F8F8F94}"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B8111DE0-CE70-4106-BE0C-E4A41DBF1F89}"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CD008773-8D0B-4B70-9336-E6232A1CE7F4}"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AEB31C20-0A44-4DF7-8CEC-71E7D45B656D}"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77A262E8-3893-4037-8831-547DB4E8162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281C80CD-D167-4E53-899A-3643BFC28345}"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EC48A0D2-91B4-48FA-A6A1-1279AED3BCF3}"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35C69E9D-C2DC-4005-ADB8-2FCED391C2FB}"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D6E9AA2F-D99F-422F-8C2B-EC915573DB1B}"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A9F687AD-EB0A-4ED7-9852-5A08B24585CA}"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F067B0AB-4AAA-47CA-B4B5-ADBB041E555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E7EBEDCD-F511-49EA-9C2D-75F3945BC52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B23053BF-FA65-4E48-8EE4-1FFBF4104EE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DAD3FA23-95C5-4CCC-A576-13A11C1111A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63559148-9D9A-466A-9360-E494FDAE89D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D8716466-ABED-4786-A48B-624ADAA7060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4CD160B9-9543-4004-8B94-60368D17936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F520A807-9B48-4166-A42F-E4982FCEC47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F65854AA-19E5-45E3-94E8-5DE283D0448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24C09E67-9821-4B65-8C41-ADD901286B1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E12D191B-A8DF-474E-9EBF-8CD3FFF91CB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5114E3B6-F6D7-435C-B393-FA4B188756E2}"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5D760814-9595-4671-811F-C9E1CF7D19E2}"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7466395F-F460-42F7-BFBB-3FAD4B1AD279}"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6B65F563-5293-4807-9C6D-A627B466D500}"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0B39A54E-1406-4125-93ED-505222512246}"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367353B7-771D-403B-8C1A-5AD3D852B3A2}"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B7DCD305-B7EF-4F14-9314-7E913F097026}"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A4A39268-2AD8-466F-BD09-0A8ED312AD11}"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40D16236-E2A9-4894-AF7E-E49445A555D5}"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D7BABF2D-0061-4D88-9F77-BFBA2D8F3449}"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069E6255-2810-4DE0-999F-E6BDA51E6B7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61535E-5D5C-447A-934D-577D4F8FD075}"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055949-CF03-405E-ADEC-083A14D5D593}"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D2A2BB-D920-4AD4-B6B1-9AD9E57BF01C}"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6EEFE1-619D-472E-9120-DA39B0410299}"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4549D1-C105-44B2-AAF4-9F84CA6C2A68}"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930D8E-7F6F-4AA6-8CF5-EB3D3811ECA2}"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D56ADC-E830-4AA3-9703-BB1FCE7D23B3}"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7B2552-4551-4D01-9755-F1E04EC53C13}"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7C9AF2-FFF7-4D0D-8FED-EC76DDE1A4EB}"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B5C861-D5A6-4DBF-A4DB-DCC3442443DF}"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